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i" descr=""/>
          <p:cNvPicPr/>
          <p:nvPr/>
        </p:nvPicPr>
        <p:blipFill>
          <a:blip r:embed="rId3"/>
          <a:stretch/>
        </p:blipFill>
        <p:spPr>
          <a:xfrm>
            <a:off x="228600" y="5943600"/>
            <a:ext cx="914400" cy="4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c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5734080"/>
            <a:ext cx="828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d528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마케팅의 핵심요소인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P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로 본 미샤 히스토리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44760" y="2060640"/>
            <a:ext cx="40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997440"/>
                <a:tab algn="l" pos="799452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.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미샤의 배경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2060640"/>
            <a:ext cx="85680" cy="457200"/>
          </a:xfrm>
          <a:prstGeom prst="rect">
            <a:avLst/>
          </a:prstGeom>
          <a:solidFill>
            <a:srgbClr val="72a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2444760" y="2516040"/>
            <a:ext cx="4010040" cy="1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2444760" y="2060640"/>
            <a:ext cx="4010040" cy="1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444760" y="2822400"/>
            <a:ext cx="40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903840"/>
                <a:tab algn="l" pos="780732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I.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미샤의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P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822400"/>
            <a:ext cx="85680" cy="457200"/>
          </a:xfrm>
          <a:prstGeom prst="rect">
            <a:avLst/>
          </a:prstGeom>
          <a:solidFill>
            <a:srgbClr val="72a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444760" y="3278160"/>
            <a:ext cx="4010040" cy="1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2444760" y="2822400"/>
            <a:ext cx="4010040" cy="1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2444760" y="3584520"/>
            <a:ext cx="40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903840"/>
                <a:tab algn="l" pos="7807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II.  </a:t>
            </a: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결론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3584520"/>
            <a:ext cx="85680" cy="457200"/>
          </a:xfrm>
          <a:prstGeom prst="rect">
            <a:avLst/>
          </a:prstGeom>
          <a:solidFill>
            <a:srgbClr val="72a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444760" y="4040280"/>
            <a:ext cx="4010040" cy="1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444760" y="3584520"/>
            <a:ext cx="4010040" cy="1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4400" y="32544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▣ </a:t>
            </a: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미샤의 배경</a:t>
            </a:r>
            <a:r>
              <a:rPr b="0" lang="ko-KR" sz="1800" spc="-1" strike="noStrike">
                <a:solidFill>
                  <a:srgbClr val="1d528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312920" y="2297160"/>
            <a:ext cx="6840360" cy="792000"/>
          </a:xfrm>
          <a:prstGeom prst="rect">
            <a:avLst/>
          </a:prstGeom>
          <a:solidFill>
            <a:srgbClr val="66cc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189080" y="2225520"/>
            <a:ext cx="7129440" cy="863640"/>
          </a:xfrm>
          <a:prstGeom prst="rect">
            <a:avLst/>
          </a:prstGeom>
          <a:noFill/>
          <a:ln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349360"/>
            <a:ext cx="67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미샤는 인천공장에 있고</a:t>
            </a: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여성사이트인 뷰티넷</a:t>
            </a: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직영점과 가맹점으로 구성 </a:t>
            </a:r>
            <a:endParaRPr b="0" lang="en-US" sz="14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생산은 자체 공장에서 모두 하지는 않고 외부 </a:t>
            </a: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OEM</a:t>
            </a:r>
            <a:r>
              <a:rPr b="1" lang="ko-KR" sz="1400" spc="-1" strike="noStrike">
                <a:solidFill>
                  <a:srgbClr val="1d528d"/>
                </a:solidFill>
                <a:latin typeface="굴림"/>
              </a:rPr>
              <a:t>으로도 생산</a:t>
            </a:r>
            <a:r>
              <a:rPr b="0" lang="ko-KR" sz="1800" spc="-1" strike="noStrike">
                <a:solidFill>
                  <a:srgbClr val="1d528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4097160"/>
            <a:ext cx="6840360" cy="935280"/>
          </a:xfrm>
          <a:prstGeom prst="rect">
            <a:avLst/>
          </a:prstGeom>
          <a:solidFill>
            <a:srgbClr val="ffff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4024440"/>
            <a:ext cx="7129800" cy="1081080"/>
          </a:xfrm>
          <a:prstGeom prst="rect">
            <a:avLst/>
          </a:prstGeom>
          <a:noFill/>
          <a:ln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4097160"/>
            <a:ext cx="6769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  “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우리가 하는 비즈니스는 특별한 기술이 있어 아무나 따라올 수 없는 특별한 것이 아니고 언제든지 누구든지 할 수 있다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. 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그러나 단지 우리가 먼저 하는 것뿐이다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.”</a:t>
            </a:r>
            <a:r>
              <a:rPr b="0" lang="ko-KR" sz="1300" spc="-1" strike="noStrike">
                <a:solidFill>
                  <a:srgbClr val="1d528d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미샤에 대해 좀 더 구체적으로 설명하기 위해 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4P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관점에서 여러 가지 이야기를 할 수 있는데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이 네 가지 요소는 각각 분리되어 있는 것이 아니라 연결되어 있다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.</a:t>
            </a:r>
            <a:r>
              <a:rPr b="0" lang="ko-KR" sz="1300" spc="-1" strike="noStrike">
                <a:solidFill>
                  <a:srgbClr val="1d528d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1d528d"/>
                </a:solidFill>
                <a:latin typeface="굴림"/>
              </a:rPr>
              <a:t> </a:t>
            </a:r>
            <a:r>
              <a:rPr b="0" lang="ko-KR" sz="1300" spc="-1" strike="noStrike">
                <a:solidFill>
                  <a:srgbClr val="1d528d"/>
                </a:solidFill>
                <a:latin typeface="굴림"/>
              </a:rPr>
              <a:t>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1720800"/>
            <a:ext cx="2016360" cy="432000"/>
          </a:xfrm>
          <a:prstGeom prst="roundRect">
            <a:avLst>
              <a:gd name="adj" fmla="val 16667"/>
            </a:avLst>
          </a:prstGeom>
          <a:solidFill>
            <a:srgbClr val="1d528d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HY나무B"/>
                <a:ea typeface="HY나무B"/>
              </a:rPr>
              <a:t>미  샤</a:t>
            </a:r>
            <a:endParaRPr b="0" lang="en-US" sz="16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3521160"/>
            <a:ext cx="2016360" cy="431640"/>
          </a:xfrm>
          <a:prstGeom prst="roundRect">
            <a:avLst>
              <a:gd name="adj" fmla="val 16667"/>
            </a:avLst>
          </a:prstGeom>
          <a:solidFill>
            <a:srgbClr val="1d528d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나무B"/>
                <a:ea typeface="HY나무B"/>
              </a:rPr>
              <a:t>미샤의 비즈니스</a:t>
            </a:r>
            <a:endParaRPr b="0" lang="en-US" sz="16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00720" y="3768840"/>
            <a:ext cx="3958920" cy="18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a7f0">
                  <a:alpha val="50196"/>
                </a:srgbClr>
              </a:gs>
            </a:gsLst>
            <a:lin ang="13500000"/>
          </a:gradFill>
          <a:ln w="349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3300"/>
                </a:solidFill>
                <a:latin typeface="Times New Roman"/>
              </a:rPr>
              <a:t>■     </a:t>
            </a: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명품 소비는 소수의 일이고 대부분의 사람은 합리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적인 소비를 원하고 있었다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1" lang="en-US" sz="13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화장품에 대해 갖고 있던 고정관념 무너짐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제조업자와 네티즌과의 관계 속에서 소비자가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00"/>
                </a:solidFill>
                <a:latin typeface="굴림"/>
              </a:rPr>
              <a:t>  </a:t>
            </a: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원하는 상품이 만들어진 것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6520" y="314280"/>
            <a:ext cx="14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▣ </a:t>
            </a: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미샤의 </a:t>
            </a: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4P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676520"/>
            <a:ext cx="3959280" cy="20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a7f0">
                  <a:alpha val="50196"/>
                </a:srgbClr>
              </a:gs>
            </a:gsLst>
            <a:lin ang="13500000"/>
          </a:gradFill>
          <a:ln w="349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1d528d"/>
                </a:solidFill>
                <a:latin typeface="굴림"/>
              </a:rPr>
              <a:t>■ 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미샤라는 상품의 모티브를 비즈니스로 전환하기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까지 시간이 많이 걸렸다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화장품은 싸면서 좋은 제품이기를  원한다는 것이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뷰티넷을 방문하던 네티즌들의 공통적인 생각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3706920" y="2903400"/>
            <a:ext cx="1350720" cy="12970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782880" y="2976480"/>
            <a:ext cx="1197000" cy="11476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3854520" y="3044880"/>
            <a:ext cx="1055520" cy="1014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854520" y="3044880"/>
            <a:ext cx="1055520" cy="1014480"/>
          </a:xfrm>
          <a:prstGeom prst="ellipse">
            <a:avLst/>
          </a:prstGeom>
          <a:gradFill rotWithShape="0">
            <a:gsLst>
              <a:gs pos="0">
                <a:srgbClr val="21b3e1"/>
              </a:gs>
              <a:gs pos="100000">
                <a:srgbClr val="0f52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3922560" y="3111480"/>
            <a:ext cx="917640" cy="8809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22560" y="3111480"/>
            <a:ext cx="917640" cy="88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1b3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3192480"/>
            <a:ext cx="115236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굴림"/>
              </a:rPr>
              <a:t>제품</a:t>
            </a:r>
            <a:endParaRPr b="0" lang="en-US" sz="1600" spc="-1" strike="noStrike">
              <a:solidFill>
                <a:srgbClr val="1d528d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1d528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00720" y="3759120"/>
            <a:ext cx="3958920" cy="238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a7f0">
                  <a:alpha val="50196"/>
                </a:srgbClr>
              </a:gs>
            </a:gsLst>
            <a:lin ang="13500000"/>
          </a:gradFill>
          <a:ln w="349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1" lang="ko-KR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배송료 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3000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원만 지불하면 원하는 화장품을 받을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수 있는 구조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회원들이 평균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4.3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개를 사면 수익이 남게 됨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0" lang="ko-KR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주문상품을 각각 포장하기 보다 한번에 포장함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으로서 배송료를 낮추고 수익이 증가함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네티즌들은 질이 좋다면 싸면 쌀수록 좋다고 생각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가격을 설정하는 이벤트를 하여 소비자들에게 가격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을 결정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,  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회사가 생각한 것보다 항상 높게 결정 됨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506520" y="314280"/>
            <a:ext cx="14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▣ </a:t>
            </a: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미샤의 </a:t>
            </a: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4P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305000"/>
            <a:ext cx="3959280" cy="23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a7f0">
                  <a:alpha val="50196"/>
                </a:srgbClr>
              </a:gs>
            </a:gsLst>
            <a:lin ang="13500000"/>
          </a:gradFill>
          <a:ln w="349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1d528d"/>
                </a:solidFill>
                <a:latin typeface="굴림"/>
              </a:rPr>
              <a:t>■ 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화장품 가격을 설정하는 것을 보면 황당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,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원가를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고려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,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시장조사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,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과학적인 논리없이 사장기분에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따라 가격 결정</a:t>
            </a:r>
            <a:r>
              <a:rPr b="0" lang="ko-KR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인터넷을 통한 네티즌과의 관계속에서 가격을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정함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인터넷을 통해서 회원을 모으고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,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화장품을 판매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하기 시작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" spc="-1" strike="noStrike">
                <a:solidFill>
                  <a:srgbClr val="003300"/>
                </a:solidFill>
                <a:latin typeface="Times New Roman"/>
              </a:rPr>
              <a:t>■</a:t>
            </a:r>
            <a:r>
              <a:rPr b="1" lang="ko-KR" sz="13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물건을 받기 위해 배송료는 회원들이 부담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하기로 합의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706920" y="2894040"/>
            <a:ext cx="1350720" cy="12970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782880" y="2967120"/>
            <a:ext cx="1197000" cy="11476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854520" y="3035160"/>
            <a:ext cx="1055520" cy="1014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3854520" y="3035160"/>
            <a:ext cx="1055520" cy="1014480"/>
          </a:xfrm>
          <a:prstGeom prst="ellipse">
            <a:avLst/>
          </a:prstGeom>
          <a:gradFill rotWithShape="0">
            <a:gsLst>
              <a:gs pos="0">
                <a:srgbClr val="21b3e1"/>
              </a:gs>
              <a:gs pos="100000">
                <a:srgbClr val="0f52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22560" y="3102120"/>
            <a:ext cx="917640" cy="8809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3922560" y="3102120"/>
            <a:ext cx="917640" cy="88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1b3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3182760"/>
            <a:ext cx="115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Times New Roman"/>
              </a:rPr>
              <a:t>가격</a:t>
            </a:r>
            <a:endParaRPr b="0" lang="en-US" sz="1600" spc="-1" strike="noStrike">
              <a:solidFill>
                <a:srgbClr val="1d528d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00720" y="3768840"/>
            <a:ext cx="4186080" cy="194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a7f0">
                  <a:alpha val="50196"/>
                </a:srgbClr>
              </a:gs>
            </a:gsLst>
            <a:lin ang="13500000"/>
          </a:gradFill>
          <a:ln w="349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Offline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매장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2001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년부터 오프라인 병행을 생각 함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.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소매상을 거치지 못하고 직접 유통을 할 수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밖에 없었음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.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오프라인과 온라인이 시너지 효과를 줄 것이라 판단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.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   </a:t>
            </a: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(</a:t>
            </a: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입에서 입으로 전달 되면서 큰 효과를 거두었음</a:t>
            </a: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.)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06520" y="314280"/>
            <a:ext cx="14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▣ </a:t>
            </a: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미샤의 </a:t>
            </a: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4P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600200"/>
            <a:ext cx="3959280" cy="209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a7f0">
                  <a:alpha val="50196"/>
                </a:srgbClr>
              </a:gs>
            </a:gsLst>
            <a:lin ang="13500000"/>
          </a:gradFill>
          <a:ln w="349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Online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의 문제점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일상 생활제품의 판매는 노출의 문제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인터넷은 노출이 크지 않고 매출이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잘 일어나지 않음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대부분의 여성들에게 인터넷은 삶의 작은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일부분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3706920" y="2903400"/>
            <a:ext cx="1350720" cy="12970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3782880" y="2976480"/>
            <a:ext cx="1197000" cy="11476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854520" y="3044880"/>
            <a:ext cx="1055520" cy="1014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854520" y="3044880"/>
            <a:ext cx="1055520" cy="1014480"/>
          </a:xfrm>
          <a:prstGeom prst="ellipse">
            <a:avLst/>
          </a:prstGeom>
          <a:gradFill rotWithShape="0">
            <a:gsLst>
              <a:gs pos="0">
                <a:srgbClr val="21b3e1"/>
              </a:gs>
              <a:gs pos="100000">
                <a:srgbClr val="0f52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922560" y="3111480"/>
            <a:ext cx="917640" cy="8809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922560" y="3111480"/>
            <a:ext cx="917640" cy="88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1b3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3192480"/>
            <a:ext cx="115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Times New Roman"/>
              </a:rPr>
              <a:t>유통</a:t>
            </a:r>
            <a:endParaRPr b="0" lang="en-US" sz="1600" spc="-1" strike="noStrike">
              <a:solidFill>
                <a:srgbClr val="1d528d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00720" y="3768840"/>
            <a:ext cx="3958920" cy="171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a7f0">
                  <a:alpha val="50196"/>
                </a:srgbClr>
              </a:gs>
            </a:gsLst>
            <a:lin ang="13500000"/>
          </a:gradFill>
          <a:ln w="349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프로모션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프로모션과 온라인 완전 통합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제품기획</a:t>
            </a:r>
            <a:r>
              <a:rPr b="1" lang="en-US" sz="1300" spc="-1" strike="noStrike">
                <a:solidFill>
                  <a:srgbClr val="003300"/>
                </a:solidFill>
                <a:latin typeface="굴림"/>
              </a:rPr>
              <a:t>, </a:t>
            </a: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생산</a:t>
            </a:r>
            <a:r>
              <a:rPr b="1" lang="en-US" sz="1300" spc="-1" strike="noStrike">
                <a:solidFill>
                  <a:srgbClr val="003300"/>
                </a:solidFill>
                <a:latin typeface="굴림"/>
              </a:rPr>
              <a:t>, </a:t>
            </a:r>
            <a:r>
              <a:rPr b="1" lang="zh-CN" sz="1300" spc="-1" strike="noStrike">
                <a:solidFill>
                  <a:srgbClr val="003300"/>
                </a:solidFill>
                <a:latin typeface="굴림"/>
              </a:rPr>
              <a:t>가격결정 온라인에서 함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00"/>
                </a:solidFill>
                <a:latin typeface="굴림"/>
              </a:rPr>
              <a:t>   </a:t>
            </a:r>
            <a:r>
              <a:rPr b="0" lang="en-US" sz="1300" spc="-1" strike="noStrike">
                <a:solidFill>
                  <a:srgbClr val="003300"/>
                </a:solidFill>
                <a:latin typeface="굴림"/>
              </a:rPr>
              <a:t>(</a:t>
            </a:r>
            <a:r>
              <a:rPr b="0" lang="zh-CN" sz="1300" spc="-1" strike="noStrike">
                <a:solidFill>
                  <a:srgbClr val="003300"/>
                </a:solidFill>
                <a:latin typeface="굴림"/>
              </a:rPr>
              <a:t>현재는 오프라인에서도 소비자들이 직접 참가</a:t>
            </a:r>
            <a:r>
              <a:rPr b="0" lang="en-US" sz="1300" spc="-1" strike="noStrike">
                <a:solidFill>
                  <a:srgbClr val="003300"/>
                </a:solidFill>
                <a:latin typeface="굴림"/>
              </a:rPr>
              <a:t>)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506520" y="314280"/>
            <a:ext cx="14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▣ </a:t>
            </a: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미샤의 </a:t>
            </a:r>
            <a:r>
              <a:rPr b="0" lang="ko-KR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4P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05120"/>
            <a:ext cx="3959280" cy="179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a7f0">
                  <a:alpha val="50196"/>
                </a:srgbClr>
              </a:gs>
            </a:gsLst>
            <a:lin ang="13500000"/>
          </a:gradFill>
          <a:ln w="349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Online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시장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미샤의 온라인 회원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100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만 명 돌파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오프라인에 비해 구매력 떨어짐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  </a:t>
            </a: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(</a:t>
            </a: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전체 매출의 </a:t>
            </a: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10%</a:t>
            </a: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가량 차지</a:t>
            </a:r>
            <a:r>
              <a:rPr b="0" lang="ko-KR" sz="1300" spc="-1" strike="noStrike">
                <a:solidFill>
                  <a:srgbClr val="003300"/>
                </a:solidFill>
                <a:latin typeface="굴림"/>
              </a:rPr>
              <a:t>)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  <a:p>
            <a:pPr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1300" spc="-1" strike="noStrike">
                <a:solidFill>
                  <a:srgbClr val="003300"/>
                </a:solidFill>
                <a:latin typeface="굴림"/>
              </a:rPr>
              <a:t>온라인에서 소비자들의 말이 나온다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3706920" y="2903400"/>
            <a:ext cx="1350720" cy="12970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3782880" y="2976480"/>
            <a:ext cx="1197000" cy="11476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3854520" y="3044880"/>
            <a:ext cx="1055520" cy="1014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3854520" y="3044880"/>
            <a:ext cx="1055520" cy="1014480"/>
          </a:xfrm>
          <a:prstGeom prst="ellipse">
            <a:avLst/>
          </a:prstGeom>
          <a:gradFill rotWithShape="0">
            <a:gsLst>
              <a:gs pos="0">
                <a:srgbClr val="21b3e1"/>
              </a:gs>
              <a:gs pos="100000">
                <a:srgbClr val="0f52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922560" y="3111480"/>
            <a:ext cx="917640" cy="8809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3922560" y="3111480"/>
            <a:ext cx="917640" cy="88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1b3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3192480"/>
            <a:ext cx="115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Times New Roman"/>
              </a:rPr>
              <a:t>프로모션</a:t>
            </a:r>
            <a:endParaRPr b="0" lang="en-US" sz="1600" spc="-1" strike="noStrike">
              <a:solidFill>
                <a:srgbClr val="1d528d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</a:rPr>
              <a:t>Promotion</a:t>
            </a:r>
            <a:endParaRPr b="0" lang="en-US" sz="16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93200" y="314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▣ </a:t>
            </a:r>
            <a:r>
              <a:rPr b="0" lang="zh-CN" sz="20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결 론</a:t>
            </a:r>
            <a:endParaRPr b="0" lang="en-US" sz="20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295280"/>
            <a:ext cx="6858000" cy="1219320"/>
          </a:xfrm>
          <a:prstGeom prst="roundRect">
            <a:avLst>
              <a:gd name="adj" fmla="val 9282"/>
            </a:avLst>
          </a:prstGeom>
          <a:gradFill rotWithShape="0">
            <a:gsLst>
              <a:gs pos="0">
                <a:srgbClr val="ffffff"/>
              </a:gs>
              <a:gs pos="100000">
                <a:srgbClr val="ccecff">
                  <a:alpha val="40000"/>
                </a:srgbClr>
              </a:gs>
            </a:gsLst>
            <a:lin ang="13500000"/>
          </a:gradFill>
          <a:ln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200400"/>
            <a:ext cx="4876920" cy="2514600"/>
          </a:xfrm>
          <a:prstGeom prst="roundRect">
            <a:avLst>
              <a:gd name="adj" fmla="val 9282"/>
            </a:avLst>
          </a:prstGeom>
          <a:noFill/>
          <a:ln w="28440">
            <a:solidFill>
              <a:srgbClr val="72a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2514600"/>
            <a:ext cx="0" cy="53352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362240"/>
            <a:ext cx="792000" cy="863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863280"/>
              <a:gd name="textAreaBottom" fmla="*/ 824760 h 863280"/>
            </a:gdLst>
            <a:ahLst/>
            <a:rect l="textAreaLeft" t="textAreaTop" r="textAreaRight" b="textAreaBottom"/>
            <a:pathLst>
              <a:path w="21600" h="23543">
                <a:moveTo>
                  <a:pt x="3600" y="0"/>
                </a:moveTo>
                <a:arcTo wR="3600" hR="3600" stAng="16200000" swAng="-5400000"/>
                <a:lnTo>
                  <a:pt x="0" y="19943"/>
                </a:lnTo>
                <a:arcTo wR="3600" hR="3600" stAng="10800000" swAng="-5400000"/>
                <a:lnTo>
                  <a:pt x="18000" y="2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918440" y="1598760"/>
            <a:ext cx="379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미샤는 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4P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의 모든 것을 무너뜨렸다고 볼 수 있다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사업을 시작 할 때 새로운 것을 제시하지 못하면 안된다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5083920" y="1712880"/>
            <a:ext cx="22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9900"/>
                </a:solidFill>
                <a:latin typeface="굴림"/>
              </a:rPr>
              <a:t> </a:t>
            </a:r>
            <a:endParaRPr b="0" lang="en-US" sz="13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470400"/>
            <a:ext cx="4572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☞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미샤가 언론에 노출된 것이 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2003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년 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7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월 이었는데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그것이 주효했다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9900"/>
                </a:solidFill>
                <a:latin typeface="굴림"/>
              </a:rPr>
              <a:t>일반 상품처럼 광고</a:t>
            </a:r>
            <a:r>
              <a:rPr b="1" lang="ko-KR" sz="1800" spc="-1" strike="noStrike">
                <a:solidFill>
                  <a:srgbClr val="ff9900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9900"/>
                </a:solidFill>
                <a:latin typeface="굴림"/>
              </a:rPr>
              <a:t>프로모션을 한다면 언론에서 크게 관심을 주지 않는다</a:t>
            </a:r>
            <a:r>
              <a:rPr b="1" lang="ko-KR" sz="1800" spc="-1" strike="noStrike">
                <a:solidFill>
                  <a:srgbClr val="ff99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기존 질서를 파괴해야 언론의 주목을 받는다</a:t>
            </a:r>
            <a:r>
              <a:rPr b="1" lang="ko-KR" sz="1800" spc="-1" strike="noStrike">
                <a:solidFill>
                  <a:srgbClr val="1d528d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7:01:16Z</dcterms:created>
  <dc:creator>sun</dc:creator>
  <dc:description/>
  <dc:language>en-US</dc:language>
  <cp:lastModifiedBy>장영준</cp:lastModifiedBy>
  <dcterms:modified xsi:type="dcterms:W3CDTF">2009-05-08T05:19:10Z</dcterms:modified>
  <cp:revision>29</cp:revision>
  <dc:subject/>
  <dc:title>슬라이드 1</dc:title>
</cp:coreProperties>
</file>