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9.wmf" ContentType="image/x-wmf"/>
  <Override PartName="/ppt/media/image6.wmf" ContentType="image/x-wmf"/>
  <Override PartName="/ppt/media/image7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529A17-AD37-4547-8FF4-44611CC7C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F1F195-8943-4ADD-8800-2803E2FEB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CFA610-FC35-444C-99E2-938F79A52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A94FB3-8CFD-47E0-98F5-E8963E29A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340C40-3707-4612-B028-8F19B0514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71675C-FB8F-4CBE-8E4A-BAC3E3DAE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6F384A-6E49-46C8-BFEB-E2C5FECF7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F80B8B-3E1D-4232-800F-9D6A4EC9C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F5C1E6-D135-4DB1-9FFB-0A0109D09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7A28F5-9217-4D1C-9807-B2649BEE0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26BDA5-EE90-4B3A-89E1-44A47AE73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BAD5A3-A242-47A2-8F1E-47540F243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352A2D-80E9-4614-9A83-041C62D24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6ACF6F-F5A2-4044-AADE-29B9A7B66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083993-14C8-4987-8B23-AA01C456A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CABC0A-2DF4-4600-AE99-984B0499D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E2F84C-7E31-474E-92BD-FA680177A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5AC4CB-EB2C-4D6C-9052-CFADDE2AD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616B5C-98A3-4ED6-AF75-C2A39F90D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608874-4AF1-4660-ACD1-CCA733B70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D7F27C-38AC-4A35-8DFE-5D16C70AB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654A7D-AE7A-4B5D-AB47-BA5A3AC09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124940-C82A-438E-8231-D61C57F82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679CA8-D06E-490D-9857-B079D776B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7.xml"/><Relationship Id="rId10" Type="http://schemas.openxmlformats.org/officeDocument/2006/relationships/slideLayout" Target="../slideLayouts/slideLayout38.xml"/><Relationship Id="rId11" Type="http://schemas.openxmlformats.org/officeDocument/2006/relationships/slideLayout" Target="../slideLayouts/slideLayout39.xml"/><Relationship Id="rId12" Type="http://schemas.openxmlformats.org/officeDocument/2006/relationships/slideLayout" Target="../slideLayouts/slideLayout40.xml"/><Relationship Id="rId13" Type="http://schemas.openxmlformats.org/officeDocument/2006/relationships/slideLayout" Target="../slideLayouts/slideLayout41.xml"/><Relationship Id="rId14" Type="http://schemas.openxmlformats.org/officeDocument/2006/relationships/slideLayout" Target="../slideLayouts/slideLayout42.xml"/><Relationship Id="rId15" Type="http://schemas.openxmlformats.org/officeDocument/2006/relationships/slideLayout" Target="../slideLayouts/slideLayout43.xml"/><Relationship Id="rId16" Type="http://schemas.openxmlformats.org/officeDocument/2006/relationships/slideLayout" Target="../slideLayouts/slideLayout44.xml"/><Relationship Id="rId17" Type="http://schemas.openxmlformats.org/officeDocument/2006/relationships/slideLayout" Target="../slideLayouts/slideLayout45.xml"/><Relationship Id="rId18" Type="http://schemas.openxmlformats.org/officeDocument/2006/relationships/slideLayout" Target="../slideLayouts/slideLayout46.xml"/><Relationship Id="rId19" Type="http://schemas.openxmlformats.org/officeDocument/2006/relationships/slideLayout" Target="../slideLayouts/slideLayout47.xml"/><Relationship Id="rId20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1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" name="Rectangle 12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" name="Freeform 13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Freeform 14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Rectangle 15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Rectangle 16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" name="Picture 17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18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1" name="Group 19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2" name="AutoShape 20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" name="Rectangle 21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" name="Rectangle 22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" name="Group 40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6" name="AutoShape 27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" name="AutoShape 32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" name="AutoShape 34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" name="Oval 25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" name="Oval 26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" name="AutoShape 28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" name="Oval 30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" name="AutoShape 31"/>
            <p:cNvSpPr/>
            <p:nvPr/>
          </p:nvSpPr>
          <p:spPr>
            <a:xfrm rot="16200000">
              <a:off x="7776000" y="660276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4" name="Rectangle 37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53DA3-1D0A-49B3-BA8F-FB0A59B2C612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AutoShape 41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63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6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8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2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73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74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7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78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3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5" name="AutoShape 25"/>
            <p:cNvSpPr/>
            <p:nvPr/>
          </p:nvSpPr>
          <p:spPr>
            <a:xfrm rot="16200000">
              <a:off x="7776000" y="660276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6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7BB54-18D6-4988-B081-3461B99D31D1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7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11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25" name="Rectangle 12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6" name="Freeform 13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7" name="Freeform 14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28" name="Rectangle 15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9" name="Rectangle 16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30" name="Picture 17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8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132" name="Group 19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33" name="AutoShape 20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4" name="Rectangle 21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5" name="Rectangle 22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36" name="Group 40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37" name="AutoShape 27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8" name="AutoShape 32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9" name="AutoShape 34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0" name="Oval 25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1" name="Oval 26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2" name="AutoShape 28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3" name="Oval 30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4" name="AutoShape 31"/>
            <p:cNvSpPr/>
            <p:nvPr/>
          </p:nvSpPr>
          <p:spPr>
            <a:xfrm rot="16200000">
              <a:off x="7776000" y="660276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45" name="Rectangle 37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FB7A6-9E28-4C31-9AAD-A20A1C7A5E05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6" name="AutoShape 41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147" name="Object 15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8" name="Object 1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9" name="Group 16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150" name="Rectangle 17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1" name="Rectangle 18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52" name="Rectangle 19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53" name="Group 20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154" name="AutoShape 21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5" name="Freeform 22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6" name="Freeform 23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7" name="Freeform 24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8" name="Freeform 25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9" name="Group 26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160" name="Picture 27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28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Picture 29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8D7BF-66E8-417A-8A00-FCC98BA63F5F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0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0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1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1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1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1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1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4" name="AutoShape 25"/>
            <p:cNvSpPr/>
            <p:nvPr/>
          </p:nvSpPr>
          <p:spPr>
            <a:xfrm rot="16200000">
              <a:off x="7776000" y="660276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2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0EDEA-A611-4329-AEFE-604315DE6943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227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8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9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230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1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32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233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234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5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6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7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8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39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240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190EE-2914-49D7-8C3E-9CF9E5FAED31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9"/>
    <p:sldLayoutId id="2147483689" r:id="rId10"/>
    <p:sldLayoutId id="2147483690" r:id="rId11"/>
    <p:sldLayoutId id="2147483691" r:id="rId12"/>
    <p:sldLayoutId id="2147483692" r:id="rId13"/>
    <p:sldLayoutId id="2147483693" r:id="rId14"/>
    <p:sldLayoutId id="2147483694" r:id="rId15"/>
    <p:sldLayoutId id="2147483695" r:id="rId16"/>
    <p:sldLayoutId id="2147483696" r:id="rId17"/>
    <p:sldLayoutId id="2147483697" r:id="rId18"/>
    <p:sldLayoutId id="2147483698" r:id="rId19"/>
    <p:sldLayoutId id="2147483699" r:id="rId20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8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8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9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9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9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9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9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9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9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9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9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4" name="AutoShape 25"/>
            <p:cNvSpPr/>
            <p:nvPr/>
          </p:nvSpPr>
          <p:spPr>
            <a:xfrm rot="16200000">
              <a:off x="7776000" y="660276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0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30F8F-66E1-449F-8730-5DAC0A0CD915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7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9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7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348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9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0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51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2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353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355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356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7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8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59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360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1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2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3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4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5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6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7" name="AutoShape 25"/>
            <p:cNvSpPr/>
            <p:nvPr/>
          </p:nvSpPr>
          <p:spPr>
            <a:xfrm rot="16200000">
              <a:off x="7776000" y="660276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68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C0F43-DA65-4EC8-B2E3-96366416C738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69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0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371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1" name="그룹 9"/>
          <p:cNvGrpSpPr/>
          <p:nvPr/>
        </p:nvGrpSpPr>
        <p:grpSpPr>
          <a:xfrm>
            <a:off x="0" y="0"/>
            <a:ext cx="9144000" cy="6541920"/>
            <a:chOff x="0" y="0"/>
            <a:chExt cx="9144000" cy="6541920"/>
          </a:xfrm>
        </p:grpSpPr>
        <p:grpSp>
          <p:nvGrpSpPr>
            <p:cNvPr id="412" name="그룹 7"/>
            <p:cNvGrpSpPr/>
            <p:nvPr/>
          </p:nvGrpSpPr>
          <p:grpSpPr>
            <a:xfrm>
              <a:off x="52200" y="0"/>
              <a:ext cx="9091800" cy="6541920"/>
              <a:chOff x="52200" y="0"/>
              <a:chExt cx="9091800" cy="6541920"/>
            </a:xfrm>
          </p:grpSpPr>
          <p:pic>
            <p:nvPicPr>
              <p:cNvPr id="413" name="Picture 4" descr="그림1"/>
              <p:cNvPicPr/>
              <p:nvPr/>
            </p:nvPicPr>
            <p:blipFill>
              <a:blip r:embed="rId1"/>
              <a:stretch/>
            </p:blipFill>
            <p:spPr>
              <a:xfrm>
                <a:off x="52200" y="0"/>
                <a:ext cx="9091800" cy="5429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4" name="Rectangle 6"/>
              <p:cNvSpPr/>
              <p:nvPr/>
            </p:nvSpPr>
            <p:spPr>
              <a:xfrm>
                <a:off x="1348920" y="5358240"/>
                <a:ext cx="6294600" cy="118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3600" spc="-1" strike="noStrike">
                    <a:solidFill>
                      <a:srgbClr val="0c233c"/>
                    </a:solidFill>
                    <a:latin typeface="HY강M"/>
                    <a:ea typeface="HY강M"/>
                  </a:rPr>
                  <a:t>권  중  돈</a:t>
                </a:r>
                <a:endParaRPr b="0" lang="en-US" sz="3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목원대학교 사회복지학과 교수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15" name="Rectangle 2"/>
              <p:cNvSpPr/>
              <p:nvPr/>
            </p:nvSpPr>
            <p:spPr>
              <a:xfrm>
                <a:off x="2142720" y="514080"/>
                <a:ext cx="4857840" cy="91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6000" spc="-1" strike="noStrike">
                    <a:solidFill>
                      <a:srgbClr val="ffc000"/>
                    </a:solidFill>
                    <a:latin typeface="HY강M"/>
                    <a:ea typeface="HY강M"/>
                  </a:rPr>
                  <a:t>노인복지론</a:t>
                </a:r>
                <a:endParaRPr b="0" lang="en-US" sz="6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16" name="Rectangle 8"/>
            <p:cNvSpPr/>
            <p:nvPr/>
          </p:nvSpPr>
          <p:spPr>
            <a:xfrm>
              <a:off x="0" y="0"/>
              <a:ext cx="9144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pic>
        <p:nvPicPr>
          <p:cNvPr id="417" name="그림 1" descr=""/>
          <p:cNvPicPr/>
          <p:nvPr/>
        </p:nvPicPr>
        <p:blipFill>
          <a:blip r:embed="rId2"/>
          <a:stretch/>
        </p:blipFill>
        <p:spPr>
          <a:xfrm>
            <a:off x="1116000" y="1751040"/>
            <a:ext cx="698508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AutoShape 2"/>
          <p:cNvSpPr/>
          <p:nvPr/>
        </p:nvSpPr>
        <p:spPr>
          <a:xfrm>
            <a:off x="214200" y="3286080"/>
            <a:ext cx="8786880" cy="1374840"/>
          </a:xfrm>
          <a:prstGeom prst="roundRect">
            <a:avLst>
              <a:gd name="adj" fmla="val 16667"/>
            </a:avLst>
          </a:prstGeom>
          <a:solidFill>
            <a:srgbClr val="b8ecac">
              <a:alpha val="53000"/>
            </a:srgbClr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9" name="AutoShape 2"/>
          <p:cNvSpPr/>
          <p:nvPr/>
        </p:nvSpPr>
        <p:spPr>
          <a:xfrm>
            <a:off x="214200" y="4911840"/>
            <a:ext cx="8786880" cy="1374840"/>
          </a:xfrm>
          <a:prstGeom prst="roundRect">
            <a:avLst>
              <a:gd name="adj" fmla="val 16667"/>
            </a:avLst>
          </a:prstGeom>
          <a:solidFill>
            <a:srgbClr val="b8ecac">
              <a:alpha val="53000"/>
            </a:srgbClr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0" name="AutoShape 2"/>
          <p:cNvSpPr/>
          <p:nvPr/>
        </p:nvSpPr>
        <p:spPr>
          <a:xfrm>
            <a:off x="214200" y="1697040"/>
            <a:ext cx="8786880" cy="1374840"/>
          </a:xfrm>
          <a:prstGeom prst="roundRect">
            <a:avLst>
              <a:gd name="adj" fmla="val 16667"/>
            </a:avLst>
          </a:prstGeom>
          <a:solidFill>
            <a:srgbClr val="b8ecac">
              <a:alpha val="53000"/>
            </a:srgbClr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1" name="Rectangle 42"/>
          <p:cNvSpPr/>
          <p:nvPr/>
        </p:nvSpPr>
        <p:spPr>
          <a:xfrm>
            <a:off x="6037200" y="6429240"/>
            <a:ext cx="16574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22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HY강B"/>
                <a:ea typeface="HY강B"/>
              </a:rPr>
              <a:t>1.  </a:t>
            </a:r>
            <a:r>
              <a:rPr b="1" lang="ko-KR" sz="4400" spc="-1" strike="noStrike">
                <a:solidFill>
                  <a:srgbClr val="ffffff"/>
                </a:solidFill>
                <a:latin typeface="HY강B"/>
                <a:ea typeface="HY강B"/>
              </a:rPr>
              <a:t>강 의 목 적</a:t>
            </a:r>
            <a:endParaRPr b="0" lang="en-US" sz="44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424" name="직사각형 37"/>
          <p:cNvSpPr/>
          <p:nvPr/>
        </p:nvSpPr>
        <p:spPr>
          <a:xfrm>
            <a:off x="214200" y="1844640"/>
            <a:ext cx="8572680" cy="42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99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2060"/>
                </a:solidFill>
                <a:latin typeface="HY강M"/>
                <a:ea typeface="HY강M"/>
              </a:rPr>
              <a:t>  </a:t>
            </a:r>
            <a:r>
              <a:rPr b="0" lang="ko-KR" sz="2800" spc="-1" strike="noStrike">
                <a:solidFill>
                  <a:srgbClr val="002060"/>
                </a:solidFill>
                <a:latin typeface="HY강M"/>
                <a:ea typeface="HY강M"/>
              </a:rPr>
              <a:t>노화의 과정과 결과</a:t>
            </a:r>
            <a:r>
              <a:rPr b="0" lang="en-US" sz="2800" spc="-1" strike="noStrike">
                <a:solidFill>
                  <a:srgbClr val="002060"/>
                </a:solidFill>
                <a:latin typeface="HY강M"/>
                <a:ea typeface="HY강M"/>
              </a:rPr>
              <a:t>, </a:t>
            </a:r>
            <a:r>
              <a:rPr b="0" lang="ko-KR" sz="2800" spc="-1" strike="noStrike">
                <a:solidFill>
                  <a:srgbClr val="002060"/>
                </a:solidFill>
                <a:latin typeface="HY강M"/>
                <a:ea typeface="HY강M"/>
              </a:rPr>
              <a:t>노년기의 삶과 욕구</a:t>
            </a:r>
            <a:r>
              <a:rPr b="0" lang="en-US" sz="2800" spc="-1" strike="noStrike">
                <a:solidFill>
                  <a:srgbClr val="002060"/>
                </a:solidFill>
                <a:latin typeface="HY강M"/>
                <a:ea typeface="HY강M"/>
              </a:rPr>
              <a:t>, 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Y강M"/>
                <a:ea typeface="HY강M"/>
              </a:rPr>
              <a:t>    </a:t>
            </a:r>
            <a:r>
              <a:rPr b="0" lang="ko-KR" sz="2800" spc="-1" strike="noStrike">
                <a:solidFill>
                  <a:srgbClr val="002060"/>
                </a:solidFill>
                <a:latin typeface="HY강M"/>
                <a:ea typeface="HY강M"/>
              </a:rPr>
              <a:t>노인문제에 대한 과학적 지식 습득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2060"/>
                </a:solidFill>
                <a:latin typeface="HY강M"/>
                <a:ea typeface="HY강M"/>
              </a:rPr>
              <a:t>  </a:t>
            </a:r>
            <a:r>
              <a:rPr b="0" lang="ko-KR" sz="2800" spc="-1" strike="noStrike">
                <a:solidFill>
                  <a:srgbClr val="002060"/>
                </a:solidFill>
                <a:latin typeface="HY강M"/>
                <a:ea typeface="HY강M"/>
              </a:rPr>
              <a:t>노인의 욕구 충족과 문제 해결을 위한 전문적 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Y강M"/>
                <a:ea typeface="HY강M"/>
              </a:rPr>
              <a:t>    </a:t>
            </a:r>
            <a:r>
              <a:rPr b="0" lang="ko-KR" sz="2800" spc="-1" strike="noStrike">
                <a:solidFill>
                  <a:srgbClr val="002060"/>
                </a:solidFill>
                <a:latin typeface="HY강M"/>
                <a:ea typeface="HY강M"/>
              </a:rPr>
              <a:t>원조기술 습득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2060"/>
                </a:solidFill>
                <a:latin typeface="HY강M"/>
                <a:ea typeface="HY강M"/>
              </a:rPr>
              <a:t>  </a:t>
            </a:r>
            <a:r>
              <a:rPr b="0" lang="ko-KR" sz="2800" spc="-1" strike="noStrike">
                <a:solidFill>
                  <a:srgbClr val="002060"/>
                </a:solidFill>
                <a:latin typeface="HY강M"/>
                <a:ea typeface="HY강M"/>
              </a:rPr>
              <a:t>노인복지정책 및 프로그램의 개발</a:t>
            </a:r>
            <a:r>
              <a:rPr b="0" lang="en-US" sz="2800" spc="-1" strike="noStrike">
                <a:solidFill>
                  <a:srgbClr val="002060"/>
                </a:solidFill>
                <a:latin typeface="HY강M"/>
                <a:ea typeface="HY강M"/>
              </a:rPr>
              <a:t>,</a:t>
            </a:r>
            <a:r>
              <a:rPr b="0" lang="ko-KR" sz="2800" spc="-1" strike="noStrike">
                <a:solidFill>
                  <a:srgbClr val="002060"/>
                </a:solidFill>
                <a:latin typeface="HY강M"/>
                <a:ea typeface="HY강M"/>
              </a:rPr>
              <a:t>실행</a:t>
            </a:r>
            <a:r>
              <a:rPr b="0" lang="en-US" sz="2800" spc="-1" strike="noStrike">
                <a:solidFill>
                  <a:srgbClr val="002060"/>
                </a:solidFill>
                <a:latin typeface="HY강M"/>
                <a:ea typeface="HY강M"/>
              </a:rPr>
              <a:t>,</a:t>
            </a:r>
            <a:r>
              <a:rPr b="0" lang="ko-KR" sz="2800" spc="-1" strike="noStrike">
                <a:solidFill>
                  <a:srgbClr val="002060"/>
                </a:solidFill>
                <a:latin typeface="HY강M"/>
                <a:ea typeface="HY강M"/>
              </a:rPr>
              <a:t>평가능력 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Y강M"/>
                <a:ea typeface="HY강M"/>
              </a:rPr>
              <a:t>    </a:t>
            </a:r>
            <a:r>
              <a:rPr b="0" lang="ko-KR" sz="2800" spc="-1" strike="noStrike">
                <a:solidFill>
                  <a:srgbClr val="002060"/>
                </a:solidFill>
                <a:latin typeface="HY강M"/>
                <a:ea typeface="HY강M"/>
              </a:rPr>
              <a:t>함양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HY강B"/>
                <a:ea typeface="HY강B"/>
              </a:rPr>
              <a:t>2.  </a:t>
            </a:r>
            <a:r>
              <a:rPr b="1" lang="ko-KR" sz="4400" spc="-1" strike="noStrike">
                <a:solidFill>
                  <a:srgbClr val="ffffff"/>
                </a:solidFill>
                <a:latin typeface="HY강B"/>
                <a:ea typeface="HY강B"/>
              </a:rPr>
              <a:t>강 의 내 용</a:t>
            </a:r>
            <a:endParaRPr b="0" lang="en-US" sz="4400" spc="-1" strike="noStrike">
              <a:solidFill>
                <a:srgbClr val="ffffff"/>
              </a:solidFill>
              <a:latin typeface="HY견고딕"/>
            </a:endParaRPr>
          </a:p>
        </p:txBody>
      </p:sp>
      <p:grpSp>
        <p:nvGrpSpPr>
          <p:cNvPr id="427" name="그룹 14"/>
          <p:cNvGrpSpPr/>
          <p:nvPr/>
        </p:nvGrpSpPr>
        <p:grpSpPr>
          <a:xfrm>
            <a:off x="214200" y="1357200"/>
            <a:ext cx="8929800" cy="4484160"/>
            <a:chOff x="214200" y="1357200"/>
            <a:chExt cx="8929800" cy="4484160"/>
          </a:xfrm>
        </p:grpSpPr>
        <p:sp>
          <p:nvSpPr>
            <p:cNvPr id="428" name="직사각형 13"/>
            <p:cNvSpPr/>
            <p:nvPr/>
          </p:nvSpPr>
          <p:spPr>
            <a:xfrm>
              <a:off x="356760" y="3225600"/>
              <a:ext cx="8787240" cy="84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080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의 개념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인구의 변화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의 욕구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-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문제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-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복지의 관계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  <a:p>
              <a:pPr marL="1080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복지학의 이해 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29" name="그룹 11"/>
            <p:cNvGrpSpPr/>
            <p:nvPr/>
          </p:nvGrpSpPr>
          <p:grpSpPr>
            <a:xfrm>
              <a:off x="214200" y="1357200"/>
              <a:ext cx="8787240" cy="3511800"/>
              <a:chOff x="214200" y="1357200"/>
              <a:chExt cx="8787240" cy="3511800"/>
            </a:xfrm>
          </p:grpSpPr>
          <p:sp>
            <p:nvSpPr>
              <p:cNvPr id="430" name="AutoShape 5"/>
              <p:cNvSpPr/>
              <p:nvPr/>
            </p:nvSpPr>
            <p:spPr>
              <a:xfrm>
                <a:off x="214200" y="1357200"/>
                <a:ext cx="5393160" cy="57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3200" spc="-1" strike="noStrike">
                    <a:solidFill>
                      <a:srgbClr val="ffffff"/>
                    </a:solidFill>
                    <a:latin typeface="HY강B"/>
                  </a:rPr>
                  <a:t> </a:t>
                </a:r>
                <a:r>
                  <a:rPr b="1" lang="ko-KR" sz="3200" spc="-1" strike="noStrike">
                    <a:solidFill>
                      <a:srgbClr val="ffffff"/>
                    </a:solidFill>
                    <a:latin typeface="HY강B"/>
                  </a:rPr>
                  <a:t>제 </a:t>
                </a:r>
                <a:r>
                  <a:rPr b="1" lang="en-US" sz="3200" spc="-1" strike="noStrike">
                    <a:solidFill>
                      <a:srgbClr val="ffffff"/>
                    </a:solidFill>
                    <a:latin typeface="HY강B"/>
                  </a:rPr>
                  <a:t>1 </a:t>
                </a:r>
                <a:r>
                  <a:rPr b="1" lang="ko-KR" sz="3200" spc="-1" strike="noStrike">
                    <a:solidFill>
                      <a:srgbClr val="ffffff"/>
                    </a:solidFill>
                    <a:latin typeface="HY강B"/>
                  </a:rPr>
                  <a:t>부 노화와 노인의 이해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31" name="AutoShape 10"/>
              <p:cNvSpPr/>
              <p:nvPr/>
            </p:nvSpPr>
            <p:spPr>
              <a:xfrm>
                <a:off x="323640" y="2511360"/>
                <a:ext cx="8677800" cy="5713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32" name="Text Box 25"/>
              <p:cNvSpPr/>
              <p:nvPr/>
            </p:nvSpPr>
            <p:spPr>
              <a:xfrm>
                <a:off x="285480" y="2511360"/>
                <a:ext cx="87159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buSzPct val="102805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1" lang="en-US" sz="2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</a:t>
                </a:r>
                <a:r>
                  <a:rPr b="1" lang="ko-KR" sz="2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주</a:t>
                </a:r>
                <a:r>
                  <a:rPr b="1" lang="en-US" sz="2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1" lang="ko-KR" sz="2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과 노인문제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33" name="AutoShape 10"/>
              <p:cNvSpPr/>
              <p:nvPr/>
            </p:nvSpPr>
            <p:spPr>
              <a:xfrm>
                <a:off x="323640" y="4297680"/>
                <a:ext cx="8677800" cy="5713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34" name="Text Box 25"/>
              <p:cNvSpPr/>
              <p:nvPr/>
            </p:nvSpPr>
            <p:spPr>
              <a:xfrm>
                <a:off x="285480" y="4286520"/>
                <a:ext cx="631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buSzPct val="102805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 </a:t>
                </a:r>
                <a:r>
                  <a:rPr b="1" lang="en-US" sz="2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2</a:t>
                </a:r>
                <a:r>
                  <a:rPr b="1" lang="ko-KR" sz="2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주</a:t>
                </a:r>
                <a:r>
                  <a:rPr b="1" lang="en-US" sz="2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1" lang="ko-KR" sz="2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화의 과정과 결과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35" name="직사각형 16"/>
            <p:cNvSpPr/>
            <p:nvPr/>
          </p:nvSpPr>
          <p:spPr>
            <a:xfrm>
              <a:off x="356760" y="5000760"/>
              <a:ext cx="8787240" cy="84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080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화의 개념과 영역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생물적 노화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심리적 노화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사회적 노화의 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  <a:p>
              <a:pPr marL="1080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개념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이론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화현상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신화와 사실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성공적 노화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6" name="그룹 16"/>
          <p:cNvGrpSpPr/>
          <p:nvPr/>
        </p:nvGrpSpPr>
        <p:grpSpPr>
          <a:xfrm>
            <a:off x="214200" y="785880"/>
            <a:ext cx="8929800" cy="5787000"/>
            <a:chOff x="214200" y="785880"/>
            <a:chExt cx="8929800" cy="5787000"/>
          </a:xfrm>
        </p:grpSpPr>
        <p:sp>
          <p:nvSpPr>
            <p:cNvPr id="437" name="AutoShape 10"/>
            <p:cNvSpPr/>
            <p:nvPr/>
          </p:nvSpPr>
          <p:spPr>
            <a:xfrm>
              <a:off x="252000" y="785880"/>
              <a:ext cx="8677440" cy="5000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8" name="Text Box 25"/>
            <p:cNvSpPr/>
            <p:nvPr/>
          </p:nvSpPr>
          <p:spPr>
            <a:xfrm>
              <a:off x="214200" y="785880"/>
              <a:ext cx="631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buSzPct val="102884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en-US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3</a:t>
              </a:r>
              <a:r>
                <a:rPr b="1" lang="ko-KR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주</a:t>
              </a:r>
              <a:r>
                <a:rPr b="1" lang="en-US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; </a:t>
              </a:r>
              <a:r>
                <a:rPr b="1" lang="ko-KR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년기의 경제생활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9" name="직사각형 5"/>
            <p:cNvSpPr/>
            <p:nvPr/>
          </p:nvSpPr>
          <p:spPr>
            <a:xfrm>
              <a:off x="285480" y="1285920"/>
              <a:ext cx="8858520" cy="78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080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년기의 소득과 지출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년기의 일의 의미와 경제활동 실태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은퇴의 과정과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 marL="1080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적응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현행 퇴직제도의 현황과 문제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40" name="그룹 6"/>
            <p:cNvGrpSpPr/>
            <p:nvPr/>
          </p:nvGrpSpPr>
          <p:grpSpPr>
            <a:xfrm>
              <a:off x="214200" y="2143080"/>
              <a:ext cx="8787240" cy="1661400"/>
              <a:chOff x="214200" y="2143080"/>
              <a:chExt cx="8787240" cy="1661400"/>
            </a:xfrm>
          </p:grpSpPr>
          <p:sp>
            <p:nvSpPr>
              <p:cNvPr id="441" name="AutoShape 10"/>
              <p:cNvSpPr/>
              <p:nvPr/>
            </p:nvSpPr>
            <p:spPr>
              <a:xfrm>
                <a:off x="252000" y="2143080"/>
                <a:ext cx="8677800" cy="5000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42" name="Text Box 25"/>
              <p:cNvSpPr/>
              <p:nvPr/>
            </p:nvSpPr>
            <p:spPr>
              <a:xfrm>
                <a:off x="214200" y="2143080"/>
                <a:ext cx="6318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884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1" lang="en-US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4</a:t>
                </a:r>
                <a:r>
                  <a:rPr b="1" lang="ko-KR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주</a:t>
                </a:r>
                <a:r>
                  <a:rPr b="1" lang="en-US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1" lang="ko-KR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년기의 건강과 케어</a:t>
                </a:r>
                <a:r>
                  <a:rPr b="1" lang="en-US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care)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43" name="직사각형 9"/>
              <p:cNvSpPr/>
              <p:nvPr/>
            </p:nvSpPr>
            <p:spPr>
              <a:xfrm>
                <a:off x="285480" y="2643120"/>
                <a:ext cx="8715960" cy="11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108000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건강과 질병의 개념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성 질환의 특성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년기의 주요 질환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년기의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marL="108000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질병 양상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일상생활 동작능력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년기의 영양관리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 환자의 케어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(care),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marL="108000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의 건강문제로 인한 사회적 비용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44" name="AutoShape 10"/>
            <p:cNvSpPr/>
            <p:nvPr/>
          </p:nvSpPr>
          <p:spPr>
            <a:xfrm>
              <a:off x="252000" y="3930480"/>
              <a:ext cx="8677440" cy="5000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5" name="Text Box 25"/>
            <p:cNvSpPr/>
            <p:nvPr/>
          </p:nvSpPr>
          <p:spPr>
            <a:xfrm>
              <a:off x="214200" y="3929040"/>
              <a:ext cx="631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buSzPct val="102884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en-US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5</a:t>
              </a:r>
              <a:r>
                <a:rPr b="1" lang="ko-KR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주</a:t>
              </a:r>
              <a:r>
                <a:rPr b="1" lang="en-US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1" lang="ko-KR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치매의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6" name="직사각형 12"/>
            <p:cNvSpPr/>
            <p:nvPr/>
          </p:nvSpPr>
          <p:spPr>
            <a:xfrm>
              <a:off x="285480" y="4430520"/>
              <a:ext cx="8715600" cy="78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080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치매의 개념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치매의 원인과 유형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증상과 경과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예방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․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진단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․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치료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치매환자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 marL="1080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의 간호방법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치매가족의 부양부담과 지원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7" name="AutoShape 10"/>
            <p:cNvSpPr/>
            <p:nvPr/>
          </p:nvSpPr>
          <p:spPr>
            <a:xfrm>
              <a:off x="252000" y="5292720"/>
              <a:ext cx="8677440" cy="5000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8" name="Text Box 25"/>
            <p:cNvSpPr/>
            <p:nvPr/>
          </p:nvSpPr>
          <p:spPr>
            <a:xfrm>
              <a:off x="214200" y="5286240"/>
              <a:ext cx="631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buSzPct val="102884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6</a:t>
              </a:r>
              <a:r>
                <a:rPr b="1" lang="ko-KR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주</a:t>
              </a:r>
              <a:r>
                <a:rPr b="1" lang="en-US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1" lang="ko-KR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년기의 여가생활과 교육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9" name="직사각형 15"/>
            <p:cNvSpPr/>
            <p:nvPr/>
          </p:nvSpPr>
          <p:spPr>
            <a:xfrm>
              <a:off x="285480" y="5792760"/>
              <a:ext cx="8715600" cy="78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080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년기 여가활동의 의의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년기 여가활동 유형의 변화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여가활동 참여실태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 marL="1080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및 촉진방안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년기의 자원봉사활동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교육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50" name="AutoShape 5"/>
          <p:cNvSpPr/>
          <p:nvPr/>
        </p:nvSpPr>
        <p:spPr>
          <a:xfrm>
            <a:off x="214200" y="71280"/>
            <a:ext cx="5786640" cy="5004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6e81e0"/>
              </a:gs>
              <a:gs pos="100000">
                <a:srgbClr val="333c68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cacac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ffffff"/>
                </a:solidFill>
                <a:latin typeface="HY강B"/>
              </a:rPr>
              <a:t> </a:t>
            </a:r>
            <a:r>
              <a:rPr b="1" lang="ko-KR" sz="3000" spc="-1" strike="noStrike">
                <a:solidFill>
                  <a:srgbClr val="ffffff"/>
                </a:solidFill>
                <a:latin typeface="HY강B"/>
              </a:rPr>
              <a:t>제 </a:t>
            </a:r>
            <a:r>
              <a:rPr b="1" lang="en-US" sz="3000" spc="-1" strike="noStrike">
                <a:solidFill>
                  <a:srgbClr val="ffffff"/>
                </a:solidFill>
                <a:latin typeface="HY강B"/>
              </a:rPr>
              <a:t>2 </a:t>
            </a:r>
            <a:r>
              <a:rPr b="1" lang="ko-KR" sz="3000" spc="-1" strike="noStrike">
                <a:solidFill>
                  <a:srgbClr val="ffffff"/>
                </a:solidFill>
                <a:latin typeface="HY강B"/>
              </a:rPr>
              <a:t>부 노인의 삶</a:t>
            </a:r>
            <a:r>
              <a:rPr b="1" lang="en-US" sz="3000" spc="-1" strike="noStrike">
                <a:solidFill>
                  <a:srgbClr val="ffffff"/>
                </a:solidFill>
                <a:latin typeface="HY강B"/>
              </a:rPr>
              <a:t>, </a:t>
            </a:r>
            <a:r>
              <a:rPr b="1" lang="ko-KR" sz="3000" spc="-1" strike="noStrike">
                <a:solidFill>
                  <a:srgbClr val="ffffff"/>
                </a:solidFill>
                <a:latin typeface="HY강B"/>
              </a:rPr>
              <a:t>욕구</a:t>
            </a:r>
            <a:r>
              <a:rPr b="1" lang="en-US" sz="3000" spc="-1" strike="noStrike">
                <a:solidFill>
                  <a:srgbClr val="ffffff"/>
                </a:solidFill>
                <a:latin typeface="HY강B"/>
              </a:rPr>
              <a:t>, </a:t>
            </a:r>
            <a:r>
              <a:rPr b="1" lang="ko-KR" sz="3000" spc="-1" strike="noStrike">
                <a:solidFill>
                  <a:srgbClr val="ffffff"/>
                </a:solidFill>
                <a:latin typeface="HY강B"/>
              </a:rPr>
              <a:t>문제</a:t>
            </a:r>
            <a:endParaRPr b="0" lang="en-US" sz="3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1" name="그룹 14"/>
          <p:cNvGrpSpPr/>
          <p:nvPr/>
        </p:nvGrpSpPr>
        <p:grpSpPr>
          <a:xfrm>
            <a:off x="214200" y="357120"/>
            <a:ext cx="8786880" cy="5441040"/>
            <a:chOff x="214200" y="357120"/>
            <a:chExt cx="8786880" cy="5441040"/>
          </a:xfrm>
        </p:grpSpPr>
        <p:sp>
          <p:nvSpPr>
            <p:cNvPr id="452" name="AutoShape 10"/>
            <p:cNvSpPr/>
            <p:nvPr/>
          </p:nvSpPr>
          <p:spPr>
            <a:xfrm>
              <a:off x="252000" y="357120"/>
              <a:ext cx="8749080" cy="5396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3" name="Text Box 25"/>
            <p:cNvSpPr/>
            <p:nvPr/>
          </p:nvSpPr>
          <p:spPr>
            <a:xfrm>
              <a:off x="285480" y="357120"/>
              <a:ext cx="7286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buSzPct val="102805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en-US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7</a:t>
              </a:r>
              <a:r>
                <a:rPr b="1" lang="ko-KR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주</a:t>
              </a:r>
              <a:r>
                <a:rPr b="1" lang="en-US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1" lang="ko-KR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년기의 주거생활과 고령친화산업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4" name="직사각형 3"/>
            <p:cNvSpPr/>
            <p:nvPr/>
          </p:nvSpPr>
          <p:spPr>
            <a:xfrm>
              <a:off x="285480" y="1000080"/>
              <a:ext cx="8572680" cy="84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08000"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년기 주거환경의 중요성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주거형태와 현실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을 위한 주거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  <a:p>
              <a:pPr marL="1080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환경의 계획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복지시설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고령친화산업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(elderly market)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5" name="AutoShape 10"/>
            <p:cNvSpPr/>
            <p:nvPr/>
          </p:nvSpPr>
          <p:spPr>
            <a:xfrm>
              <a:off x="252000" y="2060640"/>
              <a:ext cx="8749080" cy="5396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6" name="Text Box 25"/>
            <p:cNvSpPr/>
            <p:nvPr/>
          </p:nvSpPr>
          <p:spPr>
            <a:xfrm>
              <a:off x="214200" y="2060280"/>
              <a:ext cx="5214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buSzPct val="102805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en-US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8</a:t>
              </a:r>
              <a:r>
                <a:rPr b="1" lang="ko-KR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주</a:t>
              </a:r>
              <a:r>
                <a:rPr b="1" lang="en-US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1" lang="ko-KR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중간고사 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7" name="AutoShape 10"/>
            <p:cNvSpPr/>
            <p:nvPr/>
          </p:nvSpPr>
          <p:spPr>
            <a:xfrm>
              <a:off x="252000" y="3071880"/>
              <a:ext cx="8749080" cy="5396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8" name="Text Box 25"/>
            <p:cNvSpPr/>
            <p:nvPr/>
          </p:nvSpPr>
          <p:spPr>
            <a:xfrm>
              <a:off x="214200" y="3071520"/>
              <a:ext cx="5643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buSzPct val="102805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en-US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9</a:t>
              </a:r>
              <a:r>
                <a:rPr b="1" lang="ko-KR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주</a:t>
              </a:r>
              <a:r>
                <a:rPr b="1" lang="en-US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1" lang="ko-KR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년기의 사회관계망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9" name="직사각형 10"/>
            <p:cNvSpPr/>
            <p:nvPr/>
          </p:nvSpPr>
          <p:spPr>
            <a:xfrm>
              <a:off x="285480" y="3643200"/>
              <a:ext cx="8715600" cy="84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080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사회적 관계망과 지지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가족의 구조와 기능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년기의 가족관계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  <a:p>
              <a:pPr marL="1080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년기의 친구 및 이웃관계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0" name="AutoShape 10"/>
            <p:cNvSpPr/>
            <p:nvPr/>
          </p:nvSpPr>
          <p:spPr>
            <a:xfrm>
              <a:off x="252000" y="4796280"/>
              <a:ext cx="8749080" cy="5396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1" name="Text Box 25"/>
            <p:cNvSpPr/>
            <p:nvPr/>
          </p:nvSpPr>
          <p:spPr>
            <a:xfrm>
              <a:off x="214200" y="4786200"/>
              <a:ext cx="550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buSzPct val="102805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en-US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10</a:t>
              </a:r>
              <a:r>
                <a:rPr b="1" lang="ko-KR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주</a:t>
              </a:r>
              <a:r>
                <a:rPr b="1" lang="en-US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1" lang="ko-KR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년기 삶의 이면</a:t>
              </a:r>
              <a:r>
                <a:rPr b="1" lang="en-US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1" lang="ko-KR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裏面</a:t>
              </a:r>
              <a:r>
                <a:rPr b="1" lang="en-US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2" name="직사각형 13"/>
            <p:cNvSpPr/>
            <p:nvPr/>
          </p:nvSpPr>
          <p:spPr>
            <a:xfrm>
              <a:off x="285480" y="5369040"/>
              <a:ext cx="85726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080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죽음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호스피스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성생활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인권과 학대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정보화와 노년공학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의 안전과 범죄 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3" name="그룹 21"/>
          <p:cNvGrpSpPr/>
          <p:nvPr/>
        </p:nvGrpSpPr>
        <p:grpSpPr>
          <a:xfrm>
            <a:off x="214200" y="71280"/>
            <a:ext cx="8786880" cy="5786640"/>
            <a:chOff x="214200" y="71280"/>
            <a:chExt cx="8786880" cy="5786640"/>
          </a:xfrm>
        </p:grpSpPr>
        <p:sp>
          <p:nvSpPr>
            <p:cNvPr id="464" name="AutoShape 5"/>
            <p:cNvSpPr/>
            <p:nvPr/>
          </p:nvSpPr>
          <p:spPr>
            <a:xfrm>
              <a:off x="214200" y="71280"/>
              <a:ext cx="5643720" cy="571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0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000" spc="-1" strike="noStrike">
                  <a:solidFill>
                    <a:srgbClr val="ffffff"/>
                  </a:solidFill>
                  <a:latin typeface="HY강B"/>
                </a:rPr>
                <a:t>제 </a:t>
              </a:r>
              <a:r>
                <a:rPr b="1" lang="en-US" sz="3000" spc="-1" strike="noStrike">
                  <a:solidFill>
                    <a:srgbClr val="ffffff"/>
                  </a:solidFill>
                  <a:latin typeface="HY강B"/>
                </a:rPr>
                <a:t>3 </a:t>
              </a:r>
              <a:r>
                <a:rPr b="1" lang="ko-KR" sz="3000" spc="-1" strike="noStrike">
                  <a:solidFill>
                    <a:srgbClr val="ffffff"/>
                  </a:solidFill>
                  <a:latin typeface="HY강B"/>
                </a:rPr>
                <a:t>부 노인복지 정책과 실천</a:t>
              </a:r>
              <a:endParaRPr b="0" lang="en-US" sz="3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65" name="그룹 20"/>
            <p:cNvGrpSpPr/>
            <p:nvPr/>
          </p:nvGrpSpPr>
          <p:grpSpPr>
            <a:xfrm>
              <a:off x="214200" y="928440"/>
              <a:ext cx="8786880" cy="4929480"/>
              <a:chOff x="214200" y="928440"/>
              <a:chExt cx="8786880" cy="4929480"/>
            </a:xfrm>
          </p:grpSpPr>
          <p:sp>
            <p:nvSpPr>
              <p:cNvPr id="466" name="AutoShape 10"/>
              <p:cNvSpPr/>
              <p:nvPr/>
            </p:nvSpPr>
            <p:spPr>
              <a:xfrm>
                <a:off x="252000" y="928440"/>
                <a:ext cx="8749080" cy="5000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7" name="Text Box 25"/>
              <p:cNvSpPr/>
              <p:nvPr/>
            </p:nvSpPr>
            <p:spPr>
              <a:xfrm>
                <a:off x="214200" y="928440"/>
                <a:ext cx="8644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884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1" lang="en-US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1</a:t>
                </a:r>
                <a:r>
                  <a:rPr b="1" lang="ko-KR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주</a:t>
                </a:r>
                <a:r>
                  <a:rPr b="1" lang="en-US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1" lang="ko-KR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복지와 노인복지정책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8" name="직사각형 5"/>
              <p:cNvSpPr/>
              <p:nvPr/>
            </p:nvSpPr>
            <p:spPr>
              <a:xfrm>
                <a:off x="285480" y="1428480"/>
                <a:ext cx="85726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1080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복지의 개념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․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목적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․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원칙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복지의 구성체계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법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전달체계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재정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복지의 발달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복지정책의 이해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현행 노인복지정책의 개요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469" name="그룹 6"/>
              <p:cNvGrpSpPr/>
              <p:nvPr/>
            </p:nvGrpSpPr>
            <p:grpSpPr>
              <a:xfrm>
                <a:off x="214200" y="2171520"/>
                <a:ext cx="8786880" cy="898920"/>
                <a:chOff x="214200" y="2171520"/>
                <a:chExt cx="8786880" cy="898920"/>
              </a:xfrm>
            </p:grpSpPr>
            <p:sp>
              <p:nvSpPr>
                <p:cNvPr id="470" name="AutoShape 10"/>
                <p:cNvSpPr/>
                <p:nvPr/>
              </p:nvSpPr>
              <p:spPr>
                <a:xfrm>
                  <a:off x="252000" y="2171520"/>
                  <a:ext cx="8749080" cy="5000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71" name="Text Box 25"/>
                <p:cNvSpPr/>
                <p:nvPr/>
              </p:nvSpPr>
              <p:spPr>
                <a:xfrm>
                  <a:off x="214200" y="2180880"/>
                  <a:ext cx="6318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buSzPct val="102884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4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1" lang="en-US" sz="24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12</a:t>
                  </a:r>
                  <a:r>
                    <a:rPr b="1" lang="ko-KR" sz="24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주</a:t>
                  </a:r>
                  <a:r>
                    <a:rPr b="1" lang="en-US" sz="24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1" lang="ko-KR" sz="24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현행 노인복지 정책과 서비스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72" name="직사각형 9"/>
                <p:cNvSpPr/>
                <p:nvPr/>
              </p:nvSpPr>
              <p:spPr>
                <a:xfrm>
                  <a:off x="285480" y="2671560"/>
                  <a:ext cx="87156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10800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2060"/>
                      </a:solidFill>
                      <a:latin typeface="HY강M"/>
                      <a:ea typeface="HY강M"/>
                    </a:rPr>
                    <a:t>소득보장</a:t>
                  </a:r>
                  <a:r>
                    <a:rPr b="0" lang="en-US" sz="2000" spc="-1" strike="noStrike">
                      <a:solidFill>
                        <a:srgbClr val="002060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002060"/>
                      </a:solidFill>
                      <a:latin typeface="HY강M"/>
                      <a:ea typeface="HY강M"/>
                    </a:rPr>
                    <a:t>고용보장</a:t>
                  </a:r>
                  <a:r>
                    <a:rPr b="0" lang="en-US" sz="2000" spc="-1" strike="noStrike">
                      <a:solidFill>
                        <a:srgbClr val="002060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002060"/>
                      </a:solidFill>
                      <a:latin typeface="HY강M"/>
                      <a:ea typeface="HY강M"/>
                    </a:rPr>
                    <a:t>주거보장</a:t>
                  </a:r>
                  <a:r>
                    <a:rPr b="0" lang="en-US" sz="2000" spc="-1" strike="noStrike">
                      <a:solidFill>
                        <a:srgbClr val="002060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002060"/>
                      </a:solidFill>
                      <a:latin typeface="HY강M"/>
                      <a:ea typeface="HY강M"/>
                    </a:rPr>
                    <a:t>건강보장</a:t>
                  </a:r>
                  <a:r>
                    <a:rPr b="0" lang="en-US" sz="2000" spc="-1" strike="noStrike">
                      <a:solidFill>
                        <a:srgbClr val="002060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002060"/>
                      </a:solidFill>
                      <a:latin typeface="HY강M"/>
                      <a:ea typeface="HY강M"/>
                    </a:rPr>
                    <a:t>사회 서비스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3" name="AutoShape 10"/>
              <p:cNvSpPr/>
              <p:nvPr/>
            </p:nvSpPr>
            <p:spPr>
              <a:xfrm>
                <a:off x="252000" y="3078000"/>
                <a:ext cx="8749080" cy="5000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4" name="Text Box 25"/>
              <p:cNvSpPr/>
              <p:nvPr/>
            </p:nvSpPr>
            <p:spPr>
              <a:xfrm>
                <a:off x="214200" y="3071520"/>
                <a:ext cx="6318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884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1" lang="en-US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3</a:t>
                </a:r>
                <a:r>
                  <a:rPr b="1" lang="ko-KR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주</a:t>
                </a:r>
                <a:r>
                  <a:rPr b="1" lang="en-US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1" lang="ko-KR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복지 프로그램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5" name="직사각형 12"/>
              <p:cNvSpPr/>
              <p:nvPr/>
            </p:nvSpPr>
            <p:spPr>
              <a:xfrm>
                <a:off x="285480" y="3578040"/>
                <a:ext cx="82155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1080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프로그램의 개념과 특성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프로그램의 조건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복지조직의 프로그램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프로그램 개발의 과정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프로그램 제안서 작성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6" name="AutoShape 10"/>
              <p:cNvSpPr/>
              <p:nvPr/>
            </p:nvSpPr>
            <p:spPr>
              <a:xfrm>
                <a:off x="252000" y="4292640"/>
                <a:ext cx="8749080" cy="5000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7" name="Text Box 25"/>
              <p:cNvSpPr/>
              <p:nvPr/>
            </p:nvSpPr>
            <p:spPr>
              <a:xfrm>
                <a:off x="214200" y="4286160"/>
                <a:ext cx="6318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884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1" lang="en-US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4</a:t>
                </a:r>
                <a:r>
                  <a:rPr b="1" lang="ko-KR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주</a:t>
                </a:r>
                <a:r>
                  <a:rPr b="1" lang="en-US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1" lang="ko-KR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복지실천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8" name="직사각형 15"/>
              <p:cNvSpPr/>
              <p:nvPr/>
            </p:nvSpPr>
            <p:spPr>
              <a:xfrm>
                <a:off x="285480" y="4792680"/>
                <a:ext cx="8715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1080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복지실천의 개념과 특성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상담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사례관리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9" name="AutoShape 10"/>
              <p:cNvSpPr/>
              <p:nvPr/>
            </p:nvSpPr>
            <p:spPr>
              <a:xfrm>
                <a:off x="252000" y="5286600"/>
                <a:ext cx="8749080" cy="5713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0" name="Text Box 25"/>
              <p:cNvSpPr/>
              <p:nvPr/>
            </p:nvSpPr>
            <p:spPr>
              <a:xfrm>
                <a:off x="214200" y="5286600"/>
                <a:ext cx="6318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884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1" lang="en-US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5</a:t>
                </a:r>
                <a:r>
                  <a:rPr b="1" lang="ko-KR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주</a:t>
                </a:r>
                <a:r>
                  <a:rPr b="1" lang="en-US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1" lang="ko-KR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기말고사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HY강B"/>
                <a:ea typeface="HY강B"/>
              </a:rPr>
              <a:t>3.  </a:t>
            </a:r>
            <a:r>
              <a:rPr b="1" lang="ko-KR" sz="4400" spc="-1" strike="noStrike">
                <a:solidFill>
                  <a:srgbClr val="ffffff"/>
                </a:solidFill>
                <a:latin typeface="HY강B"/>
                <a:ea typeface="HY강B"/>
              </a:rPr>
              <a:t>강의교재 및 평가</a:t>
            </a:r>
            <a:endParaRPr b="0" lang="en-US" sz="4400" spc="-1" strike="noStrike">
              <a:solidFill>
                <a:srgbClr val="ffffff"/>
              </a:solidFill>
              <a:latin typeface="HY견고딕"/>
            </a:endParaRPr>
          </a:p>
        </p:txBody>
      </p:sp>
      <p:grpSp>
        <p:nvGrpSpPr>
          <p:cNvPr id="483" name="그룹 9"/>
          <p:cNvGrpSpPr/>
          <p:nvPr/>
        </p:nvGrpSpPr>
        <p:grpSpPr>
          <a:xfrm>
            <a:off x="285840" y="1500120"/>
            <a:ext cx="8643960" cy="4143600"/>
            <a:chOff x="285840" y="1500120"/>
            <a:chExt cx="8643960" cy="4143600"/>
          </a:xfrm>
        </p:grpSpPr>
        <p:sp>
          <p:nvSpPr>
            <p:cNvPr id="484" name="AutoShape 10"/>
            <p:cNvSpPr/>
            <p:nvPr/>
          </p:nvSpPr>
          <p:spPr>
            <a:xfrm>
              <a:off x="655560" y="2143080"/>
              <a:ext cx="8274240" cy="5713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5" name="Text Box 25"/>
            <p:cNvSpPr/>
            <p:nvPr/>
          </p:nvSpPr>
          <p:spPr>
            <a:xfrm>
              <a:off x="285840" y="1500120"/>
              <a:ext cx="2000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buSzPct val="10287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32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주교재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6" name="직사각형 13"/>
            <p:cNvSpPr/>
            <p:nvPr/>
          </p:nvSpPr>
          <p:spPr>
            <a:xfrm>
              <a:off x="714240" y="2181240"/>
              <a:ext cx="69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af334e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권중돈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. 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복지론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(7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판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). 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서울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: 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학지사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. 2019.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7" name="AutoShape 10"/>
            <p:cNvSpPr/>
            <p:nvPr/>
          </p:nvSpPr>
          <p:spPr>
            <a:xfrm>
              <a:off x="655560" y="3714840"/>
              <a:ext cx="8274240" cy="19288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8" name="Text Box 25"/>
            <p:cNvSpPr/>
            <p:nvPr/>
          </p:nvSpPr>
          <p:spPr>
            <a:xfrm>
              <a:off x="285840" y="3129120"/>
              <a:ext cx="285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buSzPct val="10287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32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참고문헌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9" name="직사각형 19"/>
            <p:cNvSpPr/>
            <p:nvPr/>
          </p:nvSpPr>
          <p:spPr>
            <a:xfrm>
              <a:off x="689040" y="3772080"/>
              <a:ext cx="8097840" cy="17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af334e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모선희 외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. 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현대노인복지론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(6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판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). 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학지사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. 2018.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af334e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이혜영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. 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복지론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(5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판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). 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창지사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. 2018.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af334e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최혜경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. 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복지론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. 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학지사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. 2016. 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af334e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보건복지부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(2019). 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보건복지사업안내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.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직사각형 14"/>
          <p:cNvSpPr/>
          <p:nvPr/>
        </p:nvSpPr>
        <p:spPr>
          <a:xfrm>
            <a:off x="0" y="0"/>
            <a:ext cx="9144000" cy="6429240"/>
          </a:xfrm>
          <a:prstGeom prst="rect">
            <a:avLst/>
          </a:prstGeom>
          <a:solidFill>
            <a:srgbClr val="0099cc"/>
          </a:solidFill>
          <a:ln w="9360">
            <a:solidFill>
              <a:srgbClr val="1d528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91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pic>
        <p:nvPicPr>
          <p:cNvPr id="493" name="그림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4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4" name="그룹 14"/>
          <p:cNvGrpSpPr/>
          <p:nvPr/>
        </p:nvGrpSpPr>
        <p:grpSpPr>
          <a:xfrm>
            <a:off x="357120" y="79200"/>
            <a:ext cx="8572680" cy="6278760"/>
            <a:chOff x="357120" y="79200"/>
            <a:chExt cx="8572680" cy="6278760"/>
          </a:xfrm>
        </p:grpSpPr>
        <p:sp>
          <p:nvSpPr>
            <p:cNvPr id="495" name="AutoShape 10"/>
            <p:cNvSpPr/>
            <p:nvPr/>
          </p:nvSpPr>
          <p:spPr>
            <a:xfrm>
              <a:off x="823680" y="3143160"/>
              <a:ext cx="8106120" cy="13572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6" name="AutoShape 5"/>
            <p:cNvSpPr/>
            <p:nvPr/>
          </p:nvSpPr>
          <p:spPr>
            <a:xfrm>
              <a:off x="357120" y="79200"/>
              <a:ext cx="2714760" cy="468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4. </a:t>
              </a:r>
              <a:r>
                <a:rPr b="1" lang="ko-KR" sz="2800" spc="-1" strike="noStrike">
                  <a:solidFill>
                    <a:srgbClr val="ffffff"/>
                  </a:solidFill>
                  <a:latin typeface="HY강B"/>
                </a:rPr>
                <a:t>보고서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7" name="AutoShape 10"/>
            <p:cNvSpPr/>
            <p:nvPr/>
          </p:nvSpPr>
          <p:spPr>
            <a:xfrm>
              <a:off x="752400" y="714240"/>
              <a:ext cx="8177400" cy="5000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8" name="Text Box 25"/>
            <p:cNvSpPr/>
            <p:nvPr/>
          </p:nvSpPr>
          <p:spPr>
            <a:xfrm>
              <a:off x="714240" y="722160"/>
              <a:ext cx="671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buSzPct val="102884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인복지 프로그램 개발 보고서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9" name="직사각형 7"/>
            <p:cNvSpPr/>
            <p:nvPr/>
          </p:nvSpPr>
          <p:spPr>
            <a:xfrm>
              <a:off x="928440" y="1214280"/>
              <a:ext cx="7929720" cy="78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직접 실행할 수 있는 노인복지프로그램을 개발하여 제출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양식은 사회복지공동모금회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(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www.chest.or.kr)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에서 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download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00" name="AutoShape 5"/>
            <p:cNvSpPr/>
            <p:nvPr/>
          </p:nvSpPr>
          <p:spPr>
            <a:xfrm>
              <a:off x="428400" y="2500200"/>
              <a:ext cx="2714760" cy="468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5. </a:t>
              </a:r>
              <a:r>
                <a:rPr b="1" lang="ko-KR" sz="2800" spc="-1" strike="noStrike">
                  <a:solidFill>
                    <a:srgbClr val="ffffff"/>
                  </a:solidFill>
                  <a:latin typeface="HY강B"/>
                </a:rPr>
                <a:t>평가기준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01" name="Text Box 25"/>
            <p:cNvSpPr/>
            <p:nvPr/>
          </p:nvSpPr>
          <p:spPr>
            <a:xfrm>
              <a:off x="785520" y="3146400"/>
              <a:ext cx="6715440" cy="12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71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3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23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출석 및 참여도</a:t>
              </a:r>
              <a:r>
                <a:rPr b="1" lang="en-US" sz="23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1" lang="en-US" sz="23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10%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71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23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과제</a:t>
              </a:r>
              <a:r>
                <a:rPr b="1" lang="en-US" sz="23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1" lang="ko-KR" sz="23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복지 프로그램 개발</a:t>
              </a:r>
              <a:r>
                <a:rPr b="1" lang="en-US" sz="23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1" lang="en-US" sz="23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20%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71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23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시험</a:t>
              </a:r>
              <a:r>
                <a:rPr b="1" lang="en-US" sz="23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1" lang="ko-KR" sz="23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중간고사 </a:t>
              </a:r>
              <a:r>
                <a:rPr b="1" lang="en-US" sz="23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35%, </a:t>
              </a:r>
              <a:r>
                <a:rPr b="1" lang="ko-KR" sz="23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기말고사</a:t>
              </a:r>
              <a:r>
                <a:rPr b="1" lang="en-US" sz="23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: 35% 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02" name="AutoShape 5"/>
            <p:cNvSpPr/>
            <p:nvPr/>
          </p:nvSpPr>
          <p:spPr>
            <a:xfrm>
              <a:off x="428400" y="4786200"/>
              <a:ext cx="3643200" cy="468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6.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강의 관련 자료 및 문의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03" name="AutoShape 10"/>
            <p:cNvSpPr/>
            <p:nvPr/>
          </p:nvSpPr>
          <p:spPr>
            <a:xfrm>
              <a:off x="823680" y="5429520"/>
              <a:ext cx="6963120" cy="9284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04" name="Text Box 25"/>
            <p:cNvSpPr/>
            <p:nvPr/>
          </p:nvSpPr>
          <p:spPr>
            <a:xfrm>
              <a:off x="785520" y="5432400"/>
              <a:ext cx="8144280" cy="90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84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pt-BR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e-mail</a:t>
              </a:r>
              <a:r>
                <a:rPr b="0" lang="pt-B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: kjd716@mokwon.ac.kr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84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pt-BR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Tel: 042-829-7513</a:t>
              </a:r>
              <a:r>
                <a:rPr b="0" lang="pt-B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2:34:59Z</dcterms:created>
  <dc:creator>OWNER</dc:creator>
  <dc:description/>
  <dc:language>en-US</dc:language>
  <cp:lastModifiedBy>Windows 사용자</cp:lastModifiedBy>
  <dcterms:modified xsi:type="dcterms:W3CDTF">2019-07-12T00:32:12Z</dcterms:modified>
  <cp:revision>182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7961042</vt:lpwstr>
  </property>
</Properties>
</file>