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DB39-278C-4805-83D7-761B98BBAD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C80B-81CB-46FD-ADE6-42BE3AF6526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89D-AD49-4DE2-B90E-B4C8914FD37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2388-3B44-4862-B1CA-2B2171E15FB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7C8-5275-4ED5-B7D2-D7FABB25E62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CA0F-7DFC-4672-95A2-596F2EBA799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76995-CE69-43BE-8F2C-533E3D2B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156FC-9B1B-413D-AAB0-9A7A1A23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A6E8B-1538-4F52-920F-64C2AAE2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E3CCC-6C0C-42F1-B267-84ABE65C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6CAC1-034B-4BBD-8339-1E8A1A2D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4B0FB-5C85-4C70-8100-CF87A006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D165B-C6DC-4B3F-A49F-341F8214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71F0-249A-4905-9077-14527300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DDA1B-C5D7-4C7A-9C11-36C111BF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870FD-51B1-4B98-8D92-69A054F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611A-C00F-4AFD-8685-50F98FCC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4493C-83A4-4E13-8E6D-5F1C401F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C4464-B002-4199-B4F6-129E1B1C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E2808-FD05-49BA-BFA3-1E3FCEB3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29EAC-3064-4ADC-8590-35DAB87A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11F45-518D-458A-BF4E-C948DE46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4C1A86-2583-4A19-A642-46D9C977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F0415-D212-4C58-A6DF-AC5176F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F83C2-9487-4281-913A-307ED91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8F6B1-021E-4BDB-B88B-52363CE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0BB4B-B6F7-4B69-9926-BD1BCE95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150795-BD87-4B7C-B922-4830043F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A3344-E5C0-4A9F-8A17-233D6715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BDEF8-C661-4827-9141-4798D489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B28A-2823-4582-BE68-00C286028C3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755-4A9C-4632-9D8A-35DFE227201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9EC1-24C4-4660-87CD-959BC332FF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425B-5AD1-441C-86E1-891206FD4D3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8546-7EE2-43DC-985D-D278262C7CE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6A6A-EAD7-412C-845D-558D06A4136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611A-1ED8-4A70-8589-3EA44E770853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9001080" cy="6057720"/>
            <a:chOff x="142920" y="142920"/>
            <a:chExt cx="9001080" cy="6057720"/>
          </a:xfrm>
        </p:grpSpPr>
        <p:sp>
          <p:nvSpPr>
            <p:cNvPr id="514" name="AutoShape 2"/>
            <p:cNvSpPr/>
            <p:nvPr/>
          </p:nvSpPr>
          <p:spPr>
            <a:xfrm>
              <a:off x="357120" y="3928680"/>
              <a:ext cx="878688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880" cy="178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5600" cy="2270520"/>
              <a:chOff x="142920" y="785520"/>
              <a:chExt cx="871560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30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786880" cy="2843280"/>
              <a:chOff x="142920" y="3357360"/>
              <a:chExt cx="8786880" cy="284328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285480" y="3972960"/>
                <a:ext cx="864432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 30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8) 41.1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9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4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9.9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.5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.6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0" y="357120"/>
            <a:ext cx="9001080" cy="6357960"/>
            <a:chOff x="0" y="357120"/>
            <a:chExt cx="9001080" cy="635796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64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560" y="357120"/>
              <a:ext cx="8858520" cy="4046400"/>
              <a:chOff x="142560" y="357120"/>
              <a:chExt cx="8858520" cy="404640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560" y="357120"/>
                <a:ext cx="857304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120" y="1093680"/>
                <a:ext cx="8715960" cy="33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0.1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2.9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외 기계조작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매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시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3.3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1.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              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5"/>
            <a:stretch/>
          </p:blipFill>
          <p:spPr>
            <a:xfrm>
              <a:off x="0" y="4638600"/>
              <a:ext cx="4857840" cy="20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이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182840"/>
            <a:chOff x="285840" y="603360"/>
            <a:chExt cx="8643960" cy="418284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64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127760"/>
              <a:chOff x="285840" y="603360"/>
              <a:chExt cx="8643960" cy="41277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3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참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의 퇴직자 권리와 의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 및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법에도  불구하고 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대부분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357800"/>
              <a:ext cx="874908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429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하며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4297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50.9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社會的 早老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을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 &amp;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8160"/>
            <a:chOff x="0" y="0"/>
            <a:chExt cx="9144000" cy="642816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560"/>
              <a:ext cx="882036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880"/>
              <a:ext cx="8820360" cy="3428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7160"/>
              <a:ext cx="8715600" cy="1269720"/>
              <a:chOff x="142560" y="857160"/>
              <a:chExt cx="8715600" cy="126972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71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720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868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경 감소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으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가족이나 사회에 대한 경제적의존성이 높아지는 경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과 교육비 지출은 이전과 유사하거나 오히려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부담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 임금소득 최고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이후 감소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까지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후반의 임금수준 유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그보다 낮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56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58160" cy="6429600"/>
            <a:chOff x="142920" y="71280"/>
            <a:chExt cx="885816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786880" cy="2549520"/>
              <a:chOff x="142920" y="642960"/>
              <a:chExt cx="8786880" cy="254952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00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4996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44000" cy="6000840"/>
            <a:chOff x="0" y="71280"/>
            <a:chExt cx="914400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52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5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1214280"/>
              <a:ext cx="8929800" cy="27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 및 이전소득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중장년기 이후 소득변화와 다른 양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4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1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,58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176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1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92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40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6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4480"/>
            <a:chOff x="142920" y="71280"/>
            <a:chExt cx="8858160" cy="614448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80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2320"/>
              <a:chOff x="142920" y="785520"/>
              <a:chExt cx="8858160" cy="542232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62.2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9400"/>
                <a:ext cx="8715600" cy="2278440"/>
                <a:chOff x="142920" y="392940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940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736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 순으로 지출 비율과 지출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독거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577840"/>
              <a:chOff x="142920" y="785520"/>
              <a:chExt cx="9001080" cy="557784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5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노령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개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미이행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520"/>
                <a:ext cx="8786880" cy="3291840"/>
                <a:chOff x="142920" y="3071520"/>
                <a:chExt cx="8786880" cy="329184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642840"/>
                  <a:ext cx="8644320" cy="27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7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0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평균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로서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기초생활 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17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6.1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 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3.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생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에 불만족한다는 경우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6-55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8-10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0640"/>
                <a:ext cx="8849160" cy="47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productive activity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종합할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개인과 사회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필요한 재화와 서비스를 생산하는 활동’으로 규정함이 타당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2:54:52Z</dcterms:modified>
  <cp:revision>26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