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C22C-CFA5-4BAC-8C55-1AE0683E6E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FE90-2A75-4338-82FE-7C762484379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0E75-81BB-48CA-829B-37F02FCC324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653F-AC9A-45AE-9C02-BB36FC83972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B55D-9EC9-43FC-B7EE-CD5F55BD9E8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D6F8-16D0-442B-AEC4-D7E47304B12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268B3-9AD8-4B12-BCF5-2DE3F6FD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64D0A-1074-4FEA-A784-917CE425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76B15-984E-44F3-A2FB-4AD92FAE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2E660-48A9-46B6-B990-E6D38EEB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E6BCF-66D4-4AF6-8C96-789E57E4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1DEDE-CC08-48C6-BE86-CD1225FE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C87B4-7D3A-4A0D-8AB6-7A67D1B7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73AB2-364A-4E29-8C43-5BD70CE0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73C04-8006-4020-B584-5B29D073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45E64-5AF7-4673-B780-9D3271D2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956F3-0779-4704-A9FF-3E38086D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4006B-E809-4C08-9942-71585965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2FBDB6-8EDA-4031-9DA5-A3DCA009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C45FC-1225-4058-BCA2-884D74FD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3C111F-47DE-438B-817F-467E2B38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B4CBB-8CE2-43BE-9588-AD29C864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E12D23-38E3-42C8-9A41-E9DAE95F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629E47-00D4-44D7-9202-0B73B39C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D664A3-662D-4E99-B57B-FDA624E8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0062D7-5462-4BD8-8ACA-209F2251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37EF34-369D-4B9A-820E-6B870D32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867440-E82C-4298-872C-07163319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AB2C4-8ED6-4C52-A6A1-A8765DCF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806CF4-B379-406E-BD40-5C4FEBA9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3344-4AF6-4BAD-82B2-C4425DA10D3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F44D-517A-4C72-BA51-BA34393B38F4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A690-7BA1-469B-BA7E-5D0207FD7EA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3999-AF88-4188-BCBF-B886D9D0E2C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66FA-1A57-4330-861D-031F0708B77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9369-894D-4C95-96F5-2F814995F59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6E0D-6DD9-419B-90C3-6A46B9DB9509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9001080" cy="6057720"/>
            <a:chOff x="142920" y="142920"/>
            <a:chExt cx="9001080" cy="6057720"/>
          </a:xfrm>
        </p:grpSpPr>
        <p:sp>
          <p:nvSpPr>
            <p:cNvPr id="514" name="AutoShape 2"/>
            <p:cNvSpPr/>
            <p:nvPr/>
          </p:nvSpPr>
          <p:spPr>
            <a:xfrm>
              <a:off x="357120" y="3928680"/>
              <a:ext cx="878688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880" cy="178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5600" cy="2270520"/>
              <a:chOff x="142920" y="785520"/>
              <a:chExt cx="871560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30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786880" cy="2843280"/>
              <a:chOff x="142920" y="3357360"/>
              <a:chExt cx="8786880" cy="284328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285480" y="3972960"/>
                <a:ext cx="864432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 30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8) 41.1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9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4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9.9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.5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.6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0" y="357120"/>
            <a:ext cx="9001080" cy="6357960"/>
            <a:chOff x="0" y="357120"/>
            <a:chExt cx="9001080" cy="635796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64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560" y="357120"/>
              <a:ext cx="8858520" cy="4046400"/>
              <a:chOff x="142560" y="357120"/>
              <a:chExt cx="8858520" cy="404640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560" y="357120"/>
                <a:ext cx="857304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120" y="1093680"/>
                <a:ext cx="8715960" cy="33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.1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2.9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외 기계조작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매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시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3.3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1.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              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5"/>
            <a:stretch/>
          </p:blipFill>
          <p:spPr>
            <a:xfrm>
              <a:off x="0" y="4638600"/>
              <a:ext cx="4857840" cy="20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이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182840"/>
            <a:chOff x="285840" y="603360"/>
            <a:chExt cx="8643960" cy="418284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64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127760"/>
              <a:chOff x="285840" y="603360"/>
              <a:chExt cx="8643960" cy="41277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3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참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의 퇴직자 권리와 의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 및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법에도  불구하고 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대부분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357800"/>
              <a:ext cx="874908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429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하며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4297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50.9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社會的 早老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을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 &amp;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8160"/>
            <a:chOff x="0" y="0"/>
            <a:chExt cx="9144000" cy="642816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560"/>
              <a:ext cx="882036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880"/>
              <a:ext cx="8820360" cy="3428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7160"/>
              <a:ext cx="8715600" cy="1269720"/>
              <a:chOff x="142560" y="857160"/>
              <a:chExt cx="8715600" cy="126972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71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720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868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경 감소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으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가족이나 사회에 대한 경제적의존성이 높아지는 경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과 교육비 지출은 이전과 유사하거나 오히려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부담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 임금소득 최고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이후 감소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까지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후반의 임금수준 유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그보다 낮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56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58160" cy="6429600"/>
            <a:chOff x="142920" y="71280"/>
            <a:chExt cx="885816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786880" cy="2549520"/>
              <a:chOff x="142920" y="642960"/>
              <a:chExt cx="8786880" cy="254952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00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4996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44000" cy="6000840"/>
            <a:chOff x="0" y="71280"/>
            <a:chExt cx="914400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52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5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1214280"/>
              <a:ext cx="8929800" cy="27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 및 이전소득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중장년기 이후 소득변화와 다른 양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4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1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,58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176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1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92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40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6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4480"/>
            <a:chOff x="142920" y="71280"/>
            <a:chExt cx="8858160" cy="614448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80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2320"/>
              <a:chOff x="142920" y="785520"/>
              <a:chExt cx="8858160" cy="542232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62.2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9400"/>
                <a:ext cx="8715600" cy="2278440"/>
                <a:chOff x="142920" y="392940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940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736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 순으로 지출 비율과 지출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독거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577840"/>
              <a:chOff x="142920" y="785520"/>
              <a:chExt cx="9001080" cy="557784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5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노령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개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미이행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520"/>
                <a:ext cx="8786880" cy="3291840"/>
                <a:chOff x="142920" y="3071520"/>
                <a:chExt cx="8786880" cy="329184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642840"/>
                  <a:ext cx="8644320" cy="272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0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평균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로서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기초생활 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17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6.1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 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3.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생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에 불만족한다는 경우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6-5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8-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0640"/>
                <a:ext cx="8849160" cy="47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productive activity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종합할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개인과 사회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필요한 재화와 서비스를 생산하는 활동’으로 규정함이 타당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2:54:52Z</dcterms:modified>
  <cp:revision>265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