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002A-BDE6-4BC1-9723-2320BEBDBF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1882-E6C7-4D16-B34A-AD19141052A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D12E-9214-4400-9214-10B7A9BDB21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FBAA-E55C-4336-882D-A2E81638727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BD0A-CC03-47CF-A4D8-34A20B955FE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3CAE-B92B-4FF4-95AE-6BB661365EA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B86481-B164-4399-8180-490E99CE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D02EFF-5DB7-4F00-855D-7C2884EC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753575-FD7F-4C37-996F-E6429976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ED9F1F-62B7-4C1F-9DC9-4F20C9A0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3EF3F-C884-4906-A19F-93894491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B2B10A-3372-4AEB-9636-7C2232C7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CCA43-51FA-4DFB-9DD4-1C4E1584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E09FDE-71F6-4F8A-8E8B-BA5A2DF9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0C14E-5A29-47C3-AA41-500D9018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7CAB1-205C-482F-98AC-5D28108D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38B383-22CA-461F-BF49-22F39517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D0075-4638-4507-B69A-8ED14D5E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925F3-F30D-4EEF-BB1A-FEA07343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C0E924-4467-4CCD-A3F6-B3825E7D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3C6F3-F3EF-4C9F-90F0-3CD4BD67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55707-9BCE-42AB-891A-306AF077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4ACD71-CADF-49B5-9D63-C6A19712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4B714A-BA50-4A98-9BAC-09825624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D0C46-3305-4CB4-BBA1-57A81244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B84DA5-86C6-47AE-AA9A-CE6FC826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4D7EC7-EF02-4F57-8BB5-688187D2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2C72BC-3927-445A-A977-098A1810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6D4F7-FC6E-4AB7-9640-DC0E22D1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D4AF2-4E7C-4B01-8808-24CB4259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39AC74-0B6B-4129-84A3-E5DF14E6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A0FAF7-85FE-4F82-A3EF-29572CC5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F2D9B5-2D98-497B-AE31-2203B525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C99F9-50DD-4A61-B75B-39C416CA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730F90-2877-4457-9FBD-ED5E5C8C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CFB06E-B717-45B0-9001-4DF9B0BE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71562D-83D7-4013-9948-91B471FB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70823D-EB6E-4BE7-9AB8-7FDAB89C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CCCA15-68CE-499D-915E-757E8887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345F8B-75BE-4ABF-8BA3-7D359B9C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CA7654-7361-4350-8EE2-6FCB0BC8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900F21-46D2-4149-96F1-74B60876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C2EA3-67A0-4F64-AB25-CB9681F2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C0DEB-6E15-4979-B1E3-12C4E9C7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4FE4D-6AA1-4562-BA4D-7CBFC8EA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B1CE0-FF7E-448F-9CF5-ECD6F767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BD0AF-03CF-44B0-998B-8875B23F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96E49-A1A8-4D0A-925E-D73F65F7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6D424-2A15-4196-A7F1-1BD228A6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35C4E-F3CB-45ED-A753-10031E98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B70F6-CC77-490A-9D23-8DF4C22B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485EE-413F-48E3-9F4F-D8694BF2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A413D-BE56-49FF-B8F5-AE94A8D6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4F99E-2A6F-44F2-9797-C73A6BED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0005-24AA-477C-9D0A-9151E3C8DCF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1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906E-B96C-4FC6-B15D-10B1FBF7F3B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2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665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7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669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4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75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C3F9-9C35-4DE1-B90F-AE26002B764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72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2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3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3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B818-484D-4D14-946A-021AB8FD2FF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4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745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7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749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54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755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3A6B-F7F5-4E6E-BDDC-377778A4887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0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0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0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1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1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904D-3541-44C8-B20A-6A3ACDD15AA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5E86-72F7-4392-86B7-C0F5406CA49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86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B4F7-1D5A-46C2-800A-83572DC8C65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A846-2DDE-49CC-95FA-DF2927DC0144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0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EC11-1823-4F0D-A3E2-199CA7DE0A1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4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5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5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6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D0FF-484E-4833-9AB9-D1B3A145202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74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6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78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84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D7AE-63E8-4B96-9A47-36BA54AEBF0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2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B5A3-5982-43F1-A650-7BE78DC9E4E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9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0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0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A6AA-0BDD-4E42-A72B-BCCA4AA6BE2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5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6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357F-E1A4-45DE-828E-A81BE09149F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81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3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5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91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C863-5723-43C6-AB2D-B3A9B46CD2B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4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4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77D6-7120-4875-BF42-54D26BA9BE7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4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163080" cy="280368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9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장 노년기의 삶의 이면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(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裏面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)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그룹 7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pic>
          <p:nvPicPr>
            <p:cNvPr id="10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AutoShape 7"/>
            <p:cNvSpPr/>
            <p:nvPr/>
          </p:nvSpPr>
          <p:spPr>
            <a:xfrm>
              <a:off x="285480" y="107136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성에 대한 편견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9" name="그룹 20"/>
            <p:cNvGrpSpPr/>
            <p:nvPr/>
          </p:nvGrpSpPr>
          <p:grpSpPr>
            <a:xfrm>
              <a:off x="285480" y="1785960"/>
              <a:ext cx="8750520" cy="4429080"/>
              <a:chOff x="285480" y="1785960"/>
              <a:chExt cx="8750520" cy="4429080"/>
            </a:xfrm>
          </p:grpSpPr>
          <p:sp>
            <p:nvSpPr>
              <p:cNvPr id="1050" name="AutoShape 2"/>
              <p:cNvSpPr/>
              <p:nvPr/>
            </p:nvSpPr>
            <p:spPr>
              <a:xfrm>
                <a:off x="285480" y="1785960"/>
                <a:ext cx="8750520" cy="4429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1" name="Text Box 25"/>
              <p:cNvSpPr/>
              <p:nvPr/>
            </p:nvSpPr>
            <p:spPr>
              <a:xfrm>
                <a:off x="428040" y="1896840"/>
                <a:ext cx="8602920" cy="42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aboo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 해왔으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9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性談論이 본격화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아그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어도 좋아’ 이후 노년기의 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학술적 연구성과는 미미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인 뿐 아니라 노인복지전문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나 현장 종사자들 역시 노년기 성에 대한 편견은 갖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명 연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 증가로 노년기 성에 대한 관심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편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에게 성은 중요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이 성에 관심을 갖는 것은 비정상적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관심을 표현하는 노인은 음란한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욕이 없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無性的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적 욕구가 있어도 실제 성행위를 하기에는 허약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2" name="Rectangle 2"/>
            <p:cNvSpPr/>
            <p:nvPr/>
          </p:nvSpPr>
          <p:spPr>
            <a:xfrm>
              <a:off x="150012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년기의 성생활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그룹 10"/>
          <p:cNvGrpSpPr/>
          <p:nvPr/>
        </p:nvGrpSpPr>
        <p:grpSpPr>
          <a:xfrm>
            <a:off x="285840" y="79200"/>
            <a:ext cx="8643960" cy="6278760"/>
            <a:chOff x="285840" y="79200"/>
            <a:chExt cx="8643960" cy="6278760"/>
          </a:xfrm>
        </p:grpSpPr>
        <p:grpSp>
          <p:nvGrpSpPr>
            <p:cNvPr id="1054" name="그룹 11"/>
            <p:cNvGrpSpPr/>
            <p:nvPr/>
          </p:nvGrpSpPr>
          <p:grpSpPr>
            <a:xfrm>
              <a:off x="285840" y="714240"/>
              <a:ext cx="8643960" cy="1857240"/>
              <a:chOff x="285840" y="714240"/>
              <a:chExt cx="8643960" cy="1857240"/>
            </a:xfrm>
          </p:grpSpPr>
          <p:sp>
            <p:nvSpPr>
              <p:cNvPr id="1055" name="AutoShape 2"/>
              <p:cNvSpPr/>
              <p:nvPr/>
            </p:nvSpPr>
            <p:spPr>
              <a:xfrm>
                <a:off x="285840" y="1071360"/>
                <a:ext cx="864396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6" name="Text Box 6"/>
              <p:cNvSpPr/>
              <p:nvPr/>
            </p:nvSpPr>
            <p:spPr>
              <a:xfrm>
                <a:off x="357120" y="1071360"/>
                <a:ext cx="7643880" cy="14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x, sexuality, gender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세가지 개념을 포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해부학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리적 측면의 신체 및 생식기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uality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관계 등의 성행동과 사회적 성관습을 포괄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gender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출생 이후 사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환경에 의해 학습된 후천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7" name="직사각형 7"/>
              <p:cNvSpPr/>
              <p:nvPr/>
            </p:nvSpPr>
            <p:spPr>
              <a:xfrm>
                <a:off x="285840" y="7142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의 개념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8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의 성적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59" name="그룹 15"/>
            <p:cNvGrpSpPr/>
            <p:nvPr/>
          </p:nvGrpSpPr>
          <p:grpSpPr>
            <a:xfrm>
              <a:off x="285840" y="2705040"/>
              <a:ext cx="8643960" cy="3652920"/>
              <a:chOff x="285840" y="2705040"/>
              <a:chExt cx="8643960" cy="3652920"/>
            </a:xfrm>
          </p:grpSpPr>
          <p:sp>
            <p:nvSpPr>
              <p:cNvPr id="1060" name="AutoShape 2"/>
              <p:cNvSpPr/>
              <p:nvPr/>
            </p:nvSpPr>
            <p:spPr>
              <a:xfrm>
                <a:off x="285840" y="3063960"/>
                <a:ext cx="8643960" cy="329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1" name="Text Box 6"/>
              <p:cNvSpPr/>
              <p:nvPr/>
            </p:nvSpPr>
            <p:spPr>
              <a:xfrm>
                <a:off x="357120" y="3136680"/>
                <a:ext cx="8143920" cy="29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기능의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30-40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대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폐경과 함께 성교시 통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감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5-25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세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발기와 사정 능력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기능에 부정적 영향을 미치는 요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물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장병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관절염 등의 만성질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행위 자체에 대한 불안과 실패공포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죄의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료함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나친 음주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파트너와의 사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녀의 재혼 반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 및 종교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이유로 인한 성적 억압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 성에 대한 사회적 편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2" name="직사각형 18"/>
              <p:cNvSpPr/>
              <p:nvPr/>
            </p:nvSpPr>
            <p:spPr>
              <a:xfrm>
                <a:off x="285840" y="2705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적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그룹 5"/>
          <p:cNvGrpSpPr/>
          <p:nvPr/>
        </p:nvGrpSpPr>
        <p:grpSpPr>
          <a:xfrm>
            <a:off x="285840" y="285840"/>
            <a:ext cx="8786880" cy="6000840"/>
            <a:chOff x="285840" y="285840"/>
            <a:chExt cx="8786880" cy="6000840"/>
          </a:xfrm>
        </p:grpSpPr>
        <p:grpSp>
          <p:nvGrpSpPr>
            <p:cNvPr id="1064" name="그룹 20"/>
            <p:cNvGrpSpPr/>
            <p:nvPr/>
          </p:nvGrpSpPr>
          <p:grpSpPr>
            <a:xfrm>
              <a:off x="357120" y="928800"/>
              <a:ext cx="8715600" cy="5357880"/>
              <a:chOff x="357120" y="928800"/>
              <a:chExt cx="8715600" cy="5357880"/>
            </a:xfrm>
          </p:grpSpPr>
          <p:sp>
            <p:nvSpPr>
              <p:cNvPr id="1065" name="AutoShape 2"/>
              <p:cNvSpPr/>
              <p:nvPr/>
            </p:nvSpPr>
            <p:spPr>
              <a:xfrm>
                <a:off x="357120" y="928800"/>
                <a:ext cx="8644320" cy="5357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6" name="Text Box 25"/>
              <p:cNvSpPr/>
              <p:nvPr/>
            </p:nvSpPr>
            <p:spPr>
              <a:xfrm>
                <a:off x="604440" y="1206360"/>
                <a:ext cx="8468280" cy="46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기존 연구는 많지 않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사대상 등 조사연구 한계 많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증가에 따라 성기능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관심과 욕구를 지니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지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이상이 노년기의 성생활이 중요하다고 생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7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 포함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비율 더 높아질 것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해결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1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9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의 애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 등 신체노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눈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감의 쇠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용품 등 구입 사용한 경험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/2, 1/5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상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36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기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교육 및 상담 필요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5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성문제 해결 과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신의 성에 대한 태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교육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기관의 확대를 통한 재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성교제 및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 상담과 정보제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학 등의 체계적 연구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67" name="AutoShape 7"/>
            <p:cNvSpPr/>
            <p:nvPr/>
          </p:nvSpPr>
          <p:spPr>
            <a:xfrm>
              <a:off x="285840" y="285840"/>
              <a:ext cx="48578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년기의 성생활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그룹 10"/>
          <p:cNvGrpSpPr/>
          <p:nvPr/>
        </p:nvGrpSpPr>
        <p:grpSpPr>
          <a:xfrm>
            <a:off x="0" y="0"/>
            <a:ext cx="9501120" cy="6357600"/>
            <a:chOff x="0" y="0"/>
            <a:chExt cx="9501120" cy="6357600"/>
          </a:xfrm>
        </p:grpSpPr>
        <p:pic>
          <p:nvPicPr>
            <p:cNvPr id="106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인권과 노인학대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71" name="그룹 34"/>
            <p:cNvGrpSpPr/>
            <p:nvPr/>
          </p:nvGrpSpPr>
          <p:grpSpPr>
            <a:xfrm>
              <a:off x="285480" y="1785600"/>
              <a:ext cx="8643960" cy="4572000"/>
              <a:chOff x="285480" y="1785600"/>
              <a:chExt cx="8643960" cy="4572000"/>
            </a:xfrm>
          </p:grpSpPr>
          <p:sp>
            <p:nvSpPr>
              <p:cNvPr id="1072" name="AutoShape 2"/>
              <p:cNvSpPr/>
              <p:nvPr/>
            </p:nvSpPr>
            <p:spPr>
              <a:xfrm>
                <a:off x="285480" y="2384280"/>
                <a:ext cx="8643960" cy="3973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3" name="AutoShape 4"/>
              <p:cNvSpPr/>
              <p:nvPr/>
            </p:nvSpPr>
            <p:spPr>
              <a:xfrm>
                <a:off x="428040" y="1785600"/>
                <a:ext cx="32148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인권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4" name="Text Box 6"/>
              <p:cNvSpPr/>
              <p:nvPr/>
            </p:nvSpPr>
            <p:spPr>
              <a:xfrm>
                <a:off x="499680" y="2594880"/>
                <a:ext cx="842976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Righ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는 옳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떤 것을 요구할 자격의 의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은 것 요구 자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으로서 갖는 본질적이고 선천적 권리로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 존업성을 인정받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답게 살아가는데 필요한 모든 권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2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대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이 인간답게 노후생활을 영위할 수 있는 권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의 영역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존엄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절차적 권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 인권보호지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노인 인권 보호 소극적 개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제도 미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최근 시설인권 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전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 연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종사자 등의 교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법적 기반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옴부즈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금지법 제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관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right-based approach; RBA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에 근거한 노인복지실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역량강화 실천 확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네트워크 구축과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옹호사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5" name="그룹 15"/>
            <p:cNvGrpSpPr/>
            <p:nvPr/>
          </p:nvGrpSpPr>
          <p:grpSpPr>
            <a:xfrm>
              <a:off x="285480" y="785520"/>
              <a:ext cx="8643960" cy="857160"/>
              <a:chOff x="285480" y="785520"/>
              <a:chExt cx="8643960" cy="857160"/>
            </a:xfrm>
          </p:grpSpPr>
          <p:sp>
            <p:nvSpPr>
              <p:cNvPr id="1076" name="AutoShape 2"/>
              <p:cNvSpPr/>
              <p:nvPr/>
            </p:nvSpPr>
            <p:spPr>
              <a:xfrm>
                <a:off x="285480" y="785520"/>
                <a:ext cx="864396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7" name="Text Box 6"/>
              <p:cNvSpPr/>
              <p:nvPr/>
            </p:nvSpPr>
            <p:spPr>
              <a:xfrm>
                <a:off x="428040" y="799560"/>
                <a:ext cx="778680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통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孝有參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尊親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不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能養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vs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현대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ageis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운동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학대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1079" name="AutoShape 2"/>
            <p:cNvSpPr/>
            <p:nvPr/>
          </p:nvSpPr>
          <p:spPr>
            <a:xfrm>
              <a:off x="142920" y="928440"/>
              <a:ext cx="88581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80" name="그룹 10"/>
            <p:cNvGrpSpPr/>
            <p:nvPr/>
          </p:nvGrpSpPr>
          <p:grpSpPr>
            <a:xfrm>
              <a:off x="285480" y="142920"/>
              <a:ext cx="8643960" cy="6079680"/>
              <a:chOff x="285480" y="142920"/>
              <a:chExt cx="8643960" cy="6079680"/>
            </a:xfrm>
          </p:grpSpPr>
          <p:sp>
            <p:nvSpPr>
              <p:cNvPr id="1081" name="AutoShape 4"/>
              <p:cNvSpPr/>
              <p:nvPr/>
            </p:nvSpPr>
            <p:spPr>
              <a:xfrm>
                <a:off x="285480" y="142920"/>
                <a:ext cx="41432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차별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2" name="Text Box 6"/>
              <p:cNvSpPr/>
              <p:nvPr/>
            </p:nvSpPr>
            <p:spPr>
              <a:xfrm>
                <a:off x="285480" y="1095480"/>
                <a:ext cx="8643960" cy="51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사회적 편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로 인하여 노인은 종속적 지위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, stereotype, prejudice, discriminati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용어 사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연령층에 대해 일방적 편견을 갖거나 이에 상응하는 차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차별의 한 형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원인적 요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식과 기술의 낙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동시장과 부의 분배에서 소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보수적 가치관이 현대적 가치와 불일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화의 부정적 측면이 강조되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강점은 무시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이 심각하며 만연해 있다는 연구와 전반적인 노인차별의 수준이 아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각하지 않다는 연구가 동시에 존재하나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 심화에 의견 접근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고용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복지정책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육 차별 등 공공부문의 차별 엄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 스스로도 권리 요구보다는 차별적 사고를 받아들이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차별에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인차별 완화 방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스스로의 노력과 제도적 장치의 마련과 연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그룹 29"/>
          <p:cNvGrpSpPr/>
          <p:nvPr/>
        </p:nvGrpSpPr>
        <p:grpSpPr>
          <a:xfrm>
            <a:off x="179280" y="27000"/>
            <a:ext cx="8750520" cy="6402240"/>
            <a:chOff x="179280" y="27000"/>
            <a:chExt cx="8750520" cy="6402240"/>
          </a:xfrm>
        </p:grpSpPr>
        <p:grpSp>
          <p:nvGrpSpPr>
            <p:cNvPr id="1084" name="그룹 18"/>
            <p:cNvGrpSpPr/>
            <p:nvPr/>
          </p:nvGrpSpPr>
          <p:grpSpPr>
            <a:xfrm>
              <a:off x="179280" y="27000"/>
              <a:ext cx="8750520" cy="984240"/>
              <a:chOff x="179280" y="27000"/>
              <a:chExt cx="8750520" cy="984240"/>
            </a:xfrm>
          </p:grpSpPr>
          <p:sp>
            <p:nvSpPr>
              <p:cNvPr id="1085" name="AutoShape 2"/>
              <p:cNvSpPr/>
              <p:nvPr/>
            </p:nvSpPr>
            <p:spPr>
              <a:xfrm>
                <a:off x="217080" y="57132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6" name="Text Box 25"/>
              <p:cNvSpPr/>
              <p:nvPr/>
            </p:nvSpPr>
            <p:spPr>
              <a:xfrm>
                <a:off x="288360" y="642960"/>
                <a:ext cx="864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은 권리 찾기를 위한 사회운동을 전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은 소극적 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7" name="AutoShape 4"/>
              <p:cNvSpPr/>
              <p:nvPr/>
            </p:nvSpPr>
            <p:spPr>
              <a:xfrm>
                <a:off x="179280" y="27000"/>
                <a:ext cx="3643560" cy="544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권익운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88" name="그룹 11"/>
            <p:cNvGrpSpPr/>
            <p:nvPr/>
          </p:nvGrpSpPr>
          <p:grpSpPr>
            <a:xfrm>
              <a:off x="213840" y="1000080"/>
              <a:ext cx="8644320" cy="1055520"/>
              <a:chOff x="213840" y="1000080"/>
              <a:chExt cx="8644320" cy="1055520"/>
            </a:xfrm>
          </p:grpSpPr>
          <p:sp>
            <p:nvSpPr>
              <p:cNvPr id="1089" name="AutoShape 2"/>
              <p:cNvSpPr/>
              <p:nvPr/>
            </p:nvSpPr>
            <p:spPr>
              <a:xfrm>
                <a:off x="213840" y="1356480"/>
                <a:ext cx="8644320" cy="66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0" name="Text Box 6"/>
              <p:cNvSpPr/>
              <p:nvPr/>
            </p:nvSpPr>
            <p:spPr>
              <a:xfrm>
                <a:off x="213840" y="1356840"/>
                <a:ext cx="85730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안정된 삶과 복리증진에 방해가 되는 기존의 사회관계를 변화시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려는 집합적 노력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운동의 하위 유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1" name="직사각형 17"/>
              <p:cNvSpPr/>
              <p:nvPr/>
            </p:nvSpPr>
            <p:spPr>
              <a:xfrm>
                <a:off x="213840" y="100008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권익운동의 개념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92" name="AutoShape 2"/>
            <p:cNvSpPr/>
            <p:nvPr/>
          </p:nvSpPr>
          <p:spPr>
            <a:xfrm>
              <a:off x="285480" y="2428920"/>
              <a:ext cx="864432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3" name="Text Box 6"/>
            <p:cNvSpPr/>
            <p:nvPr/>
          </p:nvSpPr>
          <p:spPr>
            <a:xfrm>
              <a:off x="285480" y="2428920"/>
              <a:ext cx="857304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운동의 성공 조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기관의 개방성과 안정적인 정치적 제휴 및 정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 결속력 등의 정치적 기회구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탁월한 내적 리더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내적 결속력과 역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재 노인권익운동은 성공 조건을 갖추지 못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관련단체는 권익옹호 한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미국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ARP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본의 전국노인클럽연합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럽국가는 적극적 권익운동 전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향후 노인권익단체는 노인에게 유리하도록 여론을 유도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정책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련하여 정치권과 협상을 적극 전개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책형성과 집행과정에 적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여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에게 불리한 판결을 하는 사법부에 대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척운동 등 역량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4" name="직사각형 24"/>
            <p:cNvSpPr/>
            <p:nvPr/>
          </p:nvSpPr>
          <p:spPr>
            <a:xfrm>
              <a:off x="213840" y="207144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권익운동의 가능성과 현실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5" name="그룹 15"/>
            <p:cNvGrpSpPr/>
            <p:nvPr/>
          </p:nvGrpSpPr>
          <p:grpSpPr>
            <a:xfrm>
              <a:off x="285480" y="4929120"/>
              <a:ext cx="8644320" cy="1500120"/>
              <a:chOff x="285480" y="4929120"/>
              <a:chExt cx="8644320" cy="1500120"/>
            </a:xfrm>
          </p:grpSpPr>
          <p:sp>
            <p:nvSpPr>
              <p:cNvPr id="1096" name="AutoShape 2"/>
              <p:cNvSpPr/>
              <p:nvPr/>
            </p:nvSpPr>
            <p:spPr>
              <a:xfrm>
                <a:off x="285480" y="5288040"/>
                <a:ext cx="8644320" cy="1141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7" name="Text Box 6"/>
              <p:cNvSpPr/>
              <p:nvPr/>
            </p:nvSpPr>
            <p:spPr>
              <a:xfrm>
                <a:off x="285480" y="5295600"/>
                <a:ext cx="8644320" cy="11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권리에 대한 의식이 낮고 응집력이 낮은 문제점 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14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과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베이비붐 세대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노인이 되면 노인권익운동이 활성화될 것으로 예측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적 기회구조의 확대 등과 같은 다양한 노력이 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15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8" name="직사각형 28"/>
              <p:cNvSpPr/>
              <p:nvPr/>
            </p:nvSpPr>
            <p:spPr>
              <a:xfrm>
                <a:off x="285480" y="492912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권익운동의 문제점과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그룹 29"/>
          <p:cNvGrpSpPr/>
          <p:nvPr/>
        </p:nvGrpSpPr>
        <p:grpSpPr>
          <a:xfrm>
            <a:off x="214200" y="142920"/>
            <a:ext cx="8715600" cy="6165720"/>
            <a:chOff x="214200" y="142920"/>
            <a:chExt cx="8715600" cy="6165720"/>
          </a:xfrm>
        </p:grpSpPr>
        <p:grpSp>
          <p:nvGrpSpPr>
            <p:cNvPr id="1100" name="그룹 18"/>
            <p:cNvGrpSpPr/>
            <p:nvPr/>
          </p:nvGrpSpPr>
          <p:grpSpPr>
            <a:xfrm>
              <a:off x="214200" y="142920"/>
              <a:ext cx="8715600" cy="988920"/>
              <a:chOff x="214200" y="142920"/>
              <a:chExt cx="8715600" cy="988920"/>
            </a:xfrm>
          </p:grpSpPr>
          <p:sp>
            <p:nvSpPr>
              <p:cNvPr id="1101" name="AutoShape 2"/>
              <p:cNvSpPr/>
              <p:nvPr/>
            </p:nvSpPr>
            <p:spPr>
              <a:xfrm>
                <a:off x="217080" y="69588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2" name="Text Box 25"/>
              <p:cNvSpPr/>
              <p:nvPr/>
            </p:nvSpPr>
            <p:spPr>
              <a:xfrm>
                <a:off x="288720" y="763560"/>
                <a:ext cx="86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인권보호를 위한 실천방안은 성년후견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옴부즈맨제도가 대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3" name="AutoShape 4"/>
              <p:cNvSpPr/>
              <p:nvPr/>
            </p:nvSpPr>
            <p:spPr>
              <a:xfrm>
                <a:off x="214200" y="142920"/>
                <a:ext cx="61581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성년후견제도와 노인복지 옴부즈맨 제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04" name="그룹 11"/>
            <p:cNvGrpSpPr/>
            <p:nvPr/>
          </p:nvGrpSpPr>
          <p:grpSpPr>
            <a:xfrm>
              <a:off x="214200" y="1217520"/>
              <a:ext cx="8644320" cy="5091120"/>
              <a:chOff x="214200" y="1217520"/>
              <a:chExt cx="8644320" cy="5091120"/>
            </a:xfrm>
          </p:grpSpPr>
          <p:sp>
            <p:nvSpPr>
              <p:cNvPr id="1105" name="AutoShape 2"/>
              <p:cNvSpPr/>
              <p:nvPr/>
            </p:nvSpPr>
            <p:spPr>
              <a:xfrm>
                <a:off x="214200" y="1556280"/>
                <a:ext cx="8644320" cy="4752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6" name="Text Box 6"/>
              <p:cNvSpPr/>
              <p:nvPr/>
            </p:nvSpPr>
            <p:spPr>
              <a:xfrm>
                <a:off x="214200" y="1671480"/>
                <a:ext cx="8573040" cy="45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판단능력이 상실 또는 불완전한 사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인의 도움을 받아 본인의 잔존능력을 이용하여 스스로 일상생활을 유지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 있도록 사회복지서비스 및 재산관리와 같은 사무처리를 지원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이념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결정권 존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존능력의 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원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생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피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자신의 행위의 의미나 결과를 합리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할 수 있는 능력 등이 결여되어 단독으로 유효한 법률행위를 할 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없는 행위무능력자로 가정법원의 심판을 받는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후견인에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인 후견 사무를 하는 사람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근친의 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외에 법률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인 등의 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가 후견인이 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후견감독인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인의 사무처리를 감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제도의 유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와 임의후견제도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-8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법원이 피후견인의 판단능력을 고려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정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후견 등의 유형을 판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의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 미리 후견인을 지정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내용 등을 공정증서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성하여 등기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원에 신청하여 임의후견감독인을 선임하면 효력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7" name="직사각형 17"/>
              <p:cNvSpPr/>
              <p:nvPr/>
            </p:nvSpPr>
            <p:spPr>
              <a:xfrm>
                <a:off x="214200" y="12175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성년후견제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그룹 11"/>
          <p:cNvGrpSpPr/>
          <p:nvPr/>
        </p:nvGrpSpPr>
        <p:grpSpPr>
          <a:xfrm>
            <a:off x="214200" y="404640"/>
            <a:ext cx="8750520" cy="5890680"/>
            <a:chOff x="214200" y="404640"/>
            <a:chExt cx="8750520" cy="5890680"/>
          </a:xfrm>
        </p:grpSpPr>
        <p:sp>
          <p:nvSpPr>
            <p:cNvPr id="1109" name="AutoShape 2"/>
            <p:cNvSpPr/>
            <p:nvPr/>
          </p:nvSpPr>
          <p:spPr>
            <a:xfrm>
              <a:off x="214200" y="836640"/>
              <a:ext cx="864432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0" name="Text Box 6"/>
            <p:cNvSpPr/>
            <p:nvPr/>
          </p:nvSpPr>
          <p:spPr>
            <a:xfrm>
              <a:off x="391680" y="907920"/>
              <a:ext cx="8573040" cy="53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필요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설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행정지도감독에도 불구하고 부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별적 서비스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인권침해 사례가 발생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908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스웨덴의 의회옴부즈맨에서 시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암행어사제도는 행정옴부즈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.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국내에서는 아직 노인복지 옴부즈맨 제도 미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민의 이익을 위하여 정부활동을 점검하고 부적절한 정부활동으로 인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한 시민의 불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권침해 사례를 조사 보고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의 해결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돕는 법적 신분이 보장된 공무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민간조직에서도 조직옴부즈맨제도를 활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당사자형 옴부즈맨도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도적 권력에 의한 고충의 발견과 조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절한 고충 해결책을 발견하여 조직의 개선노력을 권고하는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대리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간창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마지막 의뢰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 옴부즈맨의 권리와 의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321-322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행동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독립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립성과 공정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뢰성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고충처리 과정과 절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1" name="직사각형 17"/>
            <p:cNvSpPr/>
            <p:nvPr/>
          </p:nvSpPr>
          <p:spPr>
            <a:xfrm>
              <a:off x="214200" y="404640"/>
              <a:ext cx="5643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노인복지 옴부즈맨 제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그룹 10"/>
          <p:cNvGrpSpPr/>
          <p:nvPr/>
        </p:nvGrpSpPr>
        <p:grpSpPr>
          <a:xfrm>
            <a:off x="285840" y="79200"/>
            <a:ext cx="8643960" cy="6350040"/>
            <a:chOff x="285840" y="79200"/>
            <a:chExt cx="8643960" cy="6350040"/>
          </a:xfrm>
        </p:grpSpPr>
        <p:grpSp>
          <p:nvGrpSpPr>
            <p:cNvPr id="1113" name="그룹 11"/>
            <p:cNvGrpSpPr/>
            <p:nvPr/>
          </p:nvGrpSpPr>
          <p:grpSpPr>
            <a:xfrm>
              <a:off x="285840" y="713880"/>
              <a:ext cx="8643960" cy="2481120"/>
              <a:chOff x="285840" y="713880"/>
              <a:chExt cx="8643960" cy="2481120"/>
            </a:xfrm>
          </p:grpSpPr>
          <p:sp>
            <p:nvSpPr>
              <p:cNvPr id="1114" name="AutoShape 2"/>
              <p:cNvSpPr/>
              <p:nvPr/>
            </p:nvSpPr>
            <p:spPr>
              <a:xfrm>
                <a:off x="285840" y="1071000"/>
                <a:ext cx="8643960" cy="212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5" name="Text Box 6"/>
              <p:cNvSpPr/>
              <p:nvPr/>
            </p:nvSpPr>
            <p:spPr>
              <a:xfrm>
                <a:off x="357120" y="1071000"/>
                <a:ext cx="8572680" cy="20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abuse, abandonment, neglect, exploitation, maltreatment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bus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가장 많이 사용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의의 학대 개념을 따르는 추세를 반영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maltreatment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사용하는 경우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가정이나 전문시설의 모든 관계에서 발생하는 노인에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가 되거나 장애를 일으킬 수 있는 일회성이거나 반복적 행동 또는 적절한 행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6" name="직사각형 7"/>
              <p:cNvSpPr/>
              <p:nvPr/>
            </p:nvSpPr>
            <p:spPr>
              <a:xfrm>
                <a:off x="285840" y="71388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17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학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18" name="그룹 15"/>
            <p:cNvGrpSpPr/>
            <p:nvPr/>
          </p:nvGrpSpPr>
          <p:grpSpPr>
            <a:xfrm>
              <a:off x="285840" y="3348000"/>
              <a:ext cx="8643960" cy="3081240"/>
              <a:chOff x="285840" y="3348000"/>
              <a:chExt cx="8643960" cy="3081240"/>
            </a:xfrm>
          </p:grpSpPr>
          <p:sp>
            <p:nvSpPr>
              <p:cNvPr id="1119" name="AutoShape 2"/>
              <p:cNvSpPr/>
              <p:nvPr/>
            </p:nvSpPr>
            <p:spPr>
              <a:xfrm>
                <a:off x="285840" y="3706920"/>
                <a:ext cx="8643960" cy="272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0" name="Text Box 6"/>
              <p:cNvSpPr/>
              <p:nvPr/>
            </p:nvSpPr>
            <p:spPr>
              <a:xfrm>
                <a:off x="357120" y="3714480"/>
                <a:ext cx="850140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의 하위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인권침해 등으로 구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소에 따라서는 가정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 방임으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로 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에 대한 표준적 기준이 합의되지 않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마다 학대의 범주와 하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형이 다른 실정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1" name="직사각형 18"/>
              <p:cNvSpPr/>
              <p:nvPr/>
            </p:nvSpPr>
            <p:spPr>
              <a:xfrm>
                <a:off x="285840" y="334800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유형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그룹 18"/>
          <p:cNvGrpSpPr/>
          <p:nvPr/>
        </p:nvGrpSpPr>
        <p:grpSpPr>
          <a:xfrm>
            <a:off x="285840" y="500040"/>
            <a:ext cx="8858160" cy="5857920"/>
            <a:chOff x="285840" y="500040"/>
            <a:chExt cx="8858160" cy="5857920"/>
          </a:xfrm>
        </p:grpSpPr>
        <p:sp>
          <p:nvSpPr>
            <p:cNvPr id="1123" name="AutoShape 2"/>
            <p:cNvSpPr/>
            <p:nvPr/>
          </p:nvSpPr>
          <p:spPr>
            <a:xfrm>
              <a:off x="285840" y="928440"/>
              <a:ext cx="83739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4" name="Text Box 6"/>
            <p:cNvSpPr/>
            <p:nvPr/>
          </p:nvSpPr>
          <p:spPr>
            <a:xfrm>
              <a:off x="631800" y="1000080"/>
              <a:ext cx="8512200" cy="53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구사회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이 자녀 동거하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건강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제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심리적 기능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지기능이 낮은 노인→ 부양스트레스→ 학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여유가 없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습된 무기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낮은 자존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생을 실패로 규정하고 타인에 불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족 상황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와 심리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이나 유기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 부양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의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절제하고 충동적 성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애가 있는 경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양 스트레스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전에 관계가 원만치 못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의 결속과 지지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가족학대가 있는 경우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회관계망 및 사회문화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적 관계망과의 관계가 나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지 수준이 낮을수록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서비스 체계 미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차별주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가족주의의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5" name="직사각형 4"/>
            <p:cNvSpPr/>
            <p:nvPr/>
          </p:nvSpPr>
          <p:spPr>
            <a:xfrm>
              <a:off x="285840" y="500040"/>
              <a:ext cx="3944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의 위험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938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9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40" name="Line 9"/>
          <p:cNvSpPr/>
          <p:nvPr/>
        </p:nvSpPr>
        <p:spPr>
          <a:xfrm>
            <a:off x="0" y="3857760"/>
            <a:ext cx="100008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V="1">
            <a:off x="0" y="3571920"/>
            <a:ext cx="1000080" cy="2858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H="1">
            <a:off x="-360" y="2928960"/>
            <a:ext cx="857160" cy="928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0" y="3857760"/>
            <a:ext cx="857160" cy="11491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 flipV="1">
            <a:off x="0" y="2071800"/>
            <a:ext cx="857160" cy="17143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142920" y="996840"/>
            <a:ext cx="15001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9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삶의 이면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947" name="그룹 58"/>
          <p:cNvGrpSpPr/>
          <p:nvPr/>
        </p:nvGrpSpPr>
        <p:grpSpPr>
          <a:xfrm>
            <a:off x="642960" y="1571760"/>
            <a:ext cx="7786800" cy="4786200"/>
            <a:chOff x="642960" y="1571760"/>
            <a:chExt cx="7786800" cy="4786200"/>
          </a:xfrm>
        </p:grpSpPr>
        <p:sp>
          <p:nvSpPr>
            <p:cNvPr id="948" name="Rectangle 42"/>
            <p:cNvSpPr/>
            <p:nvPr/>
          </p:nvSpPr>
          <p:spPr>
            <a:xfrm>
              <a:off x="5880960" y="6045480"/>
              <a:ext cx="1609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>
              <a:off x="1404720" y="1571760"/>
              <a:ext cx="6991560" cy="595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죽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자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별과 애도과정의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50" name="Group 14"/>
            <p:cNvGrpSpPr/>
            <p:nvPr/>
          </p:nvGrpSpPr>
          <p:grpSpPr>
            <a:xfrm>
              <a:off x="642960" y="1624320"/>
              <a:ext cx="681120" cy="635040"/>
              <a:chOff x="642960" y="1624320"/>
              <a:chExt cx="681120" cy="63504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659880" y="162432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2" name="Oval 16"/>
              <p:cNvSpPr/>
              <p:nvPr/>
            </p:nvSpPr>
            <p:spPr>
              <a:xfrm>
                <a:off x="659880" y="1626120"/>
                <a:ext cx="618120" cy="631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698760" y="1630080"/>
                <a:ext cx="55224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8"/>
              <p:cNvSpPr/>
              <p:nvPr/>
            </p:nvSpPr>
            <p:spPr>
              <a:xfrm>
                <a:off x="642960" y="16318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4"/>
            <p:cNvGrpSpPr/>
            <p:nvPr/>
          </p:nvGrpSpPr>
          <p:grpSpPr>
            <a:xfrm>
              <a:off x="642960" y="2456640"/>
              <a:ext cx="681120" cy="635040"/>
              <a:chOff x="642960" y="2456640"/>
              <a:chExt cx="681120" cy="635040"/>
            </a:xfrm>
          </p:grpSpPr>
          <p:sp>
            <p:nvSpPr>
              <p:cNvPr id="956" name="Oval 15"/>
              <p:cNvSpPr/>
              <p:nvPr/>
            </p:nvSpPr>
            <p:spPr>
              <a:xfrm>
                <a:off x="659880" y="245664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16"/>
              <p:cNvSpPr/>
              <p:nvPr/>
            </p:nvSpPr>
            <p:spPr>
              <a:xfrm>
                <a:off x="659880" y="245844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698760" y="246240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18"/>
              <p:cNvSpPr/>
              <p:nvPr/>
            </p:nvSpPr>
            <p:spPr>
              <a:xfrm>
                <a:off x="642960" y="246564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4"/>
            <p:cNvGrpSpPr/>
            <p:nvPr/>
          </p:nvGrpSpPr>
          <p:grpSpPr>
            <a:xfrm>
              <a:off x="642960" y="3290400"/>
              <a:ext cx="681120" cy="635040"/>
              <a:chOff x="642960" y="3290400"/>
              <a:chExt cx="681120" cy="635040"/>
            </a:xfrm>
          </p:grpSpPr>
          <p:sp>
            <p:nvSpPr>
              <p:cNvPr id="961" name="Oval 15"/>
              <p:cNvSpPr/>
              <p:nvPr/>
            </p:nvSpPr>
            <p:spPr>
              <a:xfrm>
                <a:off x="659880" y="329040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2" name="Oval 16"/>
              <p:cNvSpPr/>
              <p:nvPr/>
            </p:nvSpPr>
            <p:spPr>
              <a:xfrm>
                <a:off x="659880" y="329220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698760" y="329616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Text Box 18"/>
              <p:cNvSpPr/>
              <p:nvPr/>
            </p:nvSpPr>
            <p:spPr>
              <a:xfrm>
                <a:off x="642960" y="329400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4"/>
            <p:cNvGrpSpPr/>
            <p:nvPr/>
          </p:nvGrpSpPr>
          <p:grpSpPr>
            <a:xfrm>
              <a:off x="642960" y="4123080"/>
              <a:ext cx="681120" cy="635040"/>
              <a:chOff x="642960" y="4123080"/>
              <a:chExt cx="681120" cy="635040"/>
            </a:xfrm>
          </p:grpSpPr>
          <p:sp>
            <p:nvSpPr>
              <p:cNvPr id="966" name="Oval 15"/>
              <p:cNvSpPr/>
              <p:nvPr/>
            </p:nvSpPr>
            <p:spPr>
              <a:xfrm>
                <a:off x="659880" y="41230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59880" y="41248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698760" y="41288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Text Box 18"/>
              <p:cNvSpPr/>
              <p:nvPr/>
            </p:nvSpPr>
            <p:spPr>
              <a:xfrm>
                <a:off x="642960" y="41266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"/>
            <p:cNvGrpSpPr/>
            <p:nvPr/>
          </p:nvGrpSpPr>
          <p:grpSpPr>
            <a:xfrm>
              <a:off x="642960" y="4936680"/>
              <a:ext cx="681120" cy="635040"/>
              <a:chOff x="642960" y="4936680"/>
              <a:chExt cx="681120" cy="635040"/>
            </a:xfrm>
          </p:grpSpPr>
          <p:sp>
            <p:nvSpPr>
              <p:cNvPr id="971" name="Oval 15"/>
              <p:cNvSpPr/>
              <p:nvPr/>
            </p:nvSpPr>
            <p:spPr>
              <a:xfrm>
                <a:off x="659880" y="49366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2" name="Oval 16"/>
              <p:cNvSpPr/>
              <p:nvPr/>
            </p:nvSpPr>
            <p:spPr>
              <a:xfrm>
                <a:off x="659880" y="49384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7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698760" y="49424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Text Box 18"/>
              <p:cNvSpPr/>
              <p:nvPr/>
            </p:nvSpPr>
            <p:spPr>
              <a:xfrm>
                <a:off x="642960" y="49402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75" name="AutoShape 4"/>
            <p:cNvSpPr/>
            <p:nvPr/>
          </p:nvSpPr>
          <p:spPr>
            <a:xfrm>
              <a:off x="1438200" y="2441520"/>
              <a:ext cx="6991560" cy="598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6" name="AutoShape 4"/>
            <p:cNvSpPr/>
            <p:nvPr/>
          </p:nvSpPr>
          <p:spPr>
            <a:xfrm>
              <a:off x="1422360" y="327492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성기능 변화와 성생활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7" name="AutoShape 4"/>
            <p:cNvSpPr/>
            <p:nvPr/>
          </p:nvSpPr>
          <p:spPr>
            <a:xfrm>
              <a:off x="1438200" y="410688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 인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차별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학대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권익운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8" name="AutoShape 4"/>
            <p:cNvSpPr/>
            <p:nvPr/>
          </p:nvSpPr>
          <p:spPr>
            <a:xfrm>
              <a:off x="1438200" y="493884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1d528d"/>
                </a:gs>
                <a:gs pos="100000">
                  <a:srgbClr val="8c3d91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정보화 능력과 노년공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9" name="Group 14"/>
            <p:cNvGrpSpPr/>
            <p:nvPr/>
          </p:nvGrpSpPr>
          <p:grpSpPr>
            <a:xfrm>
              <a:off x="642960" y="5722560"/>
              <a:ext cx="681120" cy="635040"/>
              <a:chOff x="642960" y="5722560"/>
              <a:chExt cx="681120" cy="635040"/>
            </a:xfrm>
          </p:grpSpPr>
          <p:sp>
            <p:nvSpPr>
              <p:cNvPr id="980" name="Oval 15"/>
              <p:cNvSpPr/>
              <p:nvPr/>
            </p:nvSpPr>
            <p:spPr>
              <a:xfrm>
                <a:off x="659880" y="572256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Oval 16"/>
              <p:cNvSpPr/>
              <p:nvPr/>
            </p:nvSpPr>
            <p:spPr>
              <a:xfrm>
                <a:off x="659880" y="572436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82" name="Picture 17" descr="알"/>
              <p:cNvPicPr/>
              <p:nvPr/>
            </p:nvPicPr>
            <p:blipFill>
              <a:blip r:embed="rId7"/>
              <a:stretch/>
            </p:blipFill>
            <p:spPr>
              <a:xfrm>
                <a:off x="698760" y="572832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Text Box 18"/>
              <p:cNvSpPr/>
              <p:nvPr/>
            </p:nvSpPr>
            <p:spPr>
              <a:xfrm>
                <a:off x="642960" y="572616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Ⅵ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4" name="AutoShape 4"/>
            <p:cNvSpPr/>
            <p:nvPr/>
          </p:nvSpPr>
          <p:spPr>
            <a:xfrm>
              <a:off x="1438200" y="572472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생활안전과 범죄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5" name="Line 9"/>
          <p:cNvSpPr/>
          <p:nvPr/>
        </p:nvSpPr>
        <p:spPr>
          <a:xfrm>
            <a:off x="0" y="3857760"/>
            <a:ext cx="785880" cy="2000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그룹 11"/>
          <p:cNvGrpSpPr/>
          <p:nvPr/>
        </p:nvGrpSpPr>
        <p:grpSpPr>
          <a:xfrm>
            <a:off x="214200" y="360360"/>
            <a:ext cx="8715600" cy="5926320"/>
            <a:chOff x="214200" y="360360"/>
            <a:chExt cx="8715600" cy="5926320"/>
          </a:xfrm>
        </p:grpSpPr>
        <p:sp>
          <p:nvSpPr>
            <p:cNvPr id="1127" name="AutoShape 2"/>
            <p:cNvSpPr/>
            <p:nvPr/>
          </p:nvSpPr>
          <p:spPr>
            <a:xfrm>
              <a:off x="214200" y="857160"/>
              <a:ext cx="871560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8" name="Text Box 6"/>
            <p:cNvSpPr/>
            <p:nvPr/>
          </p:nvSpPr>
          <p:spPr>
            <a:xfrm>
              <a:off x="356760" y="1069920"/>
              <a:ext cx="8573040" cy="51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7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학대 발생 건수가 지속적으로 증가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0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학대 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13.9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광의의 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5.1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법정 학대 경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7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.8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노인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농어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배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과 소득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활동 참여 않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DL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한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우 피학대 위험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노인학대건수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,62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복학대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8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방임 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학대 건수는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건 전체학대의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%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행위자는 아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5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자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6%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대부분 가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원 성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종사자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4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외부인은 소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9" name="직사각형 7"/>
            <p:cNvSpPr/>
            <p:nvPr/>
          </p:nvSpPr>
          <p:spPr>
            <a:xfrm>
              <a:off x="285480" y="36036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 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그룹 17"/>
          <p:cNvGrpSpPr/>
          <p:nvPr/>
        </p:nvGrpSpPr>
        <p:grpSpPr>
          <a:xfrm>
            <a:off x="214200" y="71280"/>
            <a:ext cx="9037800" cy="6143400"/>
            <a:chOff x="214200" y="71280"/>
            <a:chExt cx="9037800" cy="6143400"/>
          </a:xfrm>
        </p:grpSpPr>
        <p:sp>
          <p:nvSpPr>
            <p:cNvPr id="1131" name="직사각형 19"/>
            <p:cNvSpPr/>
            <p:nvPr/>
          </p:nvSpPr>
          <p:spPr>
            <a:xfrm>
              <a:off x="285480" y="71280"/>
              <a:ext cx="564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2" name="그룹 15"/>
            <p:cNvGrpSpPr/>
            <p:nvPr/>
          </p:nvGrpSpPr>
          <p:grpSpPr>
            <a:xfrm>
              <a:off x="214200" y="356760"/>
              <a:ext cx="9037800" cy="5857920"/>
              <a:chOff x="214200" y="356760"/>
              <a:chExt cx="9037800" cy="5857920"/>
            </a:xfrm>
          </p:grpSpPr>
          <p:sp>
            <p:nvSpPr>
              <p:cNvPr id="1133" name="AutoShape 2"/>
              <p:cNvSpPr/>
              <p:nvPr/>
            </p:nvSpPr>
            <p:spPr>
              <a:xfrm>
                <a:off x="214200" y="853560"/>
                <a:ext cx="871524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4" name="Text Box 6"/>
              <p:cNvSpPr/>
              <p:nvPr/>
            </p:nvSpPr>
            <p:spPr>
              <a:xfrm>
                <a:off x="465480" y="983880"/>
                <a:ext cx="8786520" cy="523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 개인차원의 대응방안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존성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능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과 사회활동 적극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교육을 받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시 은폐보다는 적극적 원조요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가족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교교육을 통한 가족의 노인이해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자의 스트레스나 성격문제 해결을 위한 상담과 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알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지원 등의 가족서비스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적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홍보와 사회교육을 통한 노인학대에 대한 인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금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고의무 및 보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급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응급조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기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적 조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피해자에 대한 보건의료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담 및 치료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된 노인에 대한 부양비 구상권 제도 적극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행위자에 대한 처벌과 치료 및 보호서비스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ombudsman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5" name="직사각형 14"/>
              <p:cNvSpPr/>
              <p:nvPr/>
            </p:nvSpPr>
            <p:spPr>
              <a:xfrm>
                <a:off x="285480" y="356760"/>
                <a:ext cx="5643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학대 대응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그룹 8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11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정보화와 노년공학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9" name="그룹 21"/>
            <p:cNvGrpSpPr/>
            <p:nvPr/>
          </p:nvGrpSpPr>
          <p:grpSpPr>
            <a:xfrm>
              <a:off x="285480" y="714240"/>
              <a:ext cx="8715600" cy="5643720"/>
              <a:chOff x="285480" y="714240"/>
              <a:chExt cx="8715600" cy="5643720"/>
            </a:xfrm>
          </p:grpSpPr>
          <p:sp>
            <p:nvSpPr>
              <p:cNvPr id="1140" name="AutoShape 2"/>
              <p:cNvSpPr/>
              <p:nvPr/>
            </p:nvSpPr>
            <p:spPr>
              <a:xfrm>
                <a:off x="285480" y="1357200"/>
                <a:ext cx="8715600" cy="500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41" name="그룹 10"/>
              <p:cNvGrpSpPr/>
              <p:nvPr/>
            </p:nvGrpSpPr>
            <p:grpSpPr>
              <a:xfrm>
                <a:off x="356760" y="714240"/>
                <a:ext cx="8573040" cy="5317200"/>
                <a:chOff x="356760" y="714240"/>
                <a:chExt cx="8573040" cy="5317200"/>
              </a:xfrm>
            </p:grpSpPr>
            <p:sp>
              <p:nvSpPr>
                <p:cNvPr id="1142" name="AutoShape 4"/>
                <p:cNvSpPr/>
                <p:nvPr/>
              </p:nvSpPr>
              <p:spPr>
                <a:xfrm>
                  <a:off x="356760" y="714240"/>
                  <a:ext cx="3286440" cy="571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의 정보화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43" name="Text Box 6"/>
                <p:cNvSpPr/>
                <p:nvPr/>
              </p:nvSpPr>
              <p:spPr>
                <a:xfrm>
                  <a:off x="428040" y="1493640"/>
                  <a:ext cx="8501760" cy="453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용기회제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빈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기회의 부재로 인하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지식사회에서 다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노인들이 부적응을 경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의 정보화 인프라 구축으로 노인의 정보화에 대한 인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능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 접근성이 향상되고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 이용률 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0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3%, 70+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2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지속적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문자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진 동영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4%,  SN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6%,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악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8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게임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%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온라인쇼핑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017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부 노인실태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성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 낮은 노인의 전자기기 활용률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정보화 역량이 강화되고 있으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역량 격차 개선은 미미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부는 노인에 대한 정보화 교육의 강화를 고령사회에 대응한 중요한 국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천전략으로 선정하여 다각적 노력을 전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a2f96"/>
                    </a:buClr>
                    <a:buFont typeface="HY강M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들의 정보 접근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 욕구 등에 대한 체계적 연구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선행되어야 할 것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그룹 14"/>
          <p:cNvGrpSpPr/>
          <p:nvPr/>
        </p:nvGrpSpPr>
        <p:grpSpPr>
          <a:xfrm>
            <a:off x="285840" y="0"/>
            <a:ext cx="8786880" cy="6572160"/>
            <a:chOff x="285840" y="0"/>
            <a:chExt cx="8786880" cy="6572160"/>
          </a:xfrm>
        </p:grpSpPr>
        <p:grpSp>
          <p:nvGrpSpPr>
            <p:cNvPr id="1145" name="그룹 11"/>
            <p:cNvGrpSpPr/>
            <p:nvPr/>
          </p:nvGrpSpPr>
          <p:grpSpPr>
            <a:xfrm>
              <a:off x="285840" y="4857840"/>
              <a:ext cx="8786880" cy="1714320"/>
              <a:chOff x="285840" y="4857840"/>
              <a:chExt cx="8786880" cy="1714320"/>
            </a:xfrm>
          </p:grpSpPr>
          <p:sp>
            <p:nvSpPr>
              <p:cNvPr id="1146" name="AutoShape 2"/>
              <p:cNvSpPr/>
              <p:nvPr/>
            </p:nvSpPr>
            <p:spPr>
              <a:xfrm>
                <a:off x="285840" y="5214960"/>
                <a:ext cx="8644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7" name="Text Box 6"/>
              <p:cNvSpPr/>
              <p:nvPr/>
            </p:nvSpPr>
            <p:spPr>
              <a:xfrm>
                <a:off x="285840" y="5214960"/>
                <a:ext cx="8786880" cy="11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첨단기술 활용하여 개발 가능한 복지용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스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은 다양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내 개발 사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을 위한 간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용 시스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4~5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e2947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독거노인 응급안전 돌보미 시스템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8" name="직사각형 13"/>
              <p:cNvSpPr/>
              <p:nvPr/>
            </p:nvSpPr>
            <p:spPr>
              <a:xfrm>
                <a:off x="285840" y="48578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실제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49" name="그룹 11"/>
            <p:cNvGrpSpPr/>
            <p:nvPr/>
          </p:nvGrpSpPr>
          <p:grpSpPr>
            <a:xfrm>
              <a:off x="285840" y="500040"/>
              <a:ext cx="8715600" cy="3458880"/>
              <a:chOff x="285840" y="500040"/>
              <a:chExt cx="8715600" cy="3458880"/>
            </a:xfrm>
          </p:grpSpPr>
          <p:sp>
            <p:nvSpPr>
              <p:cNvPr id="1150" name="AutoShape 2"/>
              <p:cNvSpPr/>
              <p:nvPr/>
            </p:nvSpPr>
            <p:spPr>
              <a:xfrm>
                <a:off x="285840" y="857160"/>
                <a:ext cx="8644320" cy="3072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1" name="Text Box 6"/>
              <p:cNvSpPr/>
              <p:nvPr/>
            </p:nvSpPr>
            <p:spPr>
              <a:xfrm>
                <a:off x="285840" y="857160"/>
                <a:ext cx="8715600" cy="31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간의 최적화를 추구하는 학문분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rontechnology)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일상생활에서 일어나는 여러 가지 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적 문제를 공학기술을 이용하여 해결함으로써 노인과 노인 부양자의 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을 추구하는 응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연구에 필요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저하</a:t>
                </a:r>
                <a:r>
                  <a:rPr b="0" lang="ko-KR" sz="14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역할 개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수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약화를 보상 또는 대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활동 원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시작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8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처음으로 노년공학이란 용어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국제노년공학회가 개최되었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발전과 함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이 활성화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2" name="직사각형 4"/>
              <p:cNvSpPr/>
              <p:nvPr/>
            </p:nvSpPr>
            <p:spPr>
              <a:xfrm>
                <a:off x="285840" y="5000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개념과 발달</a:t>
                </a:r>
                <a:r>
                  <a:rPr b="0" lang="en-US" sz="23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53" name="AutoShape 4"/>
            <p:cNvSpPr/>
            <p:nvPr/>
          </p:nvSpPr>
          <p:spPr>
            <a:xfrm>
              <a:off x="357120" y="0"/>
              <a:ext cx="3214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공학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54" name="그룹 11"/>
            <p:cNvGrpSpPr/>
            <p:nvPr/>
          </p:nvGrpSpPr>
          <p:grpSpPr>
            <a:xfrm>
              <a:off x="285840" y="4000320"/>
              <a:ext cx="8644320" cy="785520"/>
              <a:chOff x="285840" y="4000320"/>
              <a:chExt cx="8644320" cy="785520"/>
            </a:xfrm>
          </p:grpSpPr>
          <p:sp>
            <p:nvSpPr>
              <p:cNvPr id="1155" name="AutoShape 2"/>
              <p:cNvSpPr/>
              <p:nvPr/>
            </p:nvSpPr>
            <p:spPr>
              <a:xfrm>
                <a:off x="285840" y="4357080"/>
                <a:ext cx="8644320" cy="428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6" name="Text Box 6"/>
              <p:cNvSpPr/>
              <p:nvPr/>
            </p:nvSpPr>
            <p:spPr>
              <a:xfrm>
                <a:off x="285840" y="4357440"/>
                <a:ext cx="85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보통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등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1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7" name="직사각형 9"/>
              <p:cNvSpPr/>
              <p:nvPr/>
            </p:nvSpPr>
            <p:spPr>
              <a:xfrm>
                <a:off x="285840" y="40003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관심분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그룹 8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115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인 안전과 범죄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1" name="그룹 21"/>
            <p:cNvGrpSpPr/>
            <p:nvPr/>
          </p:nvGrpSpPr>
          <p:grpSpPr>
            <a:xfrm>
              <a:off x="285480" y="714240"/>
              <a:ext cx="8858160" cy="5500800"/>
              <a:chOff x="285480" y="714240"/>
              <a:chExt cx="8858160" cy="5500800"/>
            </a:xfrm>
          </p:grpSpPr>
          <p:sp>
            <p:nvSpPr>
              <p:cNvPr id="1162" name="AutoShape 2"/>
              <p:cNvSpPr/>
              <p:nvPr/>
            </p:nvSpPr>
            <p:spPr>
              <a:xfrm>
                <a:off x="285480" y="1071360"/>
                <a:ext cx="871560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63" name="그룹 10"/>
              <p:cNvGrpSpPr/>
              <p:nvPr/>
            </p:nvGrpSpPr>
            <p:grpSpPr>
              <a:xfrm>
                <a:off x="356760" y="714240"/>
                <a:ext cx="8786880" cy="5470560"/>
                <a:chOff x="356760" y="714240"/>
                <a:chExt cx="8786880" cy="5470560"/>
              </a:xfrm>
            </p:grpSpPr>
            <p:sp>
              <p:nvSpPr>
                <p:cNvPr id="1164" name="AutoShape 4"/>
                <p:cNvSpPr/>
                <p:nvPr/>
              </p:nvSpPr>
              <p:spPr>
                <a:xfrm>
                  <a:off x="356760" y="714240"/>
                  <a:ext cx="34290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운전과 교통사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6"/>
                <p:cNvSpPr/>
                <p:nvPr/>
              </p:nvSpPr>
              <p:spPr>
                <a:xfrm>
                  <a:off x="428040" y="1214280"/>
                  <a:ext cx="8715600" cy="497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정내 안전사고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0.6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간 낙상사고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끄러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하지근력 약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6%,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독거노인 고독사에 대한 관심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가운전 노인이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시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력 저하로 운전에 애로 발생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실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통사고 건수는 연간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,713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으로 전체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2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이며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망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,767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상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여명으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지속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자가운전자의 증가로 노인교통사고 위험은 더욱 높아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대응방안</a:t>
                  </a:r>
                  <a:r>
                    <a:rPr b="1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자 배려 대중교통 이용 및 보행환경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횡단보도 보행신호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체계 개선 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친화적 교통환경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보호구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silver zone, 30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㎞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서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반적 교통안전시스템 구축 등이 요구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그룹 17"/>
          <p:cNvGrpSpPr/>
          <p:nvPr/>
        </p:nvGrpSpPr>
        <p:grpSpPr>
          <a:xfrm>
            <a:off x="0" y="71280"/>
            <a:ext cx="9001080" cy="6643800"/>
            <a:chOff x="0" y="71280"/>
            <a:chExt cx="9001080" cy="6643800"/>
          </a:xfrm>
        </p:grpSpPr>
        <p:sp>
          <p:nvSpPr>
            <p:cNvPr id="1167" name="AutoShape 4"/>
            <p:cNvSpPr/>
            <p:nvPr/>
          </p:nvSpPr>
          <p:spPr>
            <a:xfrm>
              <a:off x="357120" y="71280"/>
              <a:ext cx="37148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범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8" name="그룹 12"/>
            <p:cNvGrpSpPr/>
            <p:nvPr/>
          </p:nvGrpSpPr>
          <p:grpSpPr>
            <a:xfrm>
              <a:off x="0" y="5715000"/>
              <a:ext cx="8501040" cy="1000080"/>
              <a:chOff x="0" y="5715000"/>
              <a:chExt cx="8501040" cy="1000080"/>
            </a:xfrm>
          </p:grpSpPr>
          <p:pic>
            <p:nvPicPr>
              <p:cNvPr id="116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715000"/>
                <a:ext cx="11224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Rectangle 4"/>
              <p:cNvSpPr/>
              <p:nvPr/>
            </p:nvSpPr>
            <p:spPr>
              <a:xfrm>
                <a:off x="961920" y="600084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와 노인복지정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1" name="그룹 8"/>
            <p:cNvGrpSpPr/>
            <p:nvPr/>
          </p:nvGrpSpPr>
          <p:grpSpPr>
            <a:xfrm>
              <a:off x="285480" y="655200"/>
              <a:ext cx="8712360" cy="1561680"/>
              <a:chOff x="285480" y="655200"/>
              <a:chExt cx="8712360" cy="1561680"/>
            </a:xfrm>
          </p:grpSpPr>
          <p:sp>
            <p:nvSpPr>
              <p:cNvPr id="1172" name="AutoShape 2"/>
              <p:cNvSpPr/>
              <p:nvPr/>
            </p:nvSpPr>
            <p:spPr>
              <a:xfrm>
                <a:off x="285480" y="10519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3" name="Text Box 6"/>
              <p:cNvSpPr/>
              <p:nvPr/>
            </p:nvSpPr>
            <p:spPr>
              <a:xfrm>
                <a:off x="356760" y="1071000"/>
                <a:ext cx="86410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범죄에 대한 두려움 속에서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당 범죄발생비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,21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유재산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7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력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3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4" name="직사각형 14"/>
              <p:cNvSpPr/>
              <p:nvPr/>
            </p:nvSpPr>
            <p:spPr>
              <a:xfrm>
                <a:off x="318600" y="6552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의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5" name="그룹 8"/>
            <p:cNvGrpSpPr/>
            <p:nvPr/>
          </p:nvGrpSpPr>
          <p:grpSpPr>
            <a:xfrm>
              <a:off x="285480" y="2298600"/>
              <a:ext cx="8712360" cy="1561320"/>
              <a:chOff x="285480" y="2298600"/>
              <a:chExt cx="8712360" cy="1561320"/>
            </a:xfrm>
          </p:grpSpPr>
          <p:sp>
            <p:nvSpPr>
              <p:cNvPr id="1176" name="AutoShape 2"/>
              <p:cNvSpPr/>
              <p:nvPr/>
            </p:nvSpPr>
            <p:spPr>
              <a:xfrm>
                <a:off x="285480" y="26953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7" name="Text Box 6"/>
              <p:cNvSpPr/>
              <p:nvPr/>
            </p:nvSpPr>
            <p:spPr>
              <a:xfrm>
                <a:off x="356760" y="2714400"/>
                <a:ext cx="864108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대상 주요 범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매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날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 등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 사기상술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범죄피해 건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,28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당판매 피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 피해자의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8" name="직사각형 16"/>
              <p:cNvSpPr/>
              <p:nvPr/>
            </p:nvSpPr>
            <p:spPr>
              <a:xfrm>
                <a:off x="318600" y="22986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을 대상으로 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9" name="그룹 8"/>
            <p:cNvGrpSpPr/>
            <p:nvPr/>
          </p:nvGrpSpPr>
          <p:grpSpPr>
            <a:xfrm>
              <a:off x="288720" y="3981240"/>
              <a:ext cx="8712360" cy="1805760"/>
              <a:chOff x="288720" y="3981240"/>
              <a:chExt cx="8712360" cy="1805760"/>
            </a:xfrm>
          </p:grpSpPr>
          <p:sp>
            <p:nvSpPr>
              <p:cNvPr id="1180" name="AutoShape 2"/>
              <p:cNvSpPr/>
              <p:nvPr/>
            </p:nvSpPr>
            <p:spPr>
              <a:xfrm>
                <a:off x="288720" y="4357440"/>
                <a:ext cx="8641080" cy="14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1" name="Text Box 6"/>
              <p:cNvSpPr/>
              <p:nvPr/>
            </p:nvSpPr>
            <p:spPr>
              <a:xfrm>
                <a:off x="360000" y="4357440"/>
                <a:ext cx="8641080" cy="14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창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기회의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범죄자에 대한 집행유예요건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시설 확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특성에 맞는 개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된 처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에서의 사회봉사 명령제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찰이나 노인복지기관 등에 의한 노인범죄 피해 대처방안 교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료 법률상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2" name="직사각형 20"/>
              <p:cNvSpPr/>
              <p:nvPr/>
            </p:nvSpPr>
            <p:spPr>
              <a:xfrm>
                <a:off x="321840" y="398124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 범죄에 대한 대응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그룹 10"/>
          <p:cNvGrpSpPr/>
          <p:nvPr/>
        </p:nvGrpSpPr>
        <p:grpSpPr>
          <a:xfrm>
            <a:off x="0" y="0"/>
            <a:ext cx="9215280" cy="6391440"/>
            <a:chOff x="0" y="0"/>
            <a:chExt cx="9215280" cy="6391440"/>
          </a:xfrm>
        </p:grpSpPr>
        <p:pic>
          <p:nvPicPr>
            <p:cNvPr id="98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죽     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9" name="그룹 18"/>
            <p:cNvGrpSpPr/>
            <p:nvPr/>
          </p:nvGrpSpPr>
          <p:grpSpPr>
            <a:xfrm>
              <a:off x="252360" y="857160"/>
              <a:ext cx="8962920" cy="1161360"/>
              <a:chOff x="252360" y="857160"/>
              <a:chExt cx="8962920" cy="1161360"/>
            </a:xfrm>
          </p:grpSpPr>
          <p:sp>
            <p:nvSpPr>
              <p:cNvPr id="990" name="AutoShape 2"/>
              <p:cNvSpPr/>
              <p:nvPr/>
            </p:nvSpPr>
            <p:spPr>
              <a:xfrm>
                <a:off x="252360" y="857160"/>
                <a:ext cx="8820360" cy="1143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1" name="Text Box 25"/>
              <p:cNvSpPr/>
              <p:nvPr/>
            </p:nvSpPr>
            <p:spPr>
              <a:xfrm>
                <a:off x="285480" y="857160"/>
                <a:ext cx="892980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은 죽음의 문제를 회피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는 죽음을 반금기영역으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주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죽음을 언급하는 것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不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간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노년기의 죽음 문제에 대한 개입은 활성화되지 못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18"/>
            <p:cNvGrpSpPr/>
            <p:nvPr/>
          </p:nvGrpSpPr>
          <p:grpSpPr>
            <a:xfrm>
              <a:off x="252360" y="2428920"/>
              <a:ext cx="8820000" cy="3962520"/>
              <a:chOff x="252360" y="2428920"/>
              <a:chExt cx="8820000" cy="3962520"/>
            </a:xfrm>
          </p:grpSpPr>
          <p:sp>
            <p:nvSpPr>
              <p:cNvPr id="993" name="AutoShape 2"/>
              <p:cNvSpPr/>
              <p:nvPr/>
            </p:nvSpPr>
            <p:spPr>
              <a:xfrm>
                <a:off x="252360" y="2428920"/>
                <a:ext cx="8820000" cy="3962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Text Box 25"/>
              <p:cNvSpPr/>
              <p:nvPr/>
            </p:nvSpPr>
            <p:spPr>
              <a:xfrm>
                <a:off x="428400" y="2573280"/>
                <a:ext cx="8572680" cy="37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eath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살아 있는 상태의 종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과정이 종결되어 죽은 상태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환되는 전이과정의 결과물로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생할 수 없는 삶의 영원한 종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ying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생에서 시작되는 삶 전체 과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시 삶을 회복할 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있는 가능성이 희박한 상황에 놓여진 상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의 유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장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공확대의 삼증후설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포가 불가역적 상태로 변화한 세포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법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사의 죽음 판정을 기초로 법적 절차에 의해 죽음을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명은 유지되나 인간으로서 기능을 전혀 할 수  없는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의 권리와 관련된 이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5" name="AutoShape 4"/>
            <p:cNvSpPr/>
            <p:nvPr/>
          </p:nvSpPr>
          <p:spPr>
            <a:xfrm>
              <a:off x="285480" y="2071440"/>
              <a:ext cx="4357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죽음과 임종의 개념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그룹 11"/>
          <p:cNvGrpSpPr/>
          <p:nvPr/>
        </p:nvGrpSpPr>
        <p:grpSpPr>
          <a:xfrm>
            <a:off x="214200" y="142920"/>
            <a:ext cx="8929800" cy="6286320"/>
            <a:chOff x="214200" y="142920"/>
            <a:chExt cx="8929800" cy="6286320"/>
          </a:xfrm>
        </p:grpSpPr>
        <p:sp>
          <p:nvSpPr>
            <p:cNvPr id="997" name="AutoShape 2"/>
            <p:cNvSpPr/>
            <p:nvPr/>
          </p:nvSpPr>
          <p:spPr>
            <a:xfrm>
              <a:off x="214200" y="1285920"/>
              <a:ext cx="8715600" cy="142848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8" name="AutoShape 29"/>
            <p:cNvSpPr/>
            <p:nvPr/>
          </p:nvSpPr>
          <p:spPr>
            <a:xfrm>
              <a:off x="214200" y="85716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부여하는 의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9" name="Text Box 25"/>
            <p:cNvSpPr/>
            <p:nvPr/>
          </p:nvSpPr>
          <p:spPr>
            <a:xfrm>
              <a:off x="428400" y="1285920"/>
              <a:ext cx="8715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간의 제약과 종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세에서의 존재 소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無의 상태로의 전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생 또는 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중한 것의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형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힘든 삶에서의 해방과 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섬뜩한 저승사자 또는 부드러운 성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별성 극복과 관계개선의 계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랑했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람과의 재결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연스러운 현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0" name="AutoShape 7"/>
            <p:cNvSpPr/>
            <p:nvPr/>
          </p:nvSpPr>
          <p:spPr>
            <a:xfrm>
              <a:off x="285480" y="14292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죽음의 의미와 태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1" name="AutoShape 2"/>
            <p:cNvSpPr/>
            <p:nvPr/>
          </p:nvSpPr>
          <p:spPr>
            <a:xfrm>
              <a:off x="214200" y="3139920"/>
              <a:ext cx="8715600" cy="214632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2" name="Text Box 25"/>
            <p:cNvSpPr/>
            <p:nvPr/>
          </p:nvSpPr>
          <p:spPr>
            <a:xfrm>
              <a:off x="428400" y="3139920"/>
              <a:ext cx="8429760" cy="21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의 보편성을 인정하면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신의 죽음만은 회피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하려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상당수는 묘지준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명치료 반대 등 죽음을 자연스러운 것으로 수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말기 암환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의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0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학 신봉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에 대한 냉소적 태도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3%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양문화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와 조상의 음덕을 믿으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을 눈앞에 둔 노인 존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독교와 천주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생명의 획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늘 삶과 공존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다른 존재로 환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윤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3" name="AutoShape 29"/>
            <p:cNvSpPr/>
            <p:nvPr/>
          </p:nvSpPr>
          <p:spPr>
            <a:xfrm>
              <a:off x="214200" y="271440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대한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4" name="AutoShape 2"/>
            <p:cNvSpPr/>
            <p:nvPr/>
          </p:nvSpPr>
          <p:spPr>
            <a:xfrm>
              <a:off x="214200" y="5715000"/>
              <a:ext cx="8715600" cy="71424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5" name="AutoShape 29"/>
            <p:cNvSpPr/>
            <p:nvPr/>
          </p:nvSpPr>
          <p:spPr>
            <a:xfrm>
              <a:off x="214200" y="52862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불안 영향 요인과 죽음준비교육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428400" y="5715000"/>
              <a:ext cx="857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환경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지지 등 영향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-1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well-dying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을 위한 죽음준비교육 프로그램 실시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례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87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그룹 10"/>
          <p:cNvGrpSpPr/>
          <p:nvPr/>
        </p:nvGrpSpPr>
        <p:grpSpPr>
          <a:xfrm>
            <a:off x="252360" y="33480"/>
            <a:ext cx="8891640" cy="6110280"/>
            <a:chOff x="252360" y="33480"/>
            <a:chExt cx="8891640" cy="6110280"/>
          </a:xfrm>
        </p:grpSpPr>
        <p:grpSp>
          <p:nvGrpSpPr>
            <p:cNvPr id="1008" name="그룹 18"/>
            <p:cNvGrpSpPr/>
            <p:nvPr/>
          </p:nvGrpSpPr>
          <p:grpSpPr>
            <a:xfrm>
              <a:off x="252360" y="461880"/>
              <a:ext cx="8820360" cy="2420280"/>
              <a:chOff x="252360" y="461880"/>
              <a:chExt cx="8820360" cy="2420280"/>
            </a:xfrm>
          </p:grpSpPr>
          <p:sp>
            <p:nvSpPr>
              <p:cNvPr id="1009" name="AutoShape 2"/>
              <p:cNvSpPr/>
              <p:nvPr/>
            </p:nvSpPr>
            <p:spPr>
              <a:xfrm>
                <a:off x="252360" y="461880"/>
                <a:ext cx="8820360" cy="2395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0" name="Text Box 25"/>
              <p:cNvSpPr/>
              <p:nvPr/>
            </p:nvSpPr>
            <p:spPr>
              <a:xfrm>
                <a:off x="428400" y="533160"/>
                <a:ext cx="857304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Pattison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임종의 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급성위기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격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성적 삶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두려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외로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슬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통제 상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말기단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감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동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K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ü</a:t>
                </a:r>
                <a:r>
                  <a:rPr b="1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bl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er-Ross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죽음 적응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립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용단계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2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필독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.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의 말기 암환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의 연구결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실경험 많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과 역할상실로 생을 정리하고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을 생각할 시간이 많았던 노년기의 죽음 적응을 설명하는 데는 한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1" name="AutoShape 4"/>
            <p:cNvSpPr/>
            <p:nvPr/>
          </p:nvSpPr>
          <p:spPr>
            <a:xfrm>
              <a:off x="285480" y="334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임종과 죽음의 단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2" name="그룹 9"/>
            <p:cNvGrpSpPr/>
            <p:nvPr/>
          </p:nvGrpSpPr>
          <p:grpSpPr>
            <a:xfrm>
              <a:off x="252360" y="3143520"/>
              <a:ext cx="8891640" cy="3000240"/>
              <a:chOff x="252360" y="3143520"/>
              <a:chExt cx="8891640" cy="3000240"/>
            </a:xfrm>
          </p:grpSpPr>
          <p:sp>
            <p:nvSpPr>
              <p:cNvPr id="1013" name="AutoShape 2"/>
              <p:cNvSpPr/>
              <p:nvPr/>
            </p:nvSpPr>
            <p:spPr>
              <a:xfrm>
                <a:off x="252360" y="3643560"/>
                <a:ext cx="8820360" cy="2500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Text Box 25"/>
              <p:cNvSpPr/>
              <p:nvPr/>
            </p:nvSpPr>
            <p:spPr>
              <a:xfrm>
                <a:off x="428400" y="3708360"/>
                <a:ext cx="871560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행동을 포괄하는 개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연구와 실천에서는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“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의도를 갖고 자신의 신체에 다양한 방법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해를 끼쳤으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으로까지 이어지지 않은 행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르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.7%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0.9%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살사망자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161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37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7.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3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ECD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1.6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비교할 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국노인의 자살사망률 가장 높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AutoShape 4"/>
              <p:cNvSpPr/>
              <p:nvPr/>
            </p:nvSpPr>
            <p:spPr>
              <a:xfrm>
                <a:off x="285480" y="3143520"/>
                <a:ext cx="43578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년기의 자살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그룹 9"/>
          <p:cNvGrpSpPr/>
          <p:nvPr/>
        </p:nvGrpSpPr>
        <p:grpSpPr>
          <a:xfrm>
            <a:off x="252360" y="428760"/>
            <a:ext cx="8891640" cy="5862240"/>
            <a:chOff x="252360" y="428760"/>
            <a:chExt cx="8891640" cy="5862240"/>
          </a:xfrm>
        </p:grpSpPr>
        <p:sp>
          <p:nvSpPr>
            <p:cNvPr id="1017" name="AutoShape 2"/>
            <p:cNvSpPr/>
            <p:nvPr/>
          </p:nvSpPr>
          <p:spPr>
            <a:xfrm>
              <a:off x="252360" y="928440"/>
              <a:ext cx="8820360" cy="53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8" name="Text Box 25"/>
            <p:cNvSpPr/>
            <p:nvPr/>
          </p:nvSpPr>
          <p:spPr>
            <a:xfrm>
              <a:off x="428400" y="993600"/>
              <a:ext cx="8715600" cy="52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을 설명하는 이론은 사회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태체계이론 등 매우 다양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위험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 요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적 믿음 약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별한 노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성질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과 빈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우울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의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-70%)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과 대처자원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스트레스 등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내 자살 및 정신장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체가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아동기 정신상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갈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 및 사회관계망 위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지 결여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소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립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망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한 가족주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차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명인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기침제와 실업률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예방을 위한 개입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전략을 선택 또는 통합 활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노인의 신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기능 향상을 위한 건강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증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참여 등을 통해 욕구충족과 문제발생 최소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 심화를 위한 조기진단과 치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처능력 향상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상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서비스 등 제공과 클라이언트 발굴과 문제해결중심 개입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3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한 기능제한과 문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기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학대경험 등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험군의 파국적 상황 노출 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활 및 지속적 사례관리서비스 제공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의 자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그룹 6"/>
          <p:cNvGrpSpPr/>
          <p:nvPr/>
        </p:nvGrpSpPr>
        <p:grpSpPr>
          <a:xfrm>
            <a:off x="214200" y="142920"/>
            <a:ext cx="8786880" cy="6215040"/>
            <a:chOff x="214200" y="142920"/>
            <a:chExt cx="8786880" cy="6215040"/>
          </a:xfrm>
        </p:grpSpPr>
        <p:grpSp>
          <p:nvGrpSpPr>
            <p:cNvPr id="1021" name="그룹 18"/>
            <p:cNvGrpSpPr/>
            <p:nvPr/>
          </p:nvGrpSpPr>
          <p:grpSpPr>
            <a:xfrm>
              <a:off x="214200" y="428400"/>
              <a:ext cx="8786880" cy="5929560"/>
              <a:chOff x="214200" y="428400"/>
              <a:chExt cx="8786880" cy="5929560"/>
            </a:xfrm>
          </p:grpSpPr>
          <p:sp>
            <p:nvSpPr>
              <p:cNvPr id="1022" name="AutoShape 2"/>
              <p:cNvSpPr/>
              <p:nvPr/>
            </p:nvSpPr>
            <p:spPr>
              <a:xfrm>
                <a:off x="214200" y="428400"/>
                <a:ext cx="8715600" cy="59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3" name="Text Box 25"/>
              <p:cNvSpPr/>
              <p:nvPr/>
            </p:nvSpPr>
            <p:spPr>
              <a:xfrm>
                <a:off x="285480" y="745920"/>
                <a:ext cx="8715600" cy="55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잔인하게 박탈당하다’라는 의미를 지니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으로 인하여 사랑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는 사람과 이별하는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로 인하여 경험하게 되는 정서적 반응의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Rando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R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포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에 에너지 투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owlby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과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란과 절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이지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상의 전통에 근거할 때 약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의 유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Wortman &amp; Silver)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과 정서적 고통의 관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정상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정서적 고통 높고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1-2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뒤 낮아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9-4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만성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나 시간이 흐른 뒤나 고통 높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8-26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유예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고통이 낮지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간 흐른 뒤 강해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결여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와 시간 흐른 뒤나 고통 낮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30-78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적으로 사별 직후 높은 수준의 정서적 고통 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이환 가능성 높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만족도 낮아지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률과 자살률도 높아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은 나이 사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고 경제적 의존성이 높을수록 적응 어려움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죽음 적응 지원을 위한 과제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4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상실수업</a:t>
                </a:r>
                <a:r>
                  <a:rPr b="0" lang="en-US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필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4" name="AutoShape 4"/>
            <p:cNvSpPr/>
            <p:nvPr/>
          </p:nvSpPr>
          <p:spPr>
            <a:xfrm>
              <a:off x="285480" y="142920"/>
              <a:ext cx="46436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별과 애도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그룹 9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1026" name="AutoShape 2"/>
            <p:cNvSpPr/>
            <p:nvPr/>
          </p:nvSpPr>
          <p:spPr>
            <a:xfrm>
              <a:off x="285480" y="2428920"/>
              <a:ext cx="8715600" cy="3786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2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8" name="그룹 10"/>
            <p:cNvGrpSpPr/>
            <p:nvPr/>
          </p:nvGrpSpPr>
          <p:grpSpPr>
            <a:xfrm>
              <a:off x="357120" y="1780920"/>
              <a:ext cx="8643960" cy="4332600"/>
              <a:chOff x="357120" y="1780920"/>
              <a:chExt cx="8643960" cy="4332600"/>
            </a:xfrm>
          </p:grpSpPr>
          <p:sp>
            <p:nvSpPr>
              <p:cNvPr id="1029" name="AutoShape 4"/>
              <p:cNvSpPr/>
              <p:nvPr/>
            </p:nvSpPr>
            <p:spPr>
              <a:xfrm>
                <a:off x="357120" y="1780920"/>
                <a:ext cx="428616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호스피스의 개념과 발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0" name="Text Box 6"/>
              <p:cNvSpPr/>
              <p:nvPr/>
            </p:nvSpPr>
            <p:spPr>
              <a:xfrm>
                <a:off x="357120" y="2626920"/>
                <a:ext cx="8643960" cy="34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행자나 손님을 따뜻한 마음으로 접대하는 장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세시대는 순례자와 여행자의 휴식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Saunders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6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t.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hristoper Hospice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립으로 현대적 호스피스 시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6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‘마리아의 작은 자매회’에서 처음 소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대형병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단체에서 설립 운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2018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호스피스 기관 운영 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스피스는 장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등으로 정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을 앞둔 말기 환자와 그 가족을 사랑으로 돌보는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가 남은 생애를 고통 없이 인간답게 삶의 질을 유지하면서 생을 정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게 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들의 고통과 슬픔을 경감할 수 있도록 돕는 총체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holistic care)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1" name="Rectangle 2"/>
            <p:cNvSpPr/>
            <p:nvPr/>
          </p:nvSpPr>
          <p:spPr>
            <a:xfrm>
              <a:off x="157140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2" name="Text Box 25"/>
            <p:cNvSpPr/>
            <p:nvPr/>
          </p:nvSpPr>
          <p:spPr>
            <a:xfrm>
              <a:off x="214200" y="855360"/>
              <a:ext cx="892980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간 경시 풍조의 확산 방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종자의 고통 경감과 욕구 충족을 지원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한 방안으로 임종간호 즉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호스피스 등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그룹 13"/>
          <p:cNvGrpSpPr/>
          <p:nvPr/>
        </p:nvGrpSpPr>
        <p:grpSpPr>
          <a:xfrm>
            <a:off x="71280" y="0"/>
            <a:ext cx="9001440" cy="6429240"/>
            <a:chOff x="71280" y="0"/>
            <a:chExt cx="9001440" cy="6429240"/>
          </a:xfrm>
        </p:grpSpPr>
        <p:sp>
          <p:nvSpPr>
            <p:cNvPr id="1034" name="AutoShape 2"/>
            <p:cNvSpPr/>
            <p:nvPr/>
          </p:nvSpPr>
          <p:spPr>
            <a:xfrm>
              <a:off x="71280" y="500040"/>
              <a:ext cx="900144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5" name="그룹 10"/>
            <p:cNvGrpSpPr/>
            <p:nvPr/>
          </p:nvGrpSpPr>
          <p:grpSpPr>
            <a:xfrm>
              <a:off x="213840" y="0"/>
              <a:ext cx="8787240" cy="1640520"/>
              <a:chOff x="213840" y="0"/>
              <a:chExt cx="8787240" cy="1640520"/>
            </a:xfrm>
          </p:grpSpPr>
          <p:sp>
            <p:nvSpPr>
              <p:cNvPr id="1036" name="AutoShape 4"/>
              <p:cNvSpPr/>
              <p:nvPr/>
            </p:nvSpPr>
            <p:spPr>
              <a:xfrm>
                <a:off x="285120" y="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의 철학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7" name="Text Box 6"/>
              <p:cNvSpPr/>
              <p:nvPr/>
            </p:nvSpPr>
            <p:spPr>
              <a:xfrm>
                <a:off x="213840" y="571320"/>
                <a:ext cx="878724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철학과 원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체주의 및 인본주의 시상에 기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의 고통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의 수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와 가족에 대한 자원과 정보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후 가족의 적응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8" name="AutoShape 2"/>
            <p:cNvSpPr/>
            <p:nvPr/>
          </p:nvSpPr>
          <p:spPr>
            <a:xfrm>
              <a:off x="71280" y="2143080"/>
              <a:ext cx="90014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9" name="그룹 10"/>
            <p:cNvGrpSpPr/>
            <p:nvPr/>
          </p:nvGrpSpPr>
          <p:grpSpPr>
            <a:xfrm>
              <a:off x="213840" y="1714320"/>
              <a:ext cx="8787240" cy="2191320"/>
              <a:chOff x="213840" y="1714320"/>
              <a:chExt cx="8787240" cy="2191320"/>
            </a:xfrm>
          </p:grpSpPr>
          <p:sp>
            <p:nvSpPr>
              <p:cNvPr id="1040" name="AutoShape 4"/>
              <p:cNvSpPr/>
              <p:nvPr/>
            </p:nvSpPr>
            <p:spPr>
              <a:xfrm>
                <a:off x="285120" y="1714320"/>
                <a:ext cx="50724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호스피스의 유형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대상 및 프로그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1" name="Text Box 6"/>
              <p:cNvSpPr/>
              <p:nvPr/>
            </p:nvSpPr>
            <p:spPr>
              <a:xfrm>
                <a:off x="213840" y="2287440"/>
                <a:ext cx="8787240" cy="16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유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시설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동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재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치병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종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월내로 예견되는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증 완화가 필요한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암치료 등의 효과를 기대하기 어려운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도움을 받지 못해 호스피스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환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호스피스 케어 내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서비스와 간접적 서비스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2"/>
            <p:cNvSpPr/>
            <p:nvPr/>
          </p:nvSpPr>
          <p:spPr>
            <a:xfrm>
              <a:off x="71280" y="4429080"/>
              <a:ext cx="90014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3" name="그룹 10"/>
            <p:cNvGrpSpPr/>
            <p:nvPr/>
          </p:nvGrpSpPr>
          <p:grpSpPr>
            <a:xfrm>
              <a:off x="213840" y="3929040"/>
              <a:ext cx="8787240" cy="2494440"/>
              <a:chOff x="213840" y="3929040"/>
              <a:chExt cx="8787240" cy="2494440"/>
            </a:xfrm>
          </p:grpSpPr>
          <p:sp>
            <p:nvSpPr>
              <p:cNvPr id="1044" name="AutoShape 4"/>
              <p:cNvSpPr/>
              <p:nvPr/>
            </p:nvSpPr>
            <p:spPr>
              <a:xfrm>
                <a:off x="285120" y="392904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 팀의 구성과 역할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5" name="Text Box 6"/>
              <p:cNvSpPr/>
              <p:nvPr/>
            </p:nvSpPr>
            <p:spPr>
              <a:xfrm>
                <a:off x="213840" y="4500360"/>
                <a:ext cx="8787240" cy="19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팀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사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심리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사 등의 다분야 전문가와  환자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자 등의 비전문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 계획수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과 평가의 지도감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정 및 팀 성원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재와 팀의 통합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에 대한 상담과 지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가족모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전문가는 고유 영역의 역할을 담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6:51:09Z</dcterms:modified>
  <cp:revision>4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