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8FFB-ADE0-4A63-9558-6DCDFCF19A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BB5-7EAF-4998-86CF-23E16FE5D31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CB2B-0A86-44D0-8F82-2EED97B206A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A42F-485B-41AD-8FB3-E057EF6CC19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7504-FF57-4A88-A2ED-A40922A3D73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73B5D-9E8B-4CC8-B16F-CBDB05D9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BB415-CAB9-4DAA-93CD-03743673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99146-BC81-47E6-A496-B2D313D1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6EB00-DB21-4B87-8FCC-A05D441A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2B57A-63EF-4421-BBE2-BB84D354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88537-7A94-441B-99E5-F5F217C5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969C8-63DD-4376-9A76-F709633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47975-72AA-4AA5-A87F-954B5195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D54BF-8EDD-4B0C-ABAC-0953A26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F7DC2-919C-45A7-B661-ED725CCF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664ED-A20D-468E-A48A-5DC5E6C7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9F815-667E-4E63-A00C-AE9B52FE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4616F-E84F-4896-80CE-503B12C1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68B5D-5C37-4057-92C3-D8395B6D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DFD5E-819A-4950-AB41-670E24C4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E5626-AC22-4C8E-9180-5C7ED3FD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3A8F7-C2EC-4B36-81E4-2DBC71C0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FD615-B6F4-4211-8081-E63B3557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BE0B0-E294-4328-988E-8F235447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425E10-187D-4B6C-AA04-4248E77E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4E849-AAEB-4252-B4FF-51F4AFF1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F9929-DC3F-4D7A-A7A2-8E32F4BC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443E0-69CD-43B5-AF45-95C7D93E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C67C7-A4B5-4AE1-A33A-5B79BDB3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A639-45CE-494D-A27E-7706B5059DF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A929-4DAD-4D4B-AAF6-5995B91C790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1003-F765-4B1A-9C10-B91CA2A5342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00B7-D6BF-4048-B5A7-1A9DDD49568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878B-002F-45A0-ADE4-2CD1AECED48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8578-771A-4F7C-BACE-610B7D83BA0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E8D0-E526-43EE-B9D0-0F7ACE5B145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4E29-78E3-4930-B584-D56EB89C604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04B8-9C49-44FE-9FB8-80F19CFBA4C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E435-C0C7-4C8B-A4F9-895FFDCDCEA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4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4284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4284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의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4284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4284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4284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 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357120" y="71280"/>
            <a:ext cx="8748720" cy="6286680"/>
            <a:chOff x="3571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3571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3571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3571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4284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3571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케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이나 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면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사회적 기능과 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client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을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24160" y="42480"/>
                <a:ext cx="6505560" cy="902160"/>
                <a:chOff x="1424160" y="42480"/>
                <a:chExt cx="650556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4160" y="42480"/>
                  <a:ext cx="650556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are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lient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323640" y="1849320"/>
              <a:ext cx="8606160" cy="4579920"/>
              <a:chOff x="32364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32364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394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충족에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53784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285480" y="928440"/>
              <a:ext cx="8643960" cy="714240"/>
              <a:chOff x="28548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28548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356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285840" y="142920"/>
            <a:ext cx="8715240" cy="6357960"/>
            <a:chOff x="285840" y="142920"/>
            <a:chExt cx="8715240" cy="6357960"/>
          </a:xfrm>
        </p:grpSpPr>
        <p:sp>
          <p:nvSpPr>
            <p:cNvPr id="602" name="AutoShape 2"/>
            <p:cNvSpPr/>
            <p:nvPr/>
          </p:nvSpPr>
          <p:spPr>
            <a:xfrm>
              <a:off x="285840" y="500040"/>
              <a:ext cx="871524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357120" y="142920"/>
              <a:ext cx="8501040" cy="3530880"/>
              <a:chOff x="357120" y="142920"/>
              <a:chExt cx="850104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357120" y="642960"/>
                <a:ext cx="850104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285840" y="4143600"/>
              <a:ext cx="87152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357120" y="3786120"/>
              <a:ext cx="8286840" cy="2626920"/>
              <a:chOff x="357120" y="3786120"/>
              <a:chExt cx="8286840" cy="262692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357120" y="37861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428400" y="4357440"/>
                <a:ext cx="821556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四苦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 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3571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4284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5713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4284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5713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4284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285840" y="142920"/>
            <a:ext cx="8715240" cy="6000840"/>
            <a:chOff x="285840" y="142920"/>
            <a:chExt cx="8715240" cy="6000840"/>
          </a:xfrm>
        </p:grpSpPr>
        <p:sp>
          <p:nvSpPr>
            <p:cNvPr id="619" name="AutoShape 2"/>
            <p:cNvSpPr/>
            <p:nvPr/>
          </p:nvSpPr>
          <p:spPr>
            <a:xfrm>
              <a:off x="285840" y="428400"/>
              <a:ext cx="8715240" cy="5715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357120" y="142920"/>
              <a:ext cx="8501040" cy="2593440"/>
              <a:chOff x="357120" y="142920"/>
              <a:chExt cx="850104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357120" y="642960"/>
                <a:ext cx="850104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357120" y="2746440"/>
              <a:ext cx="850104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동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357120" y="4797720"/>
              <a:ext cx="850104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까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능력으로 인한 제한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6:55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