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8C35-AB7F-4814-B796-2608A7DC28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8042-A9A3-4744-8C6C-1DF11A4F8D7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7438-ED3A-4B2A-86B6-F8F13BEC232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1145-FB30-4021-8A3C-589B9163E86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6EB-948C-4E4B-A4A2-5ED0373BDB1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6EB81-E4A4-4394-A778-5F9A91F6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DCC92-D8AD-4D94-9269-D6AED954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2FFBB-2168-4961-B657-788CCC29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B0516-B636-423D-94CF-99BED6AF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9F8FF-F350-463E-AF1D-2E19C874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82991-8724-43A7-9839-0298F5B5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1D61D-26F6-4267-9322-449EF6B5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FE904-AE3C-4D51-8638-FF51B45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23EDF-576E-4E6C-85C2-1B9AB7C2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C8137-0499-4678-A53C-0A3CC53D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B955A-5CE1-46E5-80E7-CFD49488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E9DC6-0862-444E-A9D4-F423D910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FD972-6CA3-48D2-B26A-A1071948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21DDA-92F2-4A23-A15D-8BBFBF67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6CEC75-F6CD-4725-9E2E-60439E6A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C41DF-BD6C-406F-B6F5-E946C28D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BDBC6-8357-483B-B8E1-3C3831D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34EAFD-CB62-4B18-9541-441486A7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B09E9-6EBE-4797-8301-12857A13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6F65C3-99D3-45AA-8DAB-0612514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C1627-0D47-4805-B19C-493DFBE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4055A-60C4-4F3D-BDB6-95A073DF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E8745-352B-4079-A1B4-80B64ABB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6DF71-9E71-4D5D-AA23-6964B50E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E6E4-A4DF-447A-B9B4-2E856114F5A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7B58-7B3E-4B11-8C74-88E0D605F2D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C78A-9E0F-4CC2-81EB-52B68A67A32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8503-D447-4B6D-8347-610FBA372AA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A871-D6E5-4F20-A299-1DB35222A34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7C19-4C23-45CE-9ED5-B6234C59EA7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A053-0048-45F0-833E-C00EADE035F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0914-4D46-4589-8494-3A05078DA45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2C29-C951-45A1-9345-9CF42ED9D6F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81AC-15CC-4A9A-B20C-46F293978FE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4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4284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4284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의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4284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4284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4284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 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357120" y="71280"/>
            <a:ext cx="8748720" cy="6286680"/>
            <a:chOff x="3571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3571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3571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3571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4284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3571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케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이나 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면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사회적 기능과 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client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을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24160" y="42480"/>
                <a:ext cx="6505560" cy="902160"/>
                <a:chOff x="1424160" y="42480"/>
                <a:chExt cx="650556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4160" y="42480"/>
                  <a:ext cx="650556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are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lient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323640" y="1849320"/>
              <a:ext cx="8606160" cy="4579920"/>
              <a:chOff x="32364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32364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394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충족에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53784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285480" y="928440"/>
              <a:ext cx="8643960" cy="714240"/>
              <a:chOff x="28548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28548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356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285840" y="142920"/>
            <a:ext cx="8715240" cy="6357960"/>
            <a:chOff x="285840" y="142920"/>
            <a:chExt cx="8715240" cy="6357960"/>
          </a:xfrm>
        </p:grpSpPr>
        <p:sp>
          <p:nvSpPr>
            <p:cNvPr id="602" name="AutoShape 2"/>
            <p:cNvSpPr/>
            <p:nvPr/>
          </p:nvSpPr>
          <p:spPr>
            <a:xfrm>
              <a:off x="285840" y="500040"/>
              <a:ext cx="871524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357120" y="142920"/>
              <a:ext cx="8501040" cy="3530880"/>
              <a:chOff x="357120" y="142920"/>
              <a:chExt cx="850104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357120" y="642960"/>
                <a:ext cx="850104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285840" y="4143600"/>
              <a:ext cx="87152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357120" y="3786120"/>
              <a:ext cx="8286840" cy="2626920"/>
              <a:chOff x="357120" y="3786120"/>
              <a:chExt cx="8286840" cy="262692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357120" y="37861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428400" y="4357440"/>
                <a:ext cx="821556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四苦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 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3571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4284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5713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4284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5713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4284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285840" y="142920"/>
            <a:ext cx="8715240" cy="6000840"/>
            <a:chOff x="285840" y="142920"/>
            <a:chExt cx="8715240" cy="6000840"/>
          </a:xfrm>
        </p:grpSpPr>
        <p:sp>
          <p:nvSpPr>
            <p:cNvPr id="619" name="AutoShape 2"/>
            <p:cNvSpPr/>
            <p:nvPr/>
          </p:nvSpPr>
          <p:spPr>
            <a:xfrm>
              <a:off x="285840" y="428400"/>
              <a:ext cx="8715240" cy="5715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357120" y="142920"/>
              <a:ext cx="8501040" cy="2593440"/>
              <a:chOff x="357120" y="142920"/>
              <a:chExt cx="850104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357120" y="642960"/>
                <a:ext cx="850104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357120" y="2746440"/>
              <a:ext cx="850104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동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357120" y="4797720"/>
              <a:ext cx="850104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까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능력으로 인한 제한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6:55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