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A2B0-F427-4E6A-905F-CA80FF8D07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0776-2204-458E-B7B2-4DFF512BEF2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DEBE-2312-41F4-8A4A-C168E498A03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77EEB-7E3B-486B-B029-BBD22FCD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E5158-01BD-4755-B706-E272B51E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47EA9-C51D-4997-BFBE-975CAB3A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82823-B37F-49D8-A5D3-8C498997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771EB-8076-4F96-B344-A7D5B8CE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BC72B-5C80-4302-9F30-B5CF98F5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1826A-DF1B-4243-A6E7-3C1317E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092E8-D3B2-46AC-8345-49FEA282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24224-C226-4AE0-98B7-961B1BC5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380DB-7276-4FE5-AC15-6377443E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0BBCC-C494-4729-9896-29390472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881CC-9A44-4517-8F65-A95105AB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D4FB-5A03-4FDF-BE49-867B3422468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15C4-529E-4538-8F28-FB1CD3DDB81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D704-A287-41DA-A391-6310568E8B6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3C54-4C0B-40DC-B869-8BB9BDB8015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2E99-0742-4896-9828-B0354419955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285840" y="71280"/>
            <a:ext cx="8643960" cy="6286680"/>
            <a:chOff x="285840" y="71280"/>
            <a:chExt cx="8643960" cy="6286680"/>
          </a:xfrm>
        </p:grpSpPr>
        <p:sp>
          <p:nvSpPr>
            <p:cNvPr id="371" name="AutoShape 2"/>
            <p:cNvSpPr/>
            <p:nvPr/>
          </p:nvSpPr>
          <p:spPr>
            <a:xfrm>
              <a:off x="285840" y="571320"/>
              <a:ext cx="864396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571320" y="642600"/>
              <a:ext cx="835848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84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원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280" y="1857240"/>
              <a:ext cx="85316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스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운 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.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 사회관계망과 지지의 변화 이해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망과 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400"/>
            <a:chOff x="0" y="0"/>
            <a:chExt cx="9144000" cy="635940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35848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oup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식지 않는 거리의 별거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840"/>
              <a:chOff x="285480" y="3571560"/>
              <a:chExt cx="8643960" cy="278784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2280"/>
                <a:ext cx="8643960" cy="233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80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2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7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급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복지부 노인실태조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신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6017760"/>
            <a:chOff x="214200" y="285840"/>
            <a:chExt cx="8858520" cy="60177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52560"/>
              <a:ext cx="8858520" cy="53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별거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6-59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3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4-63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7-7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시 부양가족은 자원부족과 부양능력 약화로 스트레스와 부양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879520"/>
            <a:chOff x="142920" y="142920"/>
            <a:chExt cx="8929800" cy="587952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54000"/>
              <a:ext cx="8929800" cy="50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-5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별한 여성 고령 독신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될 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적 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67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500040"/>
              <a:ext cx="8573040" cy="2857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57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6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20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과 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911160"/>
              <a:ext cx="8643960" cy="3320640"/>
              <a:chOff x="285840" y="911160"/>
              <a:chExt cx="8643960" cy="332064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92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868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9111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 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2320"/>
              <a:ext cx="8643960" cy="2290680"/>
              <a:chOff x="285840" y="4072320"/>
              <a:chExt cx="8643960" cy="229068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 point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TONK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23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4:37:57Z</dcterms:modified>
  <cp:revision>35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