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3378-3511-47E0-BAB5-021ADE7146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9FD2-CB8F-4B74-A488-309356BA19D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6B0E-E29A-44A1-9EA7-BEEB8727A97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6E75-BF37-45E9-8EA6-11BD21928DB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9D37-9255-463F-8F49-A506725B962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EEB35-1CED-4349-84DF-47E60614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3E728-E879-4E33-B47B-74D10768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B9C8A-C072-427F-9F98-DE5A26D6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C200B-40F6-4DA8-942E-A6D031CC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1735C-6CD5-4273-85D5-4919BF7E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07439-084B-460F-9B39-815A2CC6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63202-3AEF-4296-BF6A-EE95F8B4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5AF3A-FE99-4457-8360-A8BF3925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354C7-3B1E-4322-B534-51627641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A682E-D6F7-4866-9D6B-1623D35A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270A9-C828-48A0-8F1D-F6500DFE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87B86-8CF7-413B-AE2F-DFC7C556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8F17CF-45BE-426D-9176-490A02BB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2929F5-881F-43ED-A147-BB4204A3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3E3DD8-3F43-47E9-9584-D0438539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9D6711-548E-4E7E-98D3-5D08B1B5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C48C9E-D8FD-476A-B1F4-3DFB2728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244787-2BDC-4909-9DE6-46A4064F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76CA1-2CF1-4D44-B8B1-98562D90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43B76C-AC0F-4241-8733-B7C71FFF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97BC32-B893-4473-84D1-4014B87A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C52FC2-8E05-4823-8650-213B2E94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D5DC20-8F56-4B02-B9CE-0F96AEE5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2E6E51-773C-4F7A-B546-AAB93B20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0C74-E365-4889-A70D-AD74F178C0C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1BAE-6DBD-44A6-B2A2-3BDE73D0088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91F2-514D-4120-B0FA-625DD273834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B5D4-D0A2-4C6F-8531-3CC026F44CD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30C7-27EC-4855-AEA6-AD6BF244F79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4617-C3D3-4BBB-BAEB-EF886AF986C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03A0-1BF2-4E1A-82A6-E2D31D56FB4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09E5-A415-4088-8441-02368AF3EEA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B7A3-1D4C-4D97-9F5A-45EE98F9742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B7E0-BCDB-4F10-849A-19B60A2033A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4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4284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4284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의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4284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4284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4284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 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357120" y="71280"/>
            <a:ext cx="8748720" cy="6286680"/>
            <a:chOff x="3571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3571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3571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3571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4284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3571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케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이나 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면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사회적 기능과 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client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을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24160" y="42480"/>
                <a:ext cx="6505560" cy="902160"/>
                <a:chOff x="1424160" y="42480"/>
                <a:chExt cx="650556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24160" y="42480"/>
                  <a:ext cx="650556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are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lient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323640" y="1849320"/>
              <a:ext cx="8606160" cy="4579920"/>
              <a:chOff x="32364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32364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394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충족에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53784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285480" y="928440"/>
              <a:ext cx="8643960" cy="714240"/>
              <a:chOff x="28548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28548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356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285840" y="142920"/>
            <a:ext cx="8715240" cy="6357960"/>
            <a:chOff x="285840" y="142920"/>
            <a:chExt cx="8715240" cy="6357960"/>
          </a:xfrm>
        </p:grpSpPr>
        <p:sp>
          <p:nvSpPr>
            <p:cNvPr id="602" name="AutoShape 2"/>
            <p:cNvSpPr/>
            <p:nvPr/>
          </p:nvSpPr>
          <p:spPr>
            <a:xfrm>
              <a:off x="285840" y="500040"/>
              <a:ext cx="871524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357120" y="142920"/>
              <a:ext cx="8501040" cy="3530880"/>
              <a:chOff x="357120" y="142920"/>
              <a:chExt cx="850104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357120" y="642960"/>
                <a:ext cx="850104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285840" y="4143600"/>
              <a:ext cx="87152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357120" y="3786120"/>
              <a:ext cx="8286840" cy="2626920"/>
              <a:chOff x="357120" y="3786120"/>
              <a:chExt cx="8286840" cy="262692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357120" y="37861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428400" y="4357440"/>
                <a:ext cx="821556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四苦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 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3571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4284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5713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4284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5713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4284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285840" y="142920"/>
            <a:ext cx="8715240" cy="6000840"/>
            <a:chOff x="285840" y="142920"/>
            <a:chExt cx="8715240" cy="6000840"/>
          </a:xfrm>
        </p:grpSpPr>
        <p:sp>
          <p:nvSpPr>
            <p:cNvPr id="619" name="AutoShape 2"/>
            <p:cNvSpPr/>
            <p:nvPr/>
          </p:nvSpPr>
          <p:spPr>
            <a:xfrm>
              <a:off x="285840" y="428400"/>
              <a:ext cx="8715240" cy="5715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357120" y="142920"/>
              <a:ext cx="8501040" cy="2593440"/>
              <a:chOff x="357120" y="142920"/>
              <a:chExt cx="850104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357120" y="642960"/>
                <a:ext cx="850104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357120" y="2746440"/>
              <a:ext cx="850104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동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357120" y="4797720"/>
              <a:ext cx="850104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까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능력으로 인한 제한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6:55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