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CD0A-DC63-4214-A618-113D820D20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0A81-9315-4888-9111-7396D87274A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C1DC-BC19-4E73-94C5-47EE9DC310F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4865B-5137-4A72-9F3F-DFA4394F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5CE91-9F83-4AAF-90B2-66514A0C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DF3CC-C389-493D-A9A2-540E213D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55846-2713-488F-B806-7B3AFBBF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17BB3-42F0-471C-8E22-4FCF843D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9C4D-4021-4E5D-9937-E4D3D4A0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43CD4-A28D-44DE-A19C-34F94BC8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431BF-FCA6-4267-A900-383CD0A5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C0578-2A26-48E7-A170-DC7ED6B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1D3D1-7771-4226-A420-CFAFB23D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33C21-155D-4F03-A10B-B61D0544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C9AB5-322F-40D9-9FBD-3CFF0C23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7CF7-AD16-457F-B0CD-547FC2FA6F8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17F7-82E6-4755-93A3-720F5BF1FB0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4467-9B11-40AC-ABA2-A71E9F1DB47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434E-A40F-449B-BFA7-277A5468E78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42F-AE95-49DF-BAF6-36C5A14252E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285840" y="71280"/>
            <a:ext cx="8643960" cy="6286680"/>
            <a:chOff x="285840" y="71280"/>
            <a:chExt cx="8643960" cy="6286680"/>
          </a:xfrm>
        </p:grpSpPr>
        <p:sp>
          <p:nvSpPr>
            <p:cNvPr id="371" name="AutoShape 2"/>
            <p:cNvSpPr/>
            <p:nvPr/>
          </p:nvSpPr>
          <p:spPr>
            <a:xfrm>
              <a:off x="285840" y="571320"/>
              <a:ext cx="864396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571320" y="642600"/>
              <a:ext cx="835848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84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원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280" y="1857240"/>
              <a:ext cx="85316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스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운 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.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 사회관계망과 지지의 변화 이해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망과 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400"/>
            <a:chOff x="0" y="0"/>
            <a:chExt cx="9144000" cy="635940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35848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oup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식지 않는 거리의 별거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840"/>
              <a:chOff x="285480" y="3571560"/>
              <a:chExt cx="8643960" cy="278784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2280"/>
                <a:ext cx="8643960" cy="233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80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2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7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급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복지부 노인실태조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신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6017760"/>
            <a:chOff x="214200" y="285840"/>
            <a:chExt cx="8858520" cy="60177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52560"/>
              <a:ext cx="8858520" cy="53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별거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6-59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3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4-63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7-7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시 부양가족은 자원부족과 부양능력 약화로 스트레스와 부양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879520"/>
            <a:chOff x="142920" y="142920"/>
            <a:chExt cx="8929800" cy="587952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54000"/>
              <a:ext cx="8929800" cy="50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-5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별한 여성 고령 독신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될 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적 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67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500040"/>
              <a:ext cx="8573040" cy="2857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57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6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20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과 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911160"/>
              <a:ext cx="8643960" cy="3320640"/>
              <a:chOff x="285840" y="911160"/>
              <a:chExt cx="8643960" cy="332064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92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868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9111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 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2320"/>
              <a:ext cx="8643960" cy="2290680"/>
              <a:chOff x="285840" y="4072320"/>
              <a:chExt cx="8643960" cy="229068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 point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TONK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23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4:37:57Z</dcterms:modified>
  <cp:revision>35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