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59D2-7073-41B0-91E2-BE0E8C48B7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F629-EA53-4E34-9825-186EA63DBBA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AB55-1BAF-49BD-A55D-20FC0CE99B5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59E3-EB1A-43F6-AFF9-C15292E9799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3471-7540-49F7-9483-93EEE283068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1751-71B4-4F01-8D59-3FF94A6D6AA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A3AD8-03CE-4EFC-B975-B21BCFD5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B05EF-0CCE-474D-9AFF-F15B046D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9BC2F-3283-4042-A750-CDD350AD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BA86A-13D3-48AB-930F-2A0C5396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23222-E93D-42B3-8338-D9C4C6DD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24BE5-7DE2-412D-BD6B-CC62CC80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67AF2-4905-458A-9E74-D4AC99AA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D4580-FB7E-41F1-9517-E95D037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CC065-B8AB-4CC5-9C93-39917B3B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41225-1AB3-40F4-BAC4-81FA0E18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408F6-5014-4E56-89E0-004B4B53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AFB83-54B5-414E-AFB4-A0BFB89D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E538DD-8002-4DDA-BD31-DACE8546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C6330-2063-4E4B-A3BD-B8E5DB2A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01B68-7FE8-4E63-91B6-5CEAB538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740D5-1D18-430B-8331-5AF97C15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F676E0-6E6D-4C86-9F7C-9BFD1830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E42DE-F3F7-468C-A64F-6015F275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49B0B-56B6-4DAE-BA45-AFBF6A1E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1F9C4-4E8E-4E68-8AFD-7540F40E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6EDFB-61DD-4956-AC36-5C811764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DE101-CDA0-4D83-998E-63233F4E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CB4C1-ED72-4A5F-89D9-3EAB6A1D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D78C3-5A93-4667-BE67-CCC9E5A8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12C4-01F8-4152-8385-6D9E6FEA610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786D-8536-437B-93EA-42158B6DA7E3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E411-595D-436A-89CC-FC2D6B58D3B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C292-87A4-40F7-97E3-B73CFA1EC4F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2AC5-8B34-45D4-968D-562C6DD989C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380C-7B52-4F6E-B406-65B88F0B6F0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2706-0008-452D-9BFE-F147B29CFFAD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 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8894880" cy="6303960"/>
            <a:chOff x="142920" y="142920"/>
            <a:chExt cx="8894880" cy="6303960"/>
          </a:xfrm>
        </p:grpSpPr>
        <p:sp>
          <p:nvSpPr>
            <p:cNvPr id="514" name="AutoShape 2"/>
            <p:cNvSpPr/>
            <p:nvPr/>
          </p:nvSpPr>
          <p:spPr>
            <a:xfrm>
              <a:off x="251280" y="3927600"/>
              <a:ext cx="8786520" cy="2495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520" cy="1785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4880" cy="2270520"/>
              <a:chOff x="142920" y="785520"/>
              <a:chExt cx="871488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2320" cy="4287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232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894880" cy="3089520"/>
              <a:chOff x="142920" y="3357360"/>
              <a:chExt cx="8894880" cy="308952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179280" y="3973320"/>
                <a:ext cx="8858520" cy="24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 65+ 36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1) 60+ 44.0%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여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2.4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.0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3.8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.4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142920" y="357120"/>
            <a:ext cx="8858160" cy="6354720"/>
            <a:chOff x="142920" y="357120"/>
            <a:chExt cx="8858160" cy="635472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93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920" y="357120"/>
              <a:ext cx="8858160" cy="4467240"/>
              <a:chOff x="142920" y="357120"/>
              <a:chExt cx="8858160" cy="446724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920" y="35712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480" y="981000"/>
                <a:ext cx="8715600" cy="38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내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.7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3.5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2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4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상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일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5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4-87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6"/>
            <a:stretch/>
          </p:blipFill>
          <p:spPr>
            <a:xfrm>
              <a:off x="611280" y="4926600"/>
              <a:ext cx="4176360" cy="178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232520"/>
            <a:chOff x="285840" y="603360"/>
            <a:chExt cx="8643960" cy="423252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28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232520"/>
              <a:chOff x="285840" y="603360"/>
              <a:chExt cx="8643960" cy="42325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4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는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 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로서의 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 지위로서의 퇴직이라 함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과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와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 및 일 가정 양립 지원에 관한 법률에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구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활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293360"/>
              <a:ext cx="8749080" cy="77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5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321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초중고교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학교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6061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9.5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사회적 조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社會的 早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고 특별한 단점 없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 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 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&amp;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 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7440"/>
            <a:chOff x="0" y="0"/>
            <a:chExt cx="9144000" cy="642744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200"/>
              <a:ext cx="8820360" cy="928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520"/>
              <a:ext cx="8820360" cy="3427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6800"/>
              <a:ext cx="8715600" cy="1269360"/>
              <a:chOff x="142560" y="856800"/>
              <a:chExt cx="8715600" cy="126936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68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648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904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년기에는 건강문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으로 소득 감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 등으로 인한 가계지출은 이전과 유사하거나 오히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증가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에 임금소득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부터 감소 시작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이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에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임금소득 수준으로 회귀하는 경향 보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 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92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96320" cy="6429600"/>
            <a:chOff x="142920" y="71280"/>
            <a:chExt cx="889632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896320" cy="2549880"/>
              <a:chOff x="142920" y="642960"/>
              <a:chExt cx="8896320" cy="254988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360"/>
                <a:ext cx="875376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8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09080" cy="6000840"/>
            <a:chOff x="0" y="71280"/>
            <a:chExt cx="910908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16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1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79280" y="1214280"/>
              <a:ext cx="8929800" cy="26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은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은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장년기 이후 소득변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 증가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 감소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 다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7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4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,026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55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8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 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89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,62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3760"/>
            <a:chOff x="142920" y="71280"/>
            <a:chExt cx="8858160" cy="614376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08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1600"/>
              <a:chOff x="142920" y="785520"/>
              <a:chExt cx="8858160" cy="542160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47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천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8680"/>
                <a:ext cx="8715600" cy="2278440"/>
                <a:chOff x="142920" y="392868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86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664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간병수발비 순으로 지출 금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초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동거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300280"/>
              <a:chOff x="142920" y="785520"/>
              <a:chExt cx="9001080" cy="530028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9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가족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이행 않는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880"/>
                <a:ext cx="8858520" cy="3013920"/>
                <a:chOff x="142920" y="3071880"/>
                <a:chExt cx="8858520" cy="301392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8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573000"/>
                  <a:ext cx="8715960" cy="251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6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3.4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중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국민기초생활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2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5.2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7,90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상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7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-1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1360"/>
                <a:ext cx="8849160" cy="48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productive activity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국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볼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경제활동에 참여하여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과 사회에 필요한 재화와 서비스를 생산하는 활동’으로 규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 및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 제공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 등의 심리사회적 문제 경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54:10Z</dcterms:modified>
  <cp:revision>30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