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95A8-6C35-4AAA-82E8-C93AA139C0E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34A1-68AF-486E-A593-EB641E1D2DE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7178-948F-437F-90AA-54AB2B5A0E5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09E0E-CA26-4E63-99B1-BE5F36E1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A92BE-B2F2-4A2A-BED7-9CC1E7A7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D45BF-EBDD-457B-8495-ACC24B67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F6389-E84A-40CE-AF58-132417EE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798F4-F16E-4B26-88C7-E2A0237C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246F6-A92F-487B-BC64-BEED4A1F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54D0A-C322-401B-8FB3-19B0CA2B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187A7-2211-4917-9E53-569B77EE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2DA99-A6D3-4485-ABE8-28F18C62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2D3FE-17BE-4CBC-BE2F-0535E20F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71C07-A045-4312-A789-1C61D489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01A34-F83F-46FF-85C8-41CD45B5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9CAB-F79E-4D3C-903C-4D72071DD3FC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F7A0-AF20-4FB2-8922-4DD9B22DD80D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B001-0711-4291-AAED-E5BC2F94FA93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6C44-F540-4694-A647-3E1F6298652E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8F24-5EA5-4F0F-B305-26B6EBD3496A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28760" y="242856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12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 프로그램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12"/>
          <p:cNvGrpSpPr/>
          <p:nvPr/>
        </p:nvGrpSpPr>
        <p:grpSpPr>
          <a:xfrm>
            <a:off x="142920" y="285840"/>
            <a:ext cx="9001080" cy="5879880"/>
            <a:chOff x="142920" y="285840"/>
            <a:chExt cx="9001080" cy="5879880"/>
          </a:xfrm>
        </p:grpSpPr>
        <p:sp>
          <p:nvSpPr>
            <p:cNvPr id="375" name="AutoShape 2"/>
            <p:cNvSpPr/>
            <p:nvPr/>
          </p:nvSpPr>
          <p:spPr>
            <a:xfrm>
              <a:off x="142920" y="5022720"/>
              <a:ext cx="8820360" cy="1143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6" name="그룹 15"/>
            <p:cNvGrpSpPr/>
            <p:nvPr/>
          </p:nvGrpSpPr>
          <p:grpSpPr>
            <a:xfrm>
              <a:off x="142920" y="1103400"/>
              <a:ext cx="8820360" cy="3405960"/>
              <a:chOff x="142920" y="1103400"/>
              <a:chExt cx="8820360" cy="3405960"/>
            </a:xfrm>
          </p:grpSpPr>
          <p:sp>
            <p:nvSpPr>
              <p:cNvPr id="377" name="직사각형 6"/>
              <p:cNvSpPr/>
              <p:nvPr/>
            </p:nvSpPr>
            <p:spPr>
              <a:xfrm>
                <a:off x="142920" y="1103400"/>
                <a:ext cx="631836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대상자 선정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8" name="AutoShape 2"/>
              <p:cNvSpPr/>
              <p:nvPr/>
            </p:nvSpPr>
            <p:spPr>
              <a:xfrm>
                <a:off x="142920" y="1509480"/>
                <a:ext cx="8820360" cy="2999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9" name="Text Box 25"/>
              <p:cNvSpPr/>
              <p:nvPr/>
            </p:nvSpPr>
            <p:spPr>
              <a:xfrm>
                <a:off x="142920" y="1557360"/>
                <a:ext cx="882036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자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누가 대상이 되고 누가 제외될 것인가를 결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 집단 추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나 욕구를 지닌 것으로 판단되는 해당지역 전체 대상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 중에서 문제에 취약하거나 문제나 욕구가 심각한 인구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표적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로서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자격요건을 갖춘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에 실제 참여할 인구 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원범위를 고려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에 자발적 동의를 한 대상자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정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참여의 혜택을 얻을 수 있는 능력이 있는 대상자를 선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된 참여자 이외에 도움을 주거나 함께 참여하는 주변적 참여자 규정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0" name="직사각형 10"/>
            <p:cNvSpPr/>
            <p:nvPr/>
          </p:nvSpPr>
          <p:spPr>
            <a:xfrm>
              <a:off x="214200" y="4616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자원체계 확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Text Box 25"/>
            <p:cNvSpPr/>
            <p:nvPr/>
          </p:nvSpPr>
          <p:spPr>
            <a:xfrm>
              <a:off x="290520" y="5021280"/>
              <a:ext cx="8853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대상자 선정을 위해서는 조직의 자원동원과 관리 능력 검토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인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에 대한 검토가 이루어져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한 조직에 대한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WOT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약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협요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분석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AutoShape 4"/>
            <p:cNvSpPr/>
            <p:nvPr/>
          </p:nvSpPr>
          <p:spPr>
            <a:xfrm>
              <a:off x="357120" y="28584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대상자 선정과 자원체계 확인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그룹 7"/>
          <p:cNvGrpSpPr/>
          <p:nvPr/>
        </p:nvGrpSpPr>
        <p:grpSpPr>
          <a:xfrm>
            <a:off x="142920" y="214200"/>
            <a:ext cx="9001080" cy="6154200"/>
            <a:chOff x="142920" y="214200"/>
            <a:chExt cx="9001080" cy="6154200"/>
          </a:xfrm>
        </p:grpSpPr>
        <p:sp>
          <p:nvSpPr>
            <p:cNvPr id="384" name="AutoShape 2"/>
            <p:cNvSpPr/>
            <p:nvPr/>
          </p:nvSpPr>
          <p:spPr>
            <a:xfrm>
              <a:off x="214200" y="350028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5" name="AutoShape 2"/>
            <p:cNvSpPr/>
            <p:nvPr/>
          </p:nvSpPr>
          <p:spPr>
            <a:xfrm>
              <a:off x="142920" y="785520"/>
              <a:ext cx="88203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6" name="Text Box 25"/>
            <p:cNvSpPr/>
            <p:nvPr/>
          </p:nvSpPr>
          <p:spPr>
            <a:xfrm>
              <a:off x="142920" y="85716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이념과 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목적으로부터 논리적으로 유추한 프로그램의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궁극적 지향점을 추상적 진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어진 시간 내에 프로그램이 성취하고자 하는 결과와 영향의 구체적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위계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간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ko-KR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향목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가 갖추어야 할 조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466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 SMART(specific, measurable, attainable, result-oriented, time frame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7" name="Text Box 25"/>
            <p:cNvSpPr/>
            <p:nvPr/>
          </p:nvSpPr>
          <p:spPr>
            <a:xfrm>
              <a:off x="290520" y="3500280"/>
              <a:ext cx="88534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달성방법을 모색하기 위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if-then’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프로그램 가설 설정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가설에 근거하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구성을 위한 개입과 서비스 형태 설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입 및 서비스 형태 모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발자의 지식에 근거한 창의적 아이디어 필요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를 위해 기존 사례집 참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장방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브레인스토밍 등의 기법 활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ee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hink &amp; do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체계적으로 정리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창조적으로 모방하는 것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 서비스와 개입의 우선순위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능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일치도 등 고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세부 내용의 최종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합목적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포괄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실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성의 기준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선정과정을 체계적으로 밟는 것도 중요하지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보다 참여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견이 중요하므로 참여자를 대상으로 사전 의견수렴과 조정 작업이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8" name="AutoShape 4"/>
            <p:cNvSpPr/>
            <p:nvPr/>
          </p:nvSpPr>
          <p:spPr>
            <a:xfrm>
              <a:off x="357120" y="21420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목적과 목표 설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9" name="AutoShape 4"/>
            <p:cNvSpPr/>
            <p:nvPr/>
          </p:nvSpPr>
          <p:spPr>
            <a:xfrm>
              <a:off x="357120" y="292896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자료수집과 프로그램 내용 선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2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실행계획의 수립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Text Box 6"/>
            <p:cNvSpPr/>
            <p:nvPr/>
          </p:nvSpPr>
          <p:spPr>
            <a:xfrm>
              <a:off x="285840" y="980640"/>
              <a:ext cx="867888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내용의 조직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속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계열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합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양성의 원리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근거로 세부 내용을 배열하고 조직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부 프로그램 내용의 실행을 위한 구체적 방법과 시간계획 수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검토기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PERT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내용과 활동별 시간계획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Gantt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chart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월별 활동카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Shed-U Graph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총괄진행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Flow chart)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담당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문위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조인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봉사인력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역할분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6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하 원칙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5W1H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거 상세 분담계획수립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재정자원계획과 조달방법 계획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품목별 예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과주의 예산 등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서를 작성하여 조직관리자의 승인을 받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직내 관련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서의 종사자와 긴밀한 협조관계를 유지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5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7) 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실행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Text Box 6"/>
            <p:cNvSpPr/>
            <p:nvPr/>
          </p:nvSpPr>
          <p:spPr>
            <a:xfrm>
              <a:off x="285840" y="1095480"/>
              <a:ext cx="8643960" cy="52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에 얽매여 목적전치현상이 발생하지 않도록 유의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지속적 점검과 수정 보완 필요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점검항목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70-471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성공 실행을 위해 적정 규모의 참여자 확보가 필수적이며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평상시의 원만한 관계형성과 신뢰감 구축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리고 프로그램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에 대한 적극적 권유가 필요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진행과 관련된 조직상황 특히 적정 예산과 인력의 확보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서와 종사자와의 협조체계 형성이 중요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정화 단계에서도 조직 내외부의 상황변화에 따른 장애요인 파악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원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자 호응도 등에 대한 점검과 수정보완 작업이 필수적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직에서도 프로그램 담당자에 대한 지지 분위기 조성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객관적 평가와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환류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슈퍼비전을 제공해야 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9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8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평가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Text Box 6"/>
            <p:cNvSpPr/>
            <p:nvPr/>
          </p:nvSpPr>
          <p:spPr>
            <a:xfrm>
              <a:off x="285840" y="1095480"/>
              <a:ext cx="8643960" cy="49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특정 개입이나 프로그램의 목적 성취 정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비용은 효율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집행되었는지를 기준으로 프로그램의 성공 여부를 결정하는 체계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의 필요성과 효과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72-473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를 위한 논리모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 평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 평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달성모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의 달성과 실패 수준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모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이  클라이언트에게 미친 영향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편익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/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수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변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축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폐지 여부 등을 결정하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활용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효과나 부작용 등의 발생경로 확인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에 영향을 미친 운영절차와 자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전달과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등의 확인 가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그룹 7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4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. 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제안서 작성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2"/>
            <p:cNvSpPr/>
            <p:nvPr/>
          </p:nvSpPr>
          <p:spPr>
            <a:xfrm>
              <a:off x="285480" y="1214280"/>
              <a:ext cx="8715600" cy="5000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6" name="그룹 10"/>
            <p:cNvGrpSpPr/>
            <p:nvPr/>
          </p:nvGrpSpPr>
          <p:grpSpPr>
            <a:xfrm>
              <a:off x="285480" y="857160"/>
              <a:ext cx="8643960" cy="5147280"/>
              <a:chOff x="285480" y="857160"/>
              <a:chExt cx="8643960" cy="5147280"/>
            </a:xfrm>
          </p:grpSpPr>
          <p:sp>
            <p:nvSpPr>
              <p:cNvPr id="407" name="AutoShape 4"/>
              <p:cNvSpPr/>
              <p:nvPr/>
            </p:nvSpPr>
            <p:spPr>
              <a:xfrm>
                <a:off x="356760" y="857160"/>
                <a:ext cx="535788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제안서의 개념과 의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8" name="Text Box 6"/>
              <p:cNvSpPr/>
              <p:nvPr/>
            </p:nvSpPr>
            <p:spPr>
              <a:xfrm>
                <a:off x="285480" y="1428480"/>
                <a:ext cx="8643960" cy="45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안서의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족한 재원확보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가 개발하고 기획한 프로그램의 실체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의 전문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동원 수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 달성의 방법 등이 포괄적이면서도 구체적으로 담겨 있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의 서비스와 실천의 기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공동모금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기업복지재단 심지어 중앙 및 지방정부에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공모사업을 통해 조직간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 및 기금 배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명성 확보를 위해 프로그램 제안서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이 외부 재정지원기관에 프로그램 제안서를 제출하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 목적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업 수행에 필요한 재원의 확보이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를 거듭할수록 심사기준이 엄격해지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간 경쟁이 치열해지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프로그램 제안서 작성 역량이 곧 조직의 성패를 가름할 정도로 중요해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사회복지조직과 사회복지사는 프로그램 제안서 작성에 관한 지식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을 갖추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그룹 9"/>
          <p:cNvGrpSpPr/>
          <p:nvPr/>
        </p:nvGrpSpPr>
        <p:grpSpPr>
          <a:xfrm>
            <a:off x="142920" y="285840"/>
            <a:ext cx="9001080" cy="6143400"/>
            <a:chOff x="142920" y="285840"/>
            <a:chExt cx="9001080" cy="6143400"/>
          </a:xfrm>
        </p:grpSpPr>
        <p:sp>
          <p:nvSpPr>
            <p:cNvPr id="410" name="AutoShape 4"/>
            <p:cNvSpPr/>
            <p:nvPr/>
          </p:nvSpPr>
          <p:spPr>
            <a:xfrm>
              <a:off x="357120" y="285840"/>
              <a:ext cx="471492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의 작성방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직사각형 5"/>
            <p:cNvSpPr/>
            <p:nvPr/>
          </p:nvSpPr>
          <p:spPr>
            <a:xfrm>
              <a:off x="142920" y="11034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 개요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2" name="AutoShape 2"/>
            <p:cNvSpPr/>
            <p:nvPr/>
          </p:nvSpPr>
          <p:spPr>
            <a:xfrm>
              <a:off x="142920" y="1509480"/>
              <a:ext cx="8967960" cy="2562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Text Box 25"/>
            <p:cNvSpPr/>
            <p:nvPr/>
          </p:nvSpPr>
          <p:spPr>
            <a:xfrm>
              <a:off x="142920" y="150336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 관한 사항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법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외부지원금 현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사업과 유사사업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행경험 등을 기입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관의 유사사업 수행경험을 강조해서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한 장의 계획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one paper proposal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정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법이 제시되어야 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망과 시대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슈를 반영한 독창적 형태로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친 독창성으로 사업대상과 내용 파악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계가 발생하는 것은 바람직하지 못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필요한 경우 부제를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 외에 프로그램 필요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의 특성과 규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력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등 간략히 기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직사각형 8"/>
            <p:cNvSpPr/>
            <p:nvPr/>
          </p:nvSpPr>
          <p:spPr>
            <a:xfrm>
              <a:off x="142920" y="42609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필요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AutoShape 2"/>
            <p:cNvSpPr/>
            <p:nvPr/>
          </p:nvSpPr>
          <p:spPr>
            <a:xfrm>
              <a:off x="142920" y="4653000"/>
              <a:ext cx="8967960" cy="1776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142920" y="4726080"/>
              <a:ext cx="900108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제를 기존 이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계자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구자료를 근거로 객관적 주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실시 예정 지역의 환경 특성 역시 객관적으로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서 기존에 실시한 유사사업 경험과 결과를 상세히 기술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 자원이나 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족 자원에 대해서도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기대효과를 제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그룹 15"/>
          <p:cNvGrpSpPr/>
          <p:nvPr/>
        </p:nvGrpSpPr>
        <p:grpSpPr>
          <a:xfrm>
            <a:off x="142920" y="428760"/>
            <a:ext cx="9153360" cy="5929920"/>
            <a:chOff x="142920" y="428760"/>
            <a:chExt cx="9153360" cy="5929920"/>
          </a:xfrm>
        </p:grpSpPr>
        <p:sp>
          <p:nvSpPr>
            <p:cNvPr id="418" name="AutoShape 2"/>
            <p:cNvSpPr/>
            <p:nvPr/>
          </p:nvSpPr>
          <p:spPr>
            <a:xfrm>
              <a:off x="142920" y="3786840"/>
              <a:ext cx="8967240" cy="2571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직사각형 5"/>
            <p:cNvSpPr/>
            <p:nvPr/>
          </p:nvSpPr>
          <p:spPr>
            <a:xfrm>
              <a:off x="142920" y="4287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대상자 선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AutoShape 2"/>
            <p:cNvSpPr/>
            <p:nvPr/>
          </p:nvSpPr>
          <p:spPr>
            <a:xfrm>
              <a:off x="142920" y="785880"/>
              <a:ext cx="8967240" cy="999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Text Box 25"/>
            <p:cNvSpPr/>
            <p:nvPr/>
          </p:nvSpPr>
          <p:spPr>
            <a:xfrm>
              <a:off x="142920" y="857160"/>
              <a:ext cx="90010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논리적 타당성과 객관적 자료를 기준으로 일반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기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표적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으로 범위를 축소해 나가는 방식으로 제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자 선정 기준과 절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모집 부진시 대응방안도 상세히 기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직사각형 8"/>
            <p:cNvSpPr/>
            <p:nvPr/>
          </p:nvSpPr>
          <p:spPr>
            <a:xfrm>
              <a:off x="142920" y="18576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목적과 목표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2"/>
            <p:cNvSpPr/>
            <p:nvPr/>
          </p:nvSpPr>
          <p:spPr>
            <a:xfrm>
              <a:off x="142920" y="2214720"/>
              <a:ext cx="8967240" cy="1071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4" name="Text Box 25"/>
            <p:cNvSpPr/>
            <p:nvPr/>
          </p:nvSpPr>
          <p:spPr>
            <a:xfrm>
              <a:off x="142920" y="2214720"/>
              <a:ext cx="90010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3-4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으로 포괄적이고 추상적인 미래의 바람직한 상태를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SMART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원칙에 따라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근에는 산출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put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come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을 요구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직사각형 11"/>
            <p:cNvSpPr/>
            <p:nvPr/>
          </p:nvSpPr>
          <p:spPr>
            <a:xfrm>
              <a:off x="142920" y="34038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 내용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Text Box 25"/>
            <p:cNvSpPr/>
            <p:nvPr/>
          </p:nvSpPr>
          <p:spPr>
            <a:xfrm>
              <a:off x="295200" y="378648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평가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활용계획을 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5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 평가방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6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7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8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9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동원 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1"/>
          <p:cNvGrpSpPr/>
          <p:nvPr/>
        </p:nvGrpSpPr>
        <p:grpSpPr>
          <a:xfrm>
            <a:off x="106200" y="115920"/>
            <a:ext cx="9074160" cy="6851160"/>
            <a:chOff x="106200" y="115920"/>
            <a:chExt cx="9074160" cy="6851160"/>
          </a:xfrm>
        </p:grpSpPr>
        <p:sp>
          <p:nvSpPr>
            <p:cNvPr id="428" name="직사각형 5"/>
            <p:cNvSpPr/>
            <p:nvPr/>
          </p:nvSpPr>
          <p:spPr>
            <a:xfrm>
              <a:off x="106200" y="11592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예산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"/>
            <p:cNvSpPr/>
            <p:nvPr/>
          </p:nvSpPr>
          <p:spPr>
            <a:xfrm>
              <a:off x="106200" y="473040"/>
              <a:ext cx="8968680" cy="3348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Text Box 25"/>
            <p:cNvSpPr/>
            <p:nvPr/>
          </p:nvSpPr>
          <p:spPr>
            <a:xfrm>
              <a:off x="178920" y="476280"/>
              <a:ext cx="9001440" cy="31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예산 수립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항목별 예산수립방식 주로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조자 인건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사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준비물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통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무용품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요금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각 항목은 세부 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으로 구분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치게 상세한 작성은 바람직하지 않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예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체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수행 의지 표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달방법도 구체 제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별 소요예산을 명확한 산출근거에 입각하여 제시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필요한 예산 편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안서 평가에 부정적 결과를 초래할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나들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체험여행 등의 일회성 프로그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간식 및 다과비 등을 지나치게 많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편성하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안서 평가에 부정적 결과를 초래할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계획의 작성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1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직사각형 8"/>
            <p:cNvSpPr/>
            <p:nvPr/>
          </p:nvSpPr>
          <p:spPr>
            <a:xfrm>
              <a:off x="106200" y="383868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향후 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AutoShape 2"/>
            <p:cNvSpPr/>
            <p:nvPr/>
          </p:nvSpPr>
          <p:spPr>
            <a:xfrm>
              <a:off x="106200" y="4162320"/>
              <a:ext cx="8968680" cy="1643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Text Box 25"/>
            <p:cNvSpPr/>
            <p:nvPr/>
          </p:nvSpPr>
          <p:spPr>
            <a:xfrm>
              <a:off x="106200" y="4173840"/>
              <a:ext cx="900144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기관은 사업기간이 종료되면 투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산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을 체계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가하여 지속적 재정지원 여부 결정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평가항목 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85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따라서 차기년도 주요 계획과 이에 따른 자원 확보 방안을 제시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단시 기관 자체 노력으로 프로그램을 지속 실행할 수 있는 자구방안과 계획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시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4" name="그룹 12"/>
            <p:cNvGrpSpPr/>
            <p:nvPr/>
          </p:nvGrpSpPr>
          <p:grpSpPr>
            <a:xfrm>
              <a:off x="282600" y="5816520"/>
              <a:ext cx="7673040" cy="1150560"/>
              <a:chOff x="282600" y="5816520"/>
              <a:chExt cx="7673040" cy="1150560"/>
            </a:xfrm>
          </p:grpSpPr>
          <p:pic>
            <p:nvPicPr>
              <p:cNvPr id="435" name="Picture 4" descr="C:\DOCUME~1\USER\LOCALS~1\Temp\UNI000006c8818c.gif"/>
              <p:cNvPicPr/>
              <p:nvPr/>
            </p:nvPicPr>
            <p:blipFill>
              <a:blip r:embed="rId12"/>
              <a:stretch/>
            </p:blipFill>
            <p:spPr>
              <a:xfrm>
                <a:off x="282600" y="5816520"/>
                <a:ext cx="903600" cy="81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Rectangle 4"/>
              <p:cNvSpPr/>
              <p:nvPr/>
            </p:nvSpPr>
            <p:spPr>
              <a:xfrm>
                <a:off x="1167840" y="5943600"/>
                <a:ext cx="678780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실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개념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특성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정책과 서비스와의 관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조건과 활용 가능한 프로그램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개발 과정과 단계별 과업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 작성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  <a:ea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1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 프로그램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2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31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Rectangle 2"/>
            <p:cNvSpPr/>
            <p:nvPr/>
          </p:nvSpPr>
          <p:spPr>
            <a:xfrm>
              <a:off x="1214280" y="142560"/>
              <a:ext cx="77155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의 개념과 특성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8" name="그룹 20"/>
            <p:cNvGrpSpPr/>
            <p:nvPr/>
          </p:nvGrpSpPr>
          <p:grpSpPr>
            <a:xfrm>
              <a:off x="142560" y="928440"/>
              <a:ext cx="9001440" cy="5358240"/>
              <a:chOff x="142560" y="928440"/>
              <a:chExt cx="9001440" cy="5358240"/>
            </a:xfrm>
          </p:grpSpPr>
          <p:grpSp>
            <p:nvGrpSpPr>
              <p:cNvPr id="319" name="그룹 10"/>
              <p:cNvGrpSpPr/>
              <p:nvPr/>
            </p:nvGrpSpPr>
            <p:grpSpPr>
              <a:xfrm>
                <a:off x="252000" y="1999800"/>
                <a:ext cx="8892000" cy="1377000"/>
                <a:chOff x="252000" y="1999800"/>
                <a:chExt cx="8892000" cy="1377000"/>
              </a:xfrm>
            </p:grpSpPr>
            <p:sp>
              <p:nvSpPr>
                <p:cNvPr id="320" name="AutoShape 2"/>
                <p:cNvSpPr/>
                <p:nvPr/>
              </p:nvSpPr>
              <p:spPr>
                <a:xfrm>
                  <a:off x="252000" y="1999800"/>
                  <a:ext cx="8820720" cy="13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Text Box 25"/>
                <p:cNvSpPr/>
                <p:nvPr/>
              </p:nvSpPr>
              <p:spPr>
                <a:xfrm>
                  <a:off x="289800" y="2071080"/>
                  <a:ext cx="8854200" cy="13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말 뜻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앞으로 해야 할 일을 명시해 놓은 시간표와 예정 계획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책이나 조직 목적 달성을 위한 활동체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노인복지 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정책과 노인복지 조직의 특정한 목적 달성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위하여 자원과 기술을 투입하여 수행하는 계획적이고 조직적인 활동체계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AutoShape 4"/>
              <p:cNvSpPr/>
              <p:nvPr/>
            </p:nvSpPr>
            <p:spPr>
              <a:xfrm>
                <a:off x="356760" y="928440"/>
                <a:ext cx="4071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의 개념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3" name="직사각형 9"/>
              <p:cNvSpPr/>
              <p:nvPr/>
            </p:nvSpPr>
            <p:spPr>
              <a:xfrm>
                <a:off x="142560" y="16030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의 개념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직사각형 16"/>
              <p:cNvSpPr/>
              <p:nvPr/>
            </p:nvSpPr>
            <p:spPr>
              <a:xfrm>
                <a:off x="142560" y="34606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과  유사 개념의 구분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AutoShape 2"/>
              <p:cNvSpPr/>
              <p:nvPr/>
            </p:nvSpPr>
            <p:spPr>
              <a:xfrm>
                <a:off x="180360" y="3857760"/>
                <a:ext cx="8820720" cy="2428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6" name="Text Box 25"/>
              <p:cNvSpPr/>
              <p:nvPr/>
            </p:nvSpPr>
            <p:spPr>
              <a:xfrm>
                <a:off x="218520" y="3929040"/>
                <a:ext cx="8853840" cy="22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프로그램 그리고 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81373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무엇이 되어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야 하는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어떻게 그것을 실현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수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서비스와 실천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클라이언트에게 무엇을 제공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원조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프로그램과 프로젝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속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러 개의 목표를 달성하기 위한 다수의 프로젝트의 집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젝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한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가지 목표달성을 위한 특정과업이나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그룹 13"/>
          <p:cNvGrpSpPr/>
          <p:nvPr/>
        </p:nvGrpSpPr>
        <p:grpSpPr>
          <a:xfrm>
            <a:off x="142920" y="357120"/>
            <a:ext cx="8853480" cy="5786640"/>
            <a:chOff x="142920" y="357120"/>
            <a:chExt cx="8853480" cy="5786640"/>
          </a:xfrm>
        </p:grpSpPr>
        <p:sp>
          <p:nvSpPr>
            <p:cNvPr id="328" name="AutoShape 2"/>
            <p:cNvSpPr/>
            <p:nvPr/>
          </p:nvSpPr>
          <p:spPr>
            <a:xfrm>
              <a:off x="142920" y="3429000"/>
              <a:ext cx="882036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직사각형 6"/>
            <p:cNvSpPr/>
            <p:nvPr/>
          </p:nvSpPr>
          <p:spPr>
            <a:xfrm>
              <a:off x="142920" y="35712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프로그램의 특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142920" y="857160"/>
              <a:ext cx="882036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Text Box 25"/>
            <p:cNvSpPr/>
            <p:nvPr/>
          </p:nvSpPr>
          <p:spPr>
            <a:xfrm>
              <a:off x="142920" y="84420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프로그램의 구성요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과 기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적 활동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이나 정책의 목적이나 이념을 충실히 반영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자체의 목적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다 구체적인 목표로 세분화하여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자원과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봉사자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이론과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계획적 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련의 계획된 서비스와 원조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치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care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연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직사각형 10"/>
            <p:cNvSpPr/>
            <p:nvPr/>
          </p:nvSpPr>
          <p:spPr>
            <a:xfrm>
              <a:off x="142920" y="2960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노인복지 프로그램의 유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25"/>
            <p:cNvSpPr/>
            <p:nvPr/>
          </p:nvSpPr>
          <p:spPr>
            <a:xfrm>
              <a:off x="142920" y="3494160"/>
              <a:ext cx="88534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분류 기준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누구에게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을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형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대상에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따른 분류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수단 검증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산과 소득을 근거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의 사회적 위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상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의 보상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진단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가의 판단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형태에 따른 분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이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물지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3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2"/>
            <p:cNvSpPr/>
            <p:nvPr/>
          </p:nvSpPr>
          <p:spPr>
            <a:xfrm>
              <a:off x="1428480" y="142560"/>
              <a:ext cx="757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.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이 갖추어야 할 조건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7" name="그룹 17"/>
            <p:cNvGrpSpPr/>
            <p:nvPr/>
          </p:nvGrpSpPr>
          <p:grpSpPr>
            <a:xfrm>
              <a:off x="214200" y="1714320"/>
              <a:ext cx="8606160" cy="4357800"/>
              <a:chOff x="214200" y="1714320"/>
              <a:chExt cx="8606160" cy="4357800"/>
            </a:xfrm>
          </p:grpSpPr>
          <p:sp>
            <p:nvSpPr>
              <p:cNvPr id="338" name="AutoShape 2"/>
              <p:cNvSpPr/>
              <p:nvPr/>
            </p:nvSpPr>
            <p:spPr>
              <a:xfrm>
                <a:off x="214200" y="1714320"/>
                <a:ext cx="8606160" cy="435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Text Box 25"/>
              <p:cNvSpPr/>
              <p:nvPr/>
            </p:nvSpPr>
            <p:spPr>
              <a:xfrm>
                <a:off x="285480" y="1788840"/>
                <a:ext cx="8358840" cy="40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접근 용이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지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적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포괄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통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공평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비용의 적절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평가와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환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0" name="직사각형 21"/>
            <p:cNvSpPr/>
            <p:nvPr/>
          </p:nvSpPr>
          <p:spPr>
            <a:xfrm>
              <a:off x="142560" y="117468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노인복지 프로그램의 조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그룹 11"/>
          <p:cNvGrpSpPr/>
          <p:nvPr/>
        </p:nvGrpSpPr>
        <p:grpSpPr>
          <a:xfrm>
            <a:off x="0" y="0"/>
            <a:ext cx="9215280" cy="6143760"/>
            <a:chOff x="0" y="0"/>
            <a:chExt cx="9215280" cy="6143760"/>
          </a:xfrm>
        </p:grpSpPr>
        <p:pic>
          <p:nvPicPr>
            <p:cNvPr id="34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Rectangle 2"/>
            <p:cNvSpPr/>
            <p:nvPr/>
          </p:nvSpPr>
          <p:spPr>
            <a:xfrm>
              <a:off x="142848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조직에서 활용 가능한 프로그램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"/>
            <p:cNvSpPr/>
            <p:nvPr/>
          </p:nvSpPr>
          <p:spPr>
            <a:xfrm>
              <a:off x="285480" y="5119920"/>
              <a:ext cx="8715240" cy="1023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85480" y="4594320"/>
              <a:ext cx="8858160" cy="1442520"/>
              <a:chOff x="285480" y="4594320"/>
              <a:chExt cx="8858160" cy="144252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360000" y="4594320"/>
                <a:ext cx="4649760" cy="47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관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6"/>
              <p:cNvSpPr/>
              <p:nvPr/>
            </p:nvSpPr>
            <p:spPr>
              <a:xfrm>
                <a:off x="285480" y="5256720"/>
                <a:ext cx="885816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사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수행을 위한 프로그램은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주요 프로그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14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8" name="AutoShape 2"/>
            <p:cNvSpPr/>
            <p:nvPr/>
          </p:nvSpPr>
          <p:spPr>
            <a:xfrm>
              <a:off x="285480" y="1571400"/>
              <a:ext cx="871524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9" name="그룹 10"/>
            <p:cNvGrpSpPr/>
            <p:nvPr/>
          </p:nvGrpSpPr>
          <p:grpSpPr>
            <a:xfrm>
              <a:off x="285480" y="1071360"/>
              <a:ext cx="8643960" cy="3115080"/>
              <a:chOff x="285480" y="1071360"/>
              <a:chExt cx="8643960" cy="3115080"/>
            </a:xfrm>
          </p:grpSpPr>
          <p:sp>
            <p:nvSpPr>
              <p:cNvPr id="350" name="AutoShape 4"/>
              <p:cNvSpPr/>
              <p:nvPr/>
            </p:nvSpPr>
            <p:spPr>
              <a:xfrm>
                <a:off x="356760" y="1071360"/>
                <a:ext cx="47862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시설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1" name="Text Box 6"/>
              <p:cNvSpPr/>
              <p:nvPr/>
            </p:nvSpPr>
            <p:spPr>
              <a:xfrm>
                <a:off x="285480" y="1714320"/>
                <a:ext cx="864396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의 인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 등의 한계로 전문 프로그램 실시에 한계가 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시와 함께 시설만족도 증가 등의 긍정적 효과 나타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적 일상생활 케어 이외에 특수한 프로그램 실시가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지식과 기술 활용한 프로그램 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엇을 어떻게 잘 할 것인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?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요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수준이 다소 낮더라도 노인이 원하는 것을 한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자세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더욱 바람직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봉숭아 기르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-&g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꽃물들이기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상요법 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에서 활용 가능한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그룹 11"/>
          <p:cNvGrpSpPr/>
          <p:nvPr/>
        </p:nvGrpSpPr>
        <p:grpSpPr>
          <a:xfrm>
            <a:off x="0" y="0"/>
            <a:ext cx="9358200" cy="6000840"/>
            <a:chOff x="0" y="0"/>
            <a:chExt cx="9358200" cy="6000840"/>
          </a:xfrm>
        </p:grpSpPr>
        <p:pic>
          <p:nvPicPr>
            <p:cNvPr id="35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Rectangle 2"/>
            <p:cNvSpPr/>
            <p:nvPr/>
          </p:nvSpPr>
          <p:spPr>
            <a:xfrm>
              <a:off x="1357200" y="142560"/>
              <a:ext cx="8001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개념과 모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5" name="AutoShape 2"/>
            <p:cNvSpPr/>
            <p:nvPr/>
          </p:nvSpPr>
          <p:spPr>
            <a:xfrm>
              <a:off x="285480" y="4691160"/>
              <a:ext cx="8715600" cy="1309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6" name="그룹 10"/>
            <p:cNvGrpSpPr/>
            <p:nvPr/>
          </p:nvGrpSpPr>
          <p:grpSpPr>
            <a:xfrm>
              <a:off x="285480" y="4214880"/>
              <a:ext cx="8572680" cy="1678320"/>
              <a:chOff x="285480" y="4214880"/>
              <a:chExt cx="8572680" cy="1678320"/>
            </a:xfrm>
          </p:grpSpPr>
          <p:sp>
            <p:nvSpPr>
              <p:cNvPr id="357" name="AutoShape 4"/>
              <p:cNvSpPr/>
              <p:nvPr/>
            </p:nvSpPr>
            <p:spPr>
              <a:xfrm>
                <a:off x="356760" y="4214880"/>
                <a:ext cx="41436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모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Text Box 6"/>
              <p:cNvSpPr/>
              <p:nvPr/>
            </p:nvSpPr>
            <p:spPr>
              <a:xfrm>
                <a:off x="285480" y="4808520"/>
                <a:ext cx="8572680" cy="108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P: purpose, person, problem, process, place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모형별 단계와 프로그램 개발자의 주요과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9" name="AutoShape 2"/>
            <p:cNvSpPr/>
            <p:nvPr/>
          </p:nvSpPr>
          <p:spPr>
            <a:xfrm>
              <a:off x="285480" y="1500120"/>
              <a:ext cx="871560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0" name="그룹 10"/>
            <p:cNvGrpSpPr/>
            <p:nvPr/>
          </p:nvGrpSpPr>
          <p:grpSpPr>
            <a:xfrm>
              <a:off x="214200" y="928440"/>
              <a:ext cx="8858160" cy="2840040"/>
              <a:chOff x="214200" y="928440"/>
              <a:chExt cx="8858160" cy="2840040"/>
            </a:xfrm>
          </p:grpSpPr>
          <p:sp>
            <p:nvSpPr>
              <p:cNvPr id="361" name="AutoShape 4"/>
              <p:cNvSpPr/>
              <p:nvPr/>
            </p:nvSpPr>
            <p:spPr>
              <a:xfrm>
                <a:off x="356760" y="928440"/>
                <a:ext cx="414324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2" name="Text Box 6"/>
              <p:cNvSpPr/>
              <p:nvPr/>
            </p:nvSpPr>
            <p:spPr>
              <a:xfrm>
                <a:off x="214200" y="1769760"/>
                <a:ext cx="8858160" cy="19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만들거나 기존 프로그램을 개선하려는 노력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정 또는 새로운 프로그램의 기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planning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design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로 사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개발하는 과정은 물론이고 기존 프로그램의 수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완을 위한 과정까지를 포함하여 단계적으로 프로그램의 기획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가 등의 전 단계를 총망라하는 노력과 과정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그룹 7"/>
          <p:cNvGrpSpPr/>
          <p:nvPr/>
        </p:nvGrpSpPr>
        <p:grpSpPr>
          <a:xfrm>
            <a:off x="0" y="0"/>
            <a:ext cx="9358200" cy="6715080"/>
            <a:chOff x="0" y="0"/>
            <a:chExt cx="9358200" cy="6715080"/>
          </a:xfrm>
        </p:grpSpPr>
        <p:pic>
          <p:nvPicPr>
            <p:cNvPr id="36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AutoShape 2"/>
            <p:cNvSpPr/>
            <p:nvPr/>
          </p:nvSpPr>
          <p:spPr>
            <a:xfrm>
              <a:off x="285480" y="1285920"/>
              <a:ext cx="87156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4"/>
            <p:cNvSpPr/>
            <p:nvPr/>
          </p:nvSpPr>
          <p:spPr>
            <a:xfrm>
              <a:off x="357120" y="9284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문제분석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Text Box 6"/>
            <p:cNvSpPr/>
            <p:nvPr/>
          </p:nvSpPr>
          <p:spPr>
            <a:xfrm>
              <a:off x="214200" y="1500120"/>
              <a:ext cx="8643960" cy="344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은 사회문제 해결과 클라이언트 욕구충족 원조활동으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를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분석하는 것이 최우선적 과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조건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필요성을 확인하는 작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주민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차자료 분석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분석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York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 질문에 대한 해답 구하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1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확인되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규모 추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확산 정도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클라이언트에게 미치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문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문제의 원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통의 정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찬성과 반대 집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역사회의 해결 노력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69" name="Picture 2" descr="C:\DOCUME~1\USER\LOCALS~1\Temp\UNI000008308f5b.gif"/>
            <p:cNvPicPr/>
            <p:nvPr/>
          </p:nvPicPr>
          <p:blipFill>
            <a:blip r:embed="rId9"/>
            <a:stretch/>
          </p:blipFill>
          <p:spPr>
            <a:xfrm>
              <a:off x="285480" y="5170680"/>
              <a:ext cx="4214880" cy="15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7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AutoShape 4"/>
            <p:cNvSpPr/>
            <p:nvPr/>
          </p:nvSpPr>
          <p:spPr>
            <a:xfrm>
              <a:off x="357120" y="2858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욕구조사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Text Box 6"/>
            <p:cNvSpPr/>
            <p:nvPr/>
          </p:nvSpPr>
          <p:spPr>
            <a:xfrm>
              <a:off x="285840" y="1000080"/>
              <a:ext cx="8643960" cy="53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해결을 위해서는 클라이언트의 문제로 전환하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다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개념으로 전환하는 작업이 필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개발에서는 요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want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다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‘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엇이 결핍된 상태로 인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을 겪고 있는 상황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’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라는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need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더 많은 관심을 기울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종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Maslow, Bradsow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분류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2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 문제나 필요한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질 또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문가의 필요 등을 사정하는 과정으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확인과 욕구사정을 포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단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목적과 조사에 투입될 자원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의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설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수집과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보고서 작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직접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반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표적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층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토론회와 공청회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례조사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제공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자 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관의 통계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접증거자료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지표 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진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가 왜 문제이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어느 정도 심각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 규모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얼마나 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 특성은 무엇인지를 아주 구체적으로 진술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2:00:34Z</dcterms:modified>
  <cp:revision>36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