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8A6B-8441-4A1B-A725-5DAA9729A9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936F-0834-4463-AB73-3BDC9942557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38BF-A304-4471-BD83-F42BFB4D7DB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31B-73C1-4422-9579-924C65686ED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8603-881F-4DD4-9A23-403023793F5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029D-C28E-465F-845D-876CACE440C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6B9CA-43F3-468E-8224-00BE956B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32B3F-0C9A-47B2-B0E7-C4B166E5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06424-A5F0-4BC9-8A2F-C2AA9A1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18C32-17BA-403F-B789-009DBF8B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E3C31-CDD7-4B48-860B-8A25765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4EEB1-81BF-41A8-92B8-F831D037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CBA86-12E3-4E38-B3B5-93AC7454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1FF0F-116C-4DBA-B083-93A9AA2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7936A-D805-4F42-94E2-5559FC5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1F45D-71CA-42D8-BA38-691B0B7B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F6A55-2FC8-4156-9C01-5CFE35B9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ABB5E-DBE5-418D-BC5B-EA407E11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B9969-4170-4E87-8319-BCE07A75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8AD0E-7E8B-4398-842F-2C00DD30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4520B-25DC-4780-8D19-D6192DCD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5C4B0-B39C-4322-83FA-C04375D1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5B309-6DB5-4DC9-8E67-BF908740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262BA-4B90-4518-931E-89B29371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C13F5-3533-4466-B3BE-755E71F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F6F03-1DB2-46D1-9FD0-F6AC0F4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2475E-9B8E-40DD-A675-BA3E7B06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5779F-F578-41D1-AD26-C94B8EED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AB41E-9912-4BB8-884C-986C73C2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4356B-F3E6-4DA1-B30B-7841E7EE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EAC5-080D-43C6-B8A2-99B718F64C3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71DE-C669-4595-8F26-CB0E564A8D3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2D8A-8263-4A21-996C-AE4E04A490C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999D-8B76-4465-8783-8552AB860DA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C119-E916-4D3A-A2D6-3645B94E9EF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263C-CA7A-46FE-8C5D-66CB4BB5CF7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DBF0-684B-40F5-87FE-6367EB6774E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8941-6584-434C-97EF-F6B8C8EE4C2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08000" y="0"/>
            <a:ext cx="9036000" cy="6477840"/>
            <a:chOff x="108000" y="0"/>
            <a:chExt cx="9036000" cy="6477840"/>
          </a:xfrm>
        </p:grpSpPr>
        <p:pic>
          <p:nvPicPr>
            <p:cNvPr id="521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956720" y="0"/>
              <a:ext cx="1187280" cy="107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" name="그룹 1"/>
            <p:cNvGrpSpPr/>
            <p:nvPr/>
          </p:nvGrpSpPr>
          <p:grpSpPr>
            <a:xfrm>
              <a:off x="108000" y="333360"/>
              <a:ext cx="9001080" cy="6144480"/>
              <a:chOff x="108000" y="333360"/>
              <a:chExt cx="9001080" cy="6144480"/>
            </a:xfrm>
          </p:grpSpPr>
          <p:sp>
            <p:nvSpPr>
              <p:cNvPr id="523" name="AutoShape 2"/>
              <p:cNvSpPr/>
              <p:nvPr/>
            </p:nvSpPr>
            <p:spPr>
              <a:xfrm>
                <a:off x="108000" y="980640"/>
                <a:ext cx="8855640" cy="546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AutoShape 4"/>
              <p:cNvSpPr/>
              <p:nvPr/>
            </p:nvSpPr>
            <p:spPr>
              <a:xfrm>
                <a:off x="285480" y="33336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Text Box 6"/>
              <p:cNvSpPr/>
              <p:nvPr/>
            </p:nvSpPr>
            <p:spPr>
              <a:xfrm>
                <a:off x="180720" y="1196640"/>
                <a:ext cx="8928360" cy="528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 속도가 도시보다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에는 세종 제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지역이 초고령사회에 진입 예상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지자체의 재정자립도   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고 지역노인복지체계의 한계로 인해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노인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.3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가구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4.2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966160" cy="6215400"/>
              <a:chOff x="142920" y="142560"/>
              <a:chExt cx="896616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0560" y="1149120"/>
                <a:ext cx="8858520" cy="47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 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과 정책당국은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도적으로 눈을 감아 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 가중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920"/>
              <a:chOff x="142560" y="1785960"/>
              <a:chExt cx="8929800" cy="47149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49120"/>
            <a:ext cx="8966160" cy="6357960"/>
            <a:chOff x="0" y="249120"/>
            <a:chExt cx="896616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695920"/>
              <a:ext cx="235728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07280" y="249120"/>
              <a:ext cx="8858880" cy="5447520"/>
              <a:chOff x="107280" y="249120"/>
              <a:chExt cx="8858880" cy="544752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480" y="24912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07280" y="1033560"/>
                <a:ext cx="8858520" cy="466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107640" y="1160280"/>
                <a:ext cx="885852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게놈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nom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42920" y="0"/>
            <a:ext cx="8858160" cy="6429240"/>
            <a:chOff x="142920" y="0"/>
            <a:chExt cx="8858160" cy="642924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42920" y="3170160"/>
              <a:ext cx="8858160" cy="3259080"/>
              <a:chOff x="142920" y="3170160"/>
              <a:chExt cx="8858160" cy="325908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42920" y="3539880"/>
                <a:ext cx="88203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change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생활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 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 기능과 사회적 역할 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.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 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 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r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480" y="142560"/>
              <a:ext cx="72867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3280" y="13186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 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.9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도상국 빠른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남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3280" y="42670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 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34920" y="71280"/>
            <a:ext cx="9144000" cy="6286680"/>
            <a:chOff x="34920" y="71280"/>
            <a:chExt cx="914400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0560" y="71280"/>
              <a:ext cx="8999640" cy="1847880"/>
              <a:chOff x="70560" y="71280"/>
              <a:chExt cx="899964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0560" y="642960"/>
                <a:ext cx="899964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120" y="71280"/>
                <a:ext cx="36003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82216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.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34920" y="2131920"/>
              <a:ext cx="9144000" cy="4226040"/>
              <a:chOff x="34920" y="2131920"/>
              <a:chExt cx="914400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056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34920" y="2922480"/>
                <a:ext cx="914400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305.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5.5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41.9%)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43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pic>
          <p:nvPicPr>
            <p:cNvPr id="515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6" name="그룹 1"/>
            <p:cNvGrpSpPr/>
            <p:nvPr/>
          </p:nvGrpSpPr>
          <p:grpSpPr>
            <a:xfrm>
              <a:off x="181080" y="214200"/>
              <a:ext cx="8820000" cy="4606920"/>
              <a:chOff x="181080" y="214200"/>
              <a:chExt cx="8820000" cy="460692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181080" y="928440"/>
                <a:ext cx="8820000" cy="3880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288720" y="1000080"/>
                <a:ext cx="8640720" cy="38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*100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6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9.8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6.0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지는 부양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전현상 발생으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우선순위 결정 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5:01Z</dcterms:modified>
  <cp:revision>21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