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879D-E0D5-4153-80E0-803C22C261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AA89-335A-44F4-8DF3-E62052E30E4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2A39-8162-4E6B-A81E-698039F9D2B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005D8-936A-4ED5-83C3-1923094C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ED9CC-65EA-47BE-9759-A95BAC46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BD698-CAFC-4D03-9BFB-A39F183A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D7984-BBD3-46F9-9F18-13B2320B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626F2-DD14-4C62-94E4-13D36EBE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F2EA2-DF5A-4C02-BCD0-A29F4D64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CDA3A-3159-4456-9E1B-959530DF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0F0B6-1873-4456-A23C-943A90E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15665-BB36-45D0-9678-BD6C1EA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430A1-C80F-4844-BB88-67BFF332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34E78-1321-4415-83DD-74AADF6F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1BD9D-A4C7-4C35-93D2-E4F4D570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A64E3-6553-419B-B1FF-FBB20034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1A8BD-E641-40DA-BA6D-C9FE8EA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F0CF4-3FB5-421F-9624-0678724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C64DA-936E-48CD-9268-7A63ADA8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B25064-A885-4F09-AF5C-7F9EFB0B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DBBD6-DFF6-434C-8DE8-7BBB2C91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81E5B-BF9A-4194-99DF-59CF914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8D812-BF05-4546-AC47-65E31EF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E80C4-4329-4603-B442-5283D88F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E1B05-D87F-419A-A159-FEB5C074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FC688-5953-43C2-9BD4-695DE0C0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729E8-D8EC-4389-B430-A6A1CFDA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46BD-7A62-45B0-9C4B-F753937FB16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0535-06C6-4B7D-BD66-F0F39CB22B96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CDC6-D6E8-445C-B7AB-7CA829243C1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A5D9-6CDF-4E89-BA7A-FF52B9BDCD1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210-938E-42DC-AD08-0AF4679F070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1CC1-E988-4F40-8D20-237B774F5B1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2B92-CB81-48E5-A1A4-281C5EBDEABA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43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.76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2.3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38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0.3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9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.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계 변화와 인상＋고비용 치료기기 도입 등의 병원비용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1809000"/>
              <a:chOff x="285480" y="3486240"/>
              <a:chExt cx="8572680" cy="180900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1080"/>
                <a:ext cx="8572680" cy="13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건강문제로 인한 비용은 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407200"/>
              <a:ext cx="5796000" cy="1249200"/>
              <a:chOff x="0" y="5407200"/>
              <a:chExt cx="5796000" cy="124920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0" y="5407200"/>
                <a:ext cx="1390680" cy="12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1312920" y="6085080"/>
                <a:ext cx="44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점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어 있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4.0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.9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시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당뇨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 등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3.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2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2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9.9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알츠하이머병 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자살에 의한 사망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1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명당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3.7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는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46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세 이상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7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으로 높아짐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생활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5.6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2.0%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-7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는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4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 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3040"/>
                <a:chOff x="357120" y="1500120"/>
                <a:chExt cx="8643960" cy="227304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96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돌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介護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형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24:25Z</dcterms:modified>
  <cp:revision>2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