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5AC0-1482-401C-AD06-3A45D393BB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23BF-C41A-4613-BBC7-621564C0168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7AB7-EA3C-4F07-8E83-B2F8F974703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28FE-C5D1-488B-8734-6AB9903CC1F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FD31-6F59-4BB2-BD09-493C0D9C552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FF3F-0508-4842-92E2-7A3CE871D62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1736-A90E-4C95-8864-50494AFE7F5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A50C-C003-437C-B2EB-E584819A1F3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06C9-06DD-404E-B85E-A7C81F9BC7E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F755-669E-4269-881F-316364E0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1B70-D64E-4A6D-8D12-D41B731E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CFFD-C75F-453A-B1DB-32E1FF77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6618-9E7C-4D57-82E1-6225A1A2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FB1B-CEA5-451B-85D1-6E4E8654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A093-AA2A-46BD-8007-B53A664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25FD-B3FD-4818-8A87-5A4542DE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7E7A-DC81-4238-8310-6C0E77A6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F763-C931-4D1C-89D3-4117E2DF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7CA5-6AC7-4216-8017-E20F3507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82F8-1A3C-4872-A90F-E1593824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8A43-43CE-45E2-88A4-F8B50816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28497-410A-4402-A91E-82FFF078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256BD-477A-4A82-9178-1EC8D8F1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AA2B7-3662-443F-9D9A-60CD1DD1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B0225-10E2-45AD-9115-D7D73A99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1BF44-9137-4D30-AFA1-AC55307D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4BFC0-D567-46A3-9C49-B38634D7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99300-0B32-4C7A-949B-2E33EE04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78DCF9-A62F-4722-A321-FA8C89D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452CB-94AB-402D-9828-4D59A5B5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40DCE-AD9D-4F03-96CC-5E6C6AB7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BEB2D-49A8-48A8-A8EE-B929F369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A9D23-CFFD-4B5F-A8C9-1116E868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B7028-9517-4BAA-B0B0-9E142CE8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7B033-26FA-488F-B32D-6B77A9DE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C420C-C6BD-4308-8128-A2D23488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7777A-5285-4ED8-9926-354940FE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634E9-3197-45B5-9DC1-E86CA886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B52E7-2A74-43E4-8B23-5AC5BA8A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8AD3E-0354-43D8-8019-BB234F2B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6460C-9C81-4276-8202-4A38671F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4C6C4-BB15-4136-B61D-ECFE950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4D1BB-4980-4400-8FD9-ACEA3EEA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D6D65-648E-484E-B108-B3DF3736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0FB17-AEAE-49E3-892D-5C38E2A8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BF44-94CA-4AC5-A1BF-22B6D6DB10C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A238-3E61-40E1-943D-FFD70EFBC01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DF1D-4E93-4F98-A405-2CC5DC7079B7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D050-9746-4043-A678-C2C4541EE40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076C-F79F-4EF0-B500-5D662E939B0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C224-C19D-4FF2-A17D-4A3F4E19B9C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44B3-EB76-4AA3-B66E-2010E8761F1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5718-4595-47EA-AEE4-DB6E38FABE5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6209-0635-42B3-89BC-C3C8C0AC499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025E-0E6C-4ADD-91FB-3F05C1A81DE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8737-1B81-4A77-899A-3B383258BA7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1EEE-357E-4319-8BDA-E3D269C4B06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893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4.0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8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가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178920" y="1731600"/>
                <a:ext cx="882216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58160" cy="6000840"/>
            <a:chOff x="142920" y="214200"/>
            <a:chExt cx="885816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58160" cy="4429440"/>
              <a:chOff x="142920" y="1785600"/>
              <a:chExt cx="885816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36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8688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되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 또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를 경험하는 경우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시간이 줄어들어 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08000" y="142920"/>
            <a:ext cx="8928000" cy="6278400"/>
            <a:chOff x="108000" y="142920"/>
            <a:chExt cx="8928000" cy="6278400"/>
          </a:xfrm>
        </p:grpSpPr>
        <p:sp>
          <p:nvSpPr>
            <p:cNvPr id="816" name="AutoShape 2"/>
            <p:cNvSpPr/>
            <p:nvPr/>
          </p:nvSpPr>
          <p:spPr>
            <a:xfrm>
              <a:off x="108000" y="714240"/>
              <a:ext cx="8892720" cy="5643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323640" y="765000"/>
              <a:ext cx="8712360" cy="56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종말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terminal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drop)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현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창의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3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정점 이후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이후에도 창의성 발휘 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도 감소로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0.33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학습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 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해 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라는 협의의 개념을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66960"/>
            <a:chOff x="108000" y="142920"/>
            <a:chExt cx="9288360" cy="6366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69264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6602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부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12640"/>
              <a:ext cx="8893080" cy="5097240"/>
              <a:chOff x="108000" y="1412640"/>
              <a:chExt cx="8893080" cy="509724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916640"/>
                <a:ext cx="8893080" cy="4593240"/>
                <a:chOff x="108000" y="1916640"/>
                <a:chExt cx="8893080" cy="459324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6640"/>
                  <a:ext cx="8819640" cy="4529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92528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가족이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 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126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등으로 기존 사회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 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12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367320"/>
            <a:chOff x="285840" y="0"/>
            <a:chExt cx="8858160" cy="636732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6081840"/>
              <a:chOff x="285840" y="285480"/>
              <a:chExt cx="8643960" cy="608184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321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196280"/>
                <a:ext cx="8504640" cy="51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 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-79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의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가역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동작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r>
                  <a:rPr b="0" lang="en-US" sz="1600" spc="-1" strike="noStrike">
                    <a:solidFill>
                      <a:srgbClr val="1d528d"/>
                    </a:solidFill>
                    <a:latin typeface="HY강B"/>
                  </a:rPr>
                  <a:t>(Rowe &amp; Kahn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830200"/>
            <a:chOff x="142920" y="428760"/>
            <a:chExt cx="8858160" cy="583020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87320"/>
              <a:chOff x="180720" y="1871640"/>
              <a:chExt cx="8820360" cy="438732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41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키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 치아 개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8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+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니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지고 탄력약화 → 관절염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의 의지대로 움직일 수 있는 근육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6980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381720"/>
            <a:chOff x="181080" y="142920"/>
            <a:chExt cx="8820000" cy="638172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620640"/>
              <a:ext cx="8820000" cy="5904000"/>
              <a:chOff x="181080" y="620640"/>
              <a:chExt cx="8820000" cy="590400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620640"/>
                <a:ext cx="8820000" cy="59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785160"/>
                <a:ext cx="8643960" cy="54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콩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로 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종류에 따라 감소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증가하는 경우가 있으나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화와 함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수용체 감수성 저하로 내분비 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적 관계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41:11Z</dcterms:modified>
  <cp:revision>2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