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6174-F650-42C7-9629-3A27E58FD23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1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3E4C-3948-40C4-8755-5914BC860B54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1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8806-347F-4404-A063-238BF3160167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1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6341-9A74-44B1-A9BE-6271ACE7BD2C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2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CB61-E97F-4322-9BB2-E1EAF5F486CE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4C80-5598-4AFE-AE62-F2B015C3D878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13FDD-D29C-40D9-AF9E-1800EA056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69635-9412-402A-9B5A-CFA2F0A9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432B7-1524-475F-8085-EB64CD33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1CB8E-2AC1-4514-9F06-561C5CDC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07230-91E0-4041-A097-8E02BE7F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0EA52-CE37-482A-9DC6-07F7EEF5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DFE42-E661-49B2-96A6-85EE79D8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0E5A8E-DBDA-46D7-ADDA-36D0F848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966D2-FA4C-484F-912D-E55F5011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C54E3-BD30-4468-8369-B3D06B69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E78149-03F6-4EA0-8FED-F7DD91F35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4B54B1-98B6-4E66-AC56-1D77C6337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8CE93E-A3F3-40FE-BAEC-E00F5F45A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F9D283-B780-49A3-B3B1-11FF9478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F8D485-2CCF-4CDD-A32E-339DF37C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D96AC3-E87A-43BF-8F14-EB240A7A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398B63-FB6F-4E05-88B0-71911D51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D816BF-870E-4324-9FBC-F7A0F7CA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2F9186-682A-48CD-98EB-A8B6C657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1A7882-8F80-4544-9A86-37FC36AC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87E9AD-6D64-4452-A6F9-03D846D1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E1438C-BDC6-40CF-884C-B74345F6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566D85-7206-4FAA-898A-0430E3F0F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3A416E-F22A-429C-9D7D-55B46886E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E6FC-8556-443C-B5B7-DD399159CC8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AA54-D5D9-4B3D-828E-D1A79B635FC9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CD2A-50AD-4767-A956-FCAFBD43E57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4E9C-459F-4576-A2CF-D1D6031D533F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C48E-0140-4639-836D-7F677CCF60A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AD71-38D6-416D-93DC-7D3C4E598FC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AE5F-0139-423B-8CAE-A79BC752BE58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37.xml"/><Relationship Id="rId1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71680" y="2142720"/>
            <a:ext cx="8315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3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노년기의 경제생활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그룹 10"/>
          <p:cNvGrpSpPr/>
          <p:nvPr/>
        </p:nvGrpSpPr>
        <p:grpSpPr>
          <a:xfrm>
            <a:off x="142920" y="71280"/>
            <a:ext cx="8858160" cy="6215400"/>
            <a:chOff x="142920" y="71280"/>
            <a:chExt cx="8858160" cy="6215400"/>
          </a:xfrm>
        </p:grpSpPr>
        <p:sp>
          <p:nvSpPr>
            <p:cNvPr id="504" name="AutoShape 2"/>
            <p:cNvSpPr/>
            <p:nvPr/>
          </p:nvSpPr>
          <p:spPr>
            <a:xfrm>
              <a:off x="214200" y="1285560"/>
              <a:ext cx="878688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5" name="그룹 10"/>
            <p:cNvGrpSpPr/>
            <p:nvPr/>
          </p:nvGrpSpPr>
          <p:grpSpPr>
            <a:xfrm>
              <a:off x="142920" y="785520"/>
              <a:ext cx="8715600" cy="2512800"/>
              <a:chOff x="142920" y="785520"/>
              <a:chExt cx="8715600" cy="2512800"/>
            </a:xfrm>
          </p:grpSpPr>
          <p:sp>
            <p:nvSpPr>
              <p:cNvPr id="506" name="AutoShape 29"/>
              <p:cNvSpPr/>
              <p:nvPr/>
            </p:nvSpPr>
            <p:spPr>
              <a:xfrm>
                <a:off x="142920" y="78552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고령노동력에 대한 편견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7" name="Text Box 25"/>
              <p:cNvSpPr/>
              <p:nvPr/>
            </p:nvSpPr>
            <p:spPr>
              <a:xfrm>
                <a:off x="285480" y="1374480"/>
                <a:ext cx="8573040" cy="19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들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퇴하고 싶어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해나 사고를 일으키기 쉽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성이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직보다 개인적 일에 관심이 더 많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창의성과 업무 주도성이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 등으로 결근이 잦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사의 지도감독에 비협조적이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지식과 기술습득에 시간과 비용이 많이 들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에 비해 급여가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많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료와의 업무보조가 맞지 않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직과 전직이 잦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8" name="그룹 10"/>
            <p:cNvGrpSpPr/>
            <p:nvPr/>
          </p:nvGrpSpPr>
          <p:grpSpPr>
            <a:xfrm>
              <a:off x="142920" y="3643200"/>
              <a:ext cx="8858160" cy="2495160"/>
              <a:chOff x="142920" y="3643200"/>
              <a:chExt cx="8858160" cy="2495160"/>
            </a:xfrm>
          </p:grpSpPr>
          <p:sp>
            <p:nvSpPr>
              <p:cNvPr id="509" name="AutoShape 29"/>
              <p:cNvSpPr/>
              <p:nvPr/>
            </p:nvSpPr>
            <p:spPr>
              <a:xfrm>
                <a:off x="142920" y="3643200"/>
                <a:ext cx="8572680" cy="500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고령노동력의 강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0" name="Text Box 25"/>
              <p:cNvSpPr/>
              <p:nvPr/>
            </p:nvSpPr>
            <p:spPr>
              <a:xfrm>
                <a:off x="285480" y="4214520"/>
                <a:ext cx="8715600" cy="19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에 대한 자긍심이 높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물질보상과 지위상승의 욕심이 적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감독자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시와 규칙에 순응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·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력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 자체에서 즐거움을 얻으려 하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한 일에서는 젊은 노동자보다 생산성이 높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근과 이직이 적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고나 재해 비율이 더 낮으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궂은 일을 마다하지 않으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실하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양심적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11" name="AutoShape 7"/>
            <p:cNvSpPr/>
            <p:nvPr/>
          </p:nvSpPr>
          <p:spPr>
            <a:xfrm>
              <a:off x="214200" y="71280"/>
              <a:ext cx="5072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고령 노동력의 신화와 사실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2" name="AutoShape 2"/>
            <p:cNvSpPr/>
            <p:nvPr/>
          </p:nvSpPr>
          <p:spPr>
            <a:xfrm>
              <a:off x="214200" y="4143600"/>
              <a:ext cx="878688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그룹 10"/>
          <p:cNvGrpSpPr/>
          <p:nvPr/>
        </p:nvGrpSpPr>
        <p:grpSpPr>
          <a:xfrm>
            <a:off x="142920" y="142920"/>
            <a:ext cx="8894880" cy="6303960"/>
            <a:chOff x="142920" y="142920"/>
            <a:chExt cx="8894880" cy="6303960"/>
          </a:xfrm>
        </p:grpSpPr>
        <p:sp>
          <p:nvSpPr>
            <p:cNvPr id="514" name="AutoShape 2"/>
            <p:cNvSpPr/>
            <p:nvPr/>
          </p:nvSpPr>
          <p:spPr>
            <a:xfrm>
              <a:off x="251280" y="3927600"/>
              <a:ext cx="8786520" cy="2495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5" name="AutoShape 2"/>
            <p:cNvSpPr/>
            <p:nvPr/>
          </p:nvSpPr>
          <p:spPr>
            <a:xfrm>
              <a:off x="214200" y="1285560"/>
              <a:ext cx="8786520" cy="1785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6" name="그룹 10"/>
            <p:cNvGrpSpPr/>
            <p:nvPr/>
          </p:nvGrpSpPr>
          <p:grpSpPr>
            <a:xfrm>
              <a:off x="142920" y="785520"/>
              <a:ext cx="8714880" cy="2270520"/>
              <a:chOff x="142920" y="785520"/>
              <a:chExt cx="8714880" cy="2270520"/>
            </a:xfrm>
          </p:grpSpPr>
          <p:sp>
            <p:nvSpPr>
              <p:cNvPr id="517" name="AutoShape 29"/>
              <p:cNvSpPr/>
              <p:nvPr/>
            </p:nvSpPr>
            <p:spPr>
              <a:xfrm>
                <a:off x="142920" y="785520"/>
                <a:ext cx="8572320" cy="42876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중년기 이후의 직업적 변화에 대한 이론적 관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8" name="Text Box 25"/>
              <p:cNvSpPr/>
              <p:nvPr/>
            </p:nvSpPr>
            <p:spPr>
              <a:xfrm>
                <a:off x="285480" y="1285560"/>
                <a:ext cx="8572320" cy="177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활동이론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적극적 경제활동 참여→ 삶의 만족도와 적응도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분리이론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에서 은퇴하여 쉼 → 개인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 모두에 이익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지속이론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 직업역할보다 해오던 역할 지속 → 삶의 만족도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리 사회에서는 노년기에 일을 하는 것이 바람직하다는 인식 확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10"/>
            <p:cNvGrpSpPr/>
            <p:nvPr/>
          </p:nvGrpSpPr>
          <p:grpSpPr>
            <a:xfrm>
              <a:off x="142920" y="3357360"/>
              <a:ext cx="8894880" cy="3089520"/>
              <a:chOff x="142920" y="3357360"/>
              <a:chExt cx="8894880" cy="3089520"/>
            </a:xfrm>
          </p:grpSpPr>
          <p:sp>
            <p:nvSpPr>
              <p:cNvPr id="520" name="AutoShape 29"/>
              <p:cNvSpPr/>
              <p:nvPr/>
            </p:nvSpPr>
            <p:spPr>
              <a:xfrm>
                <a:off x="142920" y="3357360"/>
                <a:ext cx="8572680" cy="500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경제활동 참여실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1" name="Text Box 25"/>
              <p:cNvSpPr/>
              <p:nvPr/>
            </p:nvSpPr>
            <p:spPr>
              <a:xfrm>
                <a:off x="179280" y="3973320"/>
                <a:ext cx="8858520" cy="247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199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참여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20) 65+ 36.9%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통계청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21) 60+ 44.0%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자수는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07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여명으로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8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에 비해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5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명 증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2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199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농촌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 낮은 노인의 경제활동 참여율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199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+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고용율은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2.4%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3.0%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3.8%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0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에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해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.4%  point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22" name="AutoShape 7"/>
            <p:cNvSpPr/>
            <p:nvPr/>
          </p:nvSpPr>
          <p:spPr>
            <a:xfrm>
              <a:off x="214200" y="142920"/>
              <a:ext cx="50007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노인의 경제활동 참여실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그룹 6"/>
          <p:cNvGrpSpPr/>
          <p:nvPr/>
        </p:nvGrpSpPr>
        <p:grpSpPr>
          <a:xfrm>
            <a:off x="142920" y="357120"/>
            <a:ext cx="8858160" cy="6354720"/>
            <a:chOff x="142920" y="357120"/>
            <a:chExt cx="8858160" cy="6354720"/>
          </a:xfrm>
        </p:grpSpPr>
        <p:sp>
          <p:nvSpPr>
            <p:cNvPr id="524" name="AutoShape 2"/>
            <p:cNvSpPr/>
            <p:nvPr/>
          </p:nvSpPr>
          <p:spPr>
            <a:xfrm>
              <a:off x="214200" y="928440"/>
              <a:ext cx="8786880" cy="3930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5" name="그룹 10"/>
            <p:cNvGrpSpPr/>
            <p:nvPr/>
          </p:nvGrpSpPr>
          <p:grpSpPr>
            <a:xfrm>
              <a:off x="142920" y="357120"/>
              <a:ext cx="8858160" cy="4467240"/>
              <a:chOff x="142920" y="357120"/>
              <a:chExt cx="8858160" cy="4467240"/>
            </a:xfrm>
          </p:grpSpPr>
          <p:sp>
            <p:nvSpPr>
              <p:cNvPr id="526" name="AutoShape 29"/>
              <p:cNvSpPr/>
              <p:nvPr/>
            </p:nvSpPr>
            <p:spPr>
              <a:xfrm>
                <a:off x="142920" y="357120"/>
                <a:ext cx="8572680" cy="500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경제활동 참여실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7" name="Text Box 25"/>
              <p:cNvSpPr/>
              <p:nvPr/>
            </p:nvSpPr>
            <p:spPr>
              <a:xfrm>
                <a:off x="285480" y="981000"/>
                <a:ext cx="8715600" cy="384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참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이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참여 이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은 급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 내용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분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참여 노인의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8.7%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단순노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3.5%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농수산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직 종사자가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2.2%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의 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1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종사상 지위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자영업주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34%)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상용근로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18%)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일용근로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15%)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무급가족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종사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7%)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의 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년기에는 </a:t>
                </a:r>
                <a:r>
                  <a:rPr b="0" lang="en-US" sz="20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second career, bridge job</a:t>
                </a:r>
                <a:r>
                  <a:rPr b="0" lang="ko-KR" sz="20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으로 전직 많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근로수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금근로자 평균급여의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80%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농업종사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노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종사자는 임금근로자 평균 급의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84-87%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정규직 임금차별 존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528" name="Picture 2" descr="C:\DOCUME~1\USER\LOCALS~1\Temp\UNI000009b01cd2.gif"/>
            <p:cNvPicPr/>
            <p:nvPr/>
          </p:nvPicPr>
          <p:blipFill>
            <a:blip r:embed="rId6"/>
            <a:stretch/>
          </p:blipFill>
          <p:spPr>
            <a:xfrm>
              <a:off x="611280" y="4926600"/>
              <a:ext cx="4176360" cy="1785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그림 3" descr="tit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sp>
        <p:nvSpPr>
          <p:cNvPr id="530" name="Rectangle 2"/>
          <p:cNvSpPr/>
          <p:nvPr/>
        </p:nvSpPr>
        <p:spPr>
          <a:xfrm>
            <a:off x="1571760" y="142920"/>
            <a:ext cx="7786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Y강B"/>
              </a:rPr>
              <a:t>3.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은퇴의 과정과 적응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31" name="그룹 11"/>
          <p:cNvGrpSpPr/>
          <p:nvPr/>
        </p:nvGrpSpPr>
        <p:grpSpPr>
          <a:xfrm>
            <a:off x="142920" y="1000080"/>
            <a:ext cx="8858160" cy="4786200"/>
            <a:chOff x="142920" y="1000080"/>
            <a:chExt cx="8858160" cy="4786200"/>
          </a:xfrm>
        </p:grpSpPr>
        <p:sp>
          <p:nvSpPr>
            <p:cNvPr id="532" name="AutoShape 2"/>
            <p:cNvSpPr/>
            <p:nvPr/>
          </p:nvSpPr>
          <p:spPr>
            <a:xfrm>
              <a:off x="142920" y="1715040"/>
              <a:ext cx="8858160" cy="4071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AutoShape 4"/>
            <p:cNvSpPr/>
            <p:nvPr/>
          </p:nvSpPr>
          <p:spPr>
            <a:xfrm>
              <a:off x="357120" y="1000080"/>
              <a:ext cx="47149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은퇴의 제도화 배경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4" name="Text Box 6"/>
            <p:cNvSpPr/>
            <p:nvPr/>
          </p:nvSpPr>
          <p:spPr>
            <a:xfrm>
              <a:off x="285480" y="2001600"/>
              <a:ext cx="8643960" cy="36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통사회에서는 퇴직 무의미</a:t>
              </a: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퇴직제도는 </a:t>
              </a: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기 산업화 이후 도입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경요인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노동력 수요의 감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생산기술과 지식의 급속한 발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생산조직의 관료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노후 소득보장제도의 발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보험 수급자 및 보장수준의 미흡으로</a:t>
              </a: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우리사회에서는 아직  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후소득보장제도의 발전이 퇴직의 제도화 배경요인이 되지 못함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AutoShape 4"/>
          <p:cNvSpPr/>
          <p:nvPr/>
        </p:nvSpPr>
        <p:spPr>
          <a:xfrm>
            <a:off x="285840" y="71280"/>
            <a:ext cx="4357440" cy="428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Y강B"/>
              </a:rPr>
              <a:t>2) </a:t>
            </a:r>
            <a:r>
              <a:rPr b="0" lang="ko-KR" sz="2600" spc="-1" strike="noStrike">
                <a:solidFill>
                  <a:srgbClr val="ffffff"/>
                </a:solidFill>
                <a:latin typeface="HY강B"/>
              </a:rPr>
              <a:t>은퇴와 퇴직의 개념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36" name="그룹 22"/>
          <p:cNvGrpSpPr/>
          <p:nvPr/>
        </p:nvGrpSpPr>
        <p:grpSpPr>
          <a:xfrm>
            <a:off x="285840" y="603360"/>
            <a:ext cx="8643960" cy="4232520"/>
            <a:chOff x="285840" y="603360"/>
            <a:chExt cx="8643960" cy="4232520"/>
          </a:xfrm>
        </p:grpSpPr>
        <p:sp>
          <p:nvSpPr>
            <p:cNvPr id="537" name="AutoShape 2"/>
            <p:cNvSpPr/>
            <p:nvPr/>
          </p:nvSpPr>
          <p:spPr>
            <a:xfrm>
              <a:off x="357120" y="2357280"/>
              <a:ext cx="8572680" cy="2428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8" name="그룹 7"/>
            <p:cNvGrpSpPr/>
            <p:nvPr/>
          </p:nvGrpSpPr>
          <p:grpSpPr>
            <a:xfrm>
              <a:off x="285840" y="603360"/>
              <a:ext cx="8643960" cy="4232520"/>
              <a:chOff x="285840" y="603360"/>
              <a:chExt cx="8643960" cy="4232520"/>
            </a:xfrm>
          </p:grpSpPr>
          <p:sp>
            <p:nvSpPr>
              <p:cNvPr id="539" name="AutoShape 2"/>
              <p:cNvSpPr/>
              <p:nvPr/>
            </p:nvSpPr>
            <p:spPr>
              <a:xfrm>
                <a:off x="357120" y="1071720"/>
                <a:ext cx="8572680" cy="785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0" name="Text Box 6"/>
              <p:cNvSpPr/>
              <p:nvPr/>
            </p:nvSpPr>
            <p:spPr>
              <a:xfrm>
                <a:off x="357120" y="1073160"/>
                <a:ext cx="842976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은퇴는 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work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서 물러나는 것이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은 사망까지 중단되지 않으므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job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나 노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labor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서 물러나는 퇴직의 개념으로 한정해 논의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1" name="직사각형 10"/>
              <p:cNvSpPr/>
              <p:nvPr/>
            </p:nvSpPr>
            <p:spPr>
              <a:xfrm>
                <a:off x="285840" y="603360"/>
                <a:ext cx="40719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은퇴와 퇴직 개념의 범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2" name="직사각형 11"/>
              <p:cNvSpPr/>
              <p:nvPr/>
            </p:nvSpPr>
            <p:spPr>
              <a:xfrm>
                <a:off x="285840" y="1960560"/>
                <a:ext cx="40719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퇴직의 개념정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3" name="Text Box 6"/>
              <p:cNvSpPr/>
              <p:nvPr/>
            </p:nvSpPr>
            <p:spPr>
              <a:xfrm>
                <a:off x="357120" y="2354400"/>
                <a:ext cx="8501400" cy="248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용상태의 직위에서 물러나 그 직위에 관련된 역할수행을 중단하게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되는 현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의 하위영역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event, process, role, phase of life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사건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퇴임식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사회보장급여 서류 제출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업무인수인계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과정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퇴직 전 단계→ 종결단계에 이르는 일련의 단계적 절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역할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은퇴자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퇴직자로서의 역할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(Kimmel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은 지위로서의 퇴직이라 함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생활단계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약 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15-30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년 정도의 생활주기상의 마지막 단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544" name="그룹 16"/>
          <p:cNvGrpSpPr/>
          <p:nvPr/>
        </p:nvGrpSpPr>
        <p:grpSpPr>
          <a:xfrm>
            <a:off x="285840" y="4889520"/>
            <a:ext cx="8715240" cy="1409040"/>
            <a:chOff x="285840" y="4889520"/>
            <a:chExt cx="8715240" cy="1409040"/>
          </a:xfrm>
        </p:grpSpPr>
        <p:sp>
          <p:nvSpPr>
            <p:cNvPr id="545" name="AutoShape 2"/>
            <p:cNvSpPr/>
            <p:nvPr/>
          </p:nvSpPr>
          <p:spPr>
            <a:xfrm>
              <a:off x="357120" y="5286600"/>
              <a:ext cx="8572680" cy="1000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6" name="Text Box 6"/>
            <p:cNvSpPr/>
            <p:nvPr/>
          </p:nvSpPr>
          <p:spPr>
            <a:xfrm>
              <a:off x="357120" y="5229000"/>
              <a:ext cx="864396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난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간 보수를 받는 고용상태에 있지 않은 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퇴직연금을 수급하고 있는 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간 주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5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간 이상 상근으로 고용되지 않은 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7" name="직사각형 19"/>
            <p:cNvSpPr/>
            <p:nvPr/>
          </p:nvSpPr>
          <p:spPr>
            <a:xfrm>
              <a:off x="285840" y="488952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퇴직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(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자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)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의 조작적 정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그룹 12"/>
          <p:cNvGrpSpPr/>
          <p:nvPr/>
        </p:nvGrpSpPr>
        <p:grpSpPr>
          <a:xfrm>
            <a:off x="285840" y="142920"/>
            <a:ext cx="8572320" cy="5857920"/>
            <a:chOff x="285840" y="142920"/>
            <a:chExt cx="8572320" cy="5857920"/>
          </a:xfrm>
        </p:grpSpPr>
        <p:sp>
          <p:nvSpPr>
            <p:cNvPr id="549" name="AutoShape 4"/>
            <p:cNvSpPr/>
            <p:nvPr/>
          </p:nvSpPr>
          <p:spPr>
            <a:xfrm>
              <a:off x="285840" y="142920"/>
              <a:ext cx="45720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퇴직의 과정과 영향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0" name="그룹 7"/>
            <p:cNvGrpSpPr/>
            <p:nvPr/>
          </p:nvGrpSpPr>
          <p:grpSpPr>
            <a:xfrm>
              <a:off x="285840" y="928440"/>
              <a:ext cx="8572320" cy="5072400"/>
              <a:chOff x="285840" y="928440"/>
              <a:chExt cx="8572320" cy="5072400"/>
            </a:xfrm>
          </p:grpSpPr>
          <p:sp>
            <p:nvSpPr>
              <p:cNvPr id="551" name="AutoShape 2"/>
              <p:cNvSpPr/>
              <p:nvPr/>
            </p:nvSpPr>
            <p:spPr>
              <a:xfrm>
                <a:off x="285840" y="1356840"/>
                <a:ext cx="8572320" cy="1357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2" name="Text Box 6"/>
              <p:cNvSpPr/>
              <p:nvPr/>
            </p:nvSpPr>
            <p:spPr>
              <a:xfrm>
                <a:off x="357120" y="1410840"/>
                <a:ext cx="8501040" cy="12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후 예상되는 경제사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연령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동에 대한 가치관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발성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에 대한 헌신과 사명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후 생활목표의 확실성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후의 소득보장 정도 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3" name="직사각형 10"/>
              <p:cNvSpPr/>
              <p:nvPr/>
            </p:nvSpPr>
            <p:spPr>
              <a:xfrm>
                <a:off x="285840" y="928440"/>
                <a:ext cx="5072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퇴직 태도에 영향을 미치는 요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4" name="직사각형 11"/>
              <p:cNvSpPr/>
              <p:nvPr/>
            </p:nvSpPr>
            <p:spPr>
              <a:xfrm>
                <a:off x="285840" y="2889000"/>
                <a:ext cx="40719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퇴직 결정의 영향요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5" name="AutoShape 2"/>
              <p:cNvSpPr/>
              <p:nvPr/>
            </p:nvSpPr>
            <p:spPr>
              <a:xfrm>
                <a:off x="285840" y="3325680"/>
                <a:ext cx="8572320" cy="2675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6" name="Text Box 6"/>
              <p:cNvSpPr/>
              <p:nvPr/>
            </p:nvSpPr>
            <p:spPr>
              <a:xfrm>
                <a:off x="357120" y="3435120"/>
                <a:ext cx="8501040" cy="249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의 공식구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연령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의 퇴직에 대한 태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 경제상태와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상 수입 정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본인의 건강상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 및 교육수준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배우자 유무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책임 정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에 대한 만족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에 대한 태도 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결정과정의 흐름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의 단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밀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휴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지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종결단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1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그룹 8"/>
          <p:cNvGrpSpPr/>
          <p:nvPr/>
        </p:nvGrpSpPr>
        <p:grpSpPr>
          <a:xfrm>
            <a:off x="285840" y="71280"/>
            <a:ext cx="8572320" cy="6429600"/>
            <a:chOff x="285840" y="71280"/>
            <a:chExt cx="8572320" cy="6429600"/>
          </a:xfrm>
        </p:grpSpPr>
        <p:grpSp>
          <p:nvGrpSpPr>
            <p:cNvPr id="558" name="그룹 7"/>
            <p:cNvGrpSpPr/>
            <p:nvPr/>
          </p:nvGrpSpPr>
          <p:grpSpPr>
            <a:xfrm>
              <a:off x="285840" y="71280"/>
              <a:ext cx="8572320" cy="6429600"/>
              <a:chOff x="285840" y="71280"/>
              <a:chExt cx="8572320" cy="6429600"/>
            </a:xfrm>
          </p:grpSpPr>
          <p:sp>
            <p:nvSpPr>
              <p:cNvPr id="559" name="AutoShape 2"/>
              <p:cNvSpPr/>
              <p:nvPr/>
            </p:nvSpPr>
            <p:spPr>
              <a:xfrm>
                <a:off x="285840" y="499680"/>
                <a:ext cx="8572320" cy="2071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0" name="Text Box 6"/>
              <p:cNvSpPr/>
              <p:nvPr/>
            </p:nvSpPr>
            <p:spPr>
              <a:xfrm>
                <a:off x="357120" y="553680"/>
                <a:ext cx="8358120" cy="19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입은 급감하나 지출은 일정 수준 유지 → 경제적 애로 유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은 약화 또는 퇴직전과 유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스트레스 감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관리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활동 참여도가 낮아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소외와 고독의 가능성 높아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정적 자아개념과 자기가치 평가절하 가능성이 높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시간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참여율 감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사회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과 건강상태 따라 참여도 상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성적 역할의 수행도가 높아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직사각형 10"/>
              <p:cNvSpPr/>
              <p:nvPr/>
            </p:nvSpPr>
            <p:spPr>
              <a:xfrm>
                <a:off x="285840" y="7128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퇴직후 생활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2" name="AutoShape 2"/>
              <p:cNvSpPr/>
              <p:nvPr/>
            </p:nvSpPr>
            <p:spPr>
              <a:xfrm>
                <a:off x="285840" y="3286080"/>
                <a:ext cx="8572320" cy="3214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3" name="Text Box 6"/>
              <p:cNvSpPr/>
              <p:nvPr/>
            </p:nvSpPr>
            <p:spPr>
              <a:xfrm>
                <a:off x="357120" y="3286080"/>
                <a:ext cx="8501040" cy="320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이후 생활변화에 대한 인식이 부족할수록 적응 애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유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강제 퇴직일수록 상실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곤란이 크므로 적응 애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전 직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문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무관리직 종사자 적응도 양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수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학력자가 자원 여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취업기회 많아 유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사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호할수록 적응 유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곤층 비자발적 경제활동참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 양호할수록 적응 유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 예비사회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비사회화 수준 높을수록 적응 유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퇴직전 건강유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정적 소득확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와 사회활동 참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관계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조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에 대한 인식전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second life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64" name="AutoShape 4"/>
            <p:cNvSpPr/>
            <p:nvPr/>
          </p:nvSpPr>
          <p:spPr>
            <a:xfrm>
              <a:off x="285840" y="2714400"/>
              <a:ext cx="40719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퇴직에 대한 적응</a:t>
              </a: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그룹 8"/>
          <p:cNvGrpSpPr/>
          <p:nvPr/>
        </p:nvGrpSpPr>
        <p:grpSpPr>
          <a:xfrm>
            <a:off x="285840" y="71280"/>
            <a:ext cx="9072360" cy="6286680"/>
            <a:chOff x="285840" y="71280"/>
            <a:chExt cx="9072360" cy="6286680"/>
          </a:xfrm>
        </p:grpSpPr>
        <p:sp>
          <p:nvSpPr>
            <p:cNvPr id="566" name="Rectangle 2"/>
            <p:cNvSpPr/>
            <p:nvPr/>
          </p:nvSpPr>
          <p:spPr>
            <a:xfrm>
              <a:off x="1571400" y="71280"/>
              <a:ext cx="77868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4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현행 퇴직제도의 현황과 문제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67" name="그룹 1"/>
            <p:cNvGrpSpPr/>
            <p:nvPr/>
          </p:nvGrpSpPr>
          <p:grpSpPr>
            <a:xfrm>
              <a:off x="285840" y="874440"/>
              <a:ext cx="8643960" cy="5483520"/>
              <a:chOff x="285840" y="874440"/>
              <a:chExt cx="8643960" cy="5483520"/>
            </a:xfrm>
          </p:grpSpPr>
          <p:sp>
            <p:nvSpPr>
              <p:cNvPr id="568" name="AutoShape 2"/>
              <p:cNvSpPr/>
              <p:nvPr/>
            </p:nvSpPr>
            <p:spPr>
              <a:xfrm>
                <a:off x="285840" y="1356840"/>
                <a:ext cx="8643960" cy="5001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9" name="AutoShape 4"/>
              <p:cNvSpPr/>
              <p:nvPr/>
            </p:nvSpPr>
            <p:spPr>
              <a:xfrm>
                <a:off x="285840" y="874440"/>
                <a:ext cx="3500280" cy="482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퇴직의 유형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0" name="Text Box 6"/>
              <p:cNvSpPr/>
              <p:nvPr/>
            </p:nvSpPr>
            <p:spPr>
              <a:xfrm>
                <a:off x="500040" y="1544400"/>
                <a:ext cx="8212320" cy="465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1998"/>
                  </a:lnSpc>
                  <a:spcBef>
                    <a:spcPts val="125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의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발적 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본인 의사에 의한 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연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금수급연한이 되어 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자발적 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능력과 관계없이 정년연령에 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125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퇴직제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일정년제 ＋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등정년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단일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급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성에 관계없이 정년연령을 적용하는 퇴직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계급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급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급 상한연령에 도달하면 퇴직하는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종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종별로 각기 다른 정년연령을 적용하는 퇴직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성별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남녀에 따라 각기 다른 정년연령을 적용하는 퇴직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125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계급정년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군대에서 채택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125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별 정년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녀고용평등 및 일 가정 양립 지원에 관한 법률에도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구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음성적 차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1250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급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종정년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업체에서 활용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그룹 15"/>
          <p:cNvGrpSpPr/>
          <p:nvPr/>
        </p:nvGrpSpPr>
        <p:grpSpPr>
          <a:xfrm>
            <a:off x="142920" y="0"/>
            <a:ext cx="8929800" cy="6286680"/>
            <a:chOff x="142920" y="0"/>
            <a:chExt cx="8929800" cy="6286680"/>
          </a:xfrm>
        </p:grpSpPr>
        <p:sp>
          <p:nvSpPr>
            <p:cNvPr id="572" name="AutoShape 2"/>
            <p:cNvSpPr/>
            <p:nvPr/>
          </p:nvSpPr>
          <p:spPr>
            <a:xfrm>
              <a:off x="180720" y="4293360"/>
              <a:ext cx="8749080" cy="778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3" name="AutoShape 2"/>
            <p:cNvSpPr/>
            <p:nvPr/>
          </p:nvSpPr>
          <p:spPr>
            <a:xfrm>
              <a:off x="180720" y="5572440"/>
              <a:ext cx="8749080" cy="714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4" name="AutoShape 2"/>
            <p:cNvSpPr/>
            <p:nvPr/>
          </p:nvSpPr>
          <p:spPr>
            <a:xfrm>
              <a:off x="142920" y="1857240"/>
              <a:ext cx="874908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75" name="그룹 1"/>
            <p:cNvGrpSpPr/>
            <p:nvPr/>
          </p:nvGrpSpPr>
          <p:grpSpPr>
            <a:xfrm>
              <a:off x="142920" y="0"/>
              <a:ext cx="8929800" cy="3624120"/>
              <a:chOff x="142920" y="0"/>
              <a:chExt cx="8929800" cy="3624120"/>
            </a:xfrm>
          </p:grpSpPr>
          <p:sp>
            <p:nvSpPr>
              <p:cNvPr id="576" name="Text Box 25"/>
              <p:cNvSpPr/>
              <p:nvPr/>
            </p:nvSpPr>
            <p:spPr>
              <a:xfrm>
                <a:off x="357120" y="1928880"/>
                <a:ext cx="8644320" cy="169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퇴직의 단일정년제 채택 기업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85%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일정년제 기업 평균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.2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로 지속적 증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3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고령자고용촉진법에서 근로자 정년을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으로 정하도록 의무화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6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부터 단계적 시행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30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 이상 사업장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6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월부터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30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 미만 사업장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월부터 적용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러나 정리해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권고사직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예퇴직 등의 조기퇴직이 지속적으로 확산되고 있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77" name="그룹 30"/>
              <p:cNvGrpSpPr/>
              <p:nvPr/>
            </p:nvGrpSpPr>
            <p:grpSpPr>
              <a:xfrm>
                <a:off x="142920" y="0"/>
                <a:ext cx="8929800" cy="1286280"/>
                <a:chOff x="142920" y="0"/>
                <a:chExt cx="8929800" cy="1286280"/>
              </a:xfrm>
            </p:grpSpPr>
            <p:sp>
              <p:nvSpPr>
                <p:cNvPr id="578" name="AutoShape 2"/>
                <p:cNvSpPr/>
                <p:nvPr/>
              </p:nvSpPr>
              <p:spPr>
                <a:xfrm>
                  <a:off x="142920" y="786240"/>
                  <a:ext cx="8715600" cy="500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79" name="AutoShape 7"/>
                <p:cNvSpPr/>
                <p:nvPr/>
              </p:nvSpPr>
              <p:spPr>
                <a:xfrm>
                  <a:off x="285480" y="0"/>
                  <a:ext cx="4714920" cy="500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6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0" lang="ko-KR" sz="2600" spc="-1" strike="noStrike">
                      <a:solidFill>
                        <a:srgbClr val="ffffff"/>
                      </a:solidFill>
                      <a:latin typeface="HY강B"/>
                    </a:rPr>
                    <a:t>정년퇴직제도의 현상</a:t>
                  </a:r>
                  <a:endParaRPr b="0" lang="en-US" sz="2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80" name="Text Box 25"/>
                <p:cNvSpPr/>
                <p:nvPr/>
              </p:nvSpPr>
              <p:spPr>
                <a:xfrm>
                  <a:off x="509400" y="901800"/>
                  <a:ext cx="8563320" cy="38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buSzPct val="102985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9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9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970</a:t>
                  </a:r>
                  <a:r>
                    <a:rPr b="0" lang="ko-KR" sz="19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년대 산업화 이후 정년퇴직제도 정착</a:t>
                  </a:r>
                  <a:endParaRPr b="0" lang="en-US" sz="19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1" name="AutoShape 29"/>
              <p:cNvSpPr/>
              <p:nvPr/>
            </p:nvSpPr>
            <p:spPr>
              <a:xfrm>
                <a:off x="285480" y="135720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민간기업의 정년퇴직제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82" name="AutoShape 29"/>
            <p:cNvSpPr/>
            <p:nvPr/>
          </p:nvSpPr>
          <p:spPr>
            <a:xfrm>
              <a:off x="142920" y="378648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공공부문 정년퇴직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3" name="AutoShape 29"/>
            <p:cNvSpPr/>
            <p:nvPr/>
          </p:nvSpPr>
          <p:spPr>
            <a:xfrm>
              <a:off x="142920" y="50724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정년연장에 대한 노사정의 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4" name="Text Box 25"/>
            <p:cNvSpPr/>
            <p:nvPr/>
          </p:nvSpPr>
          <p:spPr>
            <a:xfrm>
              <a:off x="357120" y="4321440"/>
              <a:ext cx="8644320" cy="68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무원 정년연령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60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로 통일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찰 및 소방공무원은 계급정년제 보완적 시행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육공무원은 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62(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초중고교사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-65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학교수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5" name="Text Box 25"/>
            <p:cNvSpPr/>
            <p:nvPr/>
          </p:nvSpPr>
          <p:spPr>
            <a:xfrm>
              <a:off x="357120" y="5594760"/>
              <a:ext cx="8606160" cy="68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로자는 정년 연장 찬성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업체는 반대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부는 표면적으로 찬성하지만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청년실업 등의 사회분위기와 기업의 반대요구에 적극적 정년연장 요구 못하고 있음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그룹 18"/>
          <p:cNvGrpSpPr/>
          <p:nvPr/>
        </p:nvGrpSpPr>
        <p:grpSpPr>
          <a:xfrm>
            <a:off x="214200" y="142920"/>
            <a:ext cx="8858520" cy="6286320"/>
            <a:chOff x="214200" y="142920"/>
            <a:chExt cx="8858520" cy="6286320"/>
          </a:xfrm>
        </p:grpSpPr>
        <p:sp>
          <p:nvSpPr>
            <p:cNvPr id="587" name="AutoShape 2"/>
            <p:cNvSpPr/>
            <p:nvPr/>
          </p:nvSpPr>
          <p:spPr>
            <a:xfrm>
              <a:off x="252360" y="1214280"/>
              <a:ext cx="8748720" cy="1500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8" name="그룹 1"/>
            <p:cNvGrpSpPr/>
            <p:nvPr/>
          </p:nvGrpSpPr>
          <p:grpSpPr>
            <a:xfrm>
              <a:off x="214200" y="142920"/>
              <a:ext cx="8787240" cy="2493000"/>
              <a:chOff x="214200" y="142920"/>
              <a:chExt cx="8787240" cy="2493000"/>
            </a:xfrm>
          </p:grpSpPr>
          <p:sp>
            <p:nvSpPr>
              <p:cNvPr id="589" name="Text Box 25"/>
              <p:cNvSpPr/>
              <p:nvPr/>
            </p:nvSpPr>
            <p:spPr>
              <a:xfrm>
                <a:off x="356760" y="1276200"/>
                <a:ext cx="8644680" cy="13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수명은 길어지는 반면 체감하는 은퇴연령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49.5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 정년연령보다 낮은 기현상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삼팔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오정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오륙도 등의 사회적 조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社會的 早老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현상 비유 은어 등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퇴직 확산의 계기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기불황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IMF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리체제 이후 기업체의 구조조정 확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업이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얻는 조기퇴직의 이점 많고 특별한 단점 없음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-14 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0" name="AutoShape 7"/>
              <p:cNvSpPr/>
              <p:nvPr/>
            </p:nvSpPr>
            <p:spPr>
              <a:xfrm>
                <a:off x="214200" y="142920"/>
                <a:ext cx="38577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조기퇴직의 문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1" name="AutoShape 29"/>
              <p:cNvSpPr/>
              <p:nvPr/>
            </p:nvSpPr>
            <p:spPr>
              <a:xfrm>
                <a:off x="214200" y="71424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조기퇴직의 현실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2" name="그룹 17"/>
            <p:cNvGrpSpPr/>
            <p:nvPr/>
          </p:nvGrpSpPr>
          <p:grpSpPr>
            <a:xfrm>
              <a:off x="214200" y="2714400"/>
              <a:ext cx="8858520" cy="3714840"/>
              <a:chOff x="214200" y="2714400"/>
              <a:chExt cx="8858520" cy="3714840"/>
            </a:xfrm>
          </p:grpSpPr>
          <p:sp>
            <p:nvSpPr>
              <p:cNvPr id="593" name="AutoShape 2"/>
              <p:cNvSpPr/>
              <p:nvPr/>
            </p:nvSpPr>
            <p:spPr>
              <a:xfrm>
                <a:off x="252360" y="3214440"/>
                <a:ext cx="8748720" cy="1500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4" name="AutoShape 2"/>
              <p:cNvSpPr/>
              <p:nvPr/>
            </p:nvSpPr>
            <p:spPr>
              <a:xfrm>
                <a:off x="252360" y="5286240"/>
                <a:ext cx="874872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5" name="AutoShape 29"/>
              <p:cNvSpPr/>
              <p:nvPr/>
            </p:nvSpPr>
            <p:spPr>
              <a:xfrm>
                <a:off x="214200" y="271440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조기퇴직으로 인한 문제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6" name="AutoShape 29"/>
              <p:cNvSpPr/>
              <p:nvPr/>
            </p:nvSpPr>
            <p:spPr>
              <a:xfrm>
                <a:off x="214200" y="478620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조기퇴직자의 적응 지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7" name="Text Box 25"/>
              <p:cNvSpPr/>
              <p:nvPr/>
            </p:nvSpPr>
            <p:spPr>
              <a:xfrm>
                <a:off x="356760" y="3273120"/>
                <a:ext cx="8715960" cy="13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퇴직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애로와 중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까지의 긴 시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층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재취업이 필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적이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 노력만으로는 재취업이 어려워 취업 포기자 또는 빈곤층으로 전락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애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갈등 또는 해체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 차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적자원 낭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비용 증가를 초래하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국 기업 경쟁력 약화시킴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8" name="Text Box 25"/>
              <p:cNvSpPr/>
              <p:nvPr/>
            </p:nvSpPr>
            <p:spPr>
              <a:xfrm>
                <a:off x="356760" y="5327640"/>
                <a:ext cx="8430120" cy="102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근로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퇴직을 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, 3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직업전환기로 수용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취업 노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호지지와 결속증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간의 양성적 역할 공유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적 고령화 시스템 구축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년연장정책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 일자리 창출사업 추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7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408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년기의 소득 및 경제생활 실태 파악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09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410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1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Text Box 18"/>
              <p:cNvSpPr/>
              <p:nvPr/>
            </p:nvSpPr>
            <p:spPr>
              <a:xfrm>
                <a:off x="642960" y="212256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415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6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Text Box 18"/>
              <p:cNvSpPr/>
              <p:nvPr/>
            </p:nvSpPr>
            <p:spPr>
              <a:xfrm>
                <a:off x="642960" y="30571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9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420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1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3" name="Text Box 18"/>
              <p:cNvSpPr/>
              <p:nvPr/>
            </p:nvSpPr>
            <p:spPr>
              <a:xfrm>
                <a:off x="642960" y="399528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425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6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8" name="Text Box 18"/>
              <p:cNvSpPr/>
              <p:nvPr/>
            </p:nvSpPr>
            <p:spPr>
              <a:xfrm>
                <a:off x="642960" y="49309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29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년기 일의 의미와 경제활동 실태 파악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은퇴의 과정과 적응에 대한 이해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퇴직제도의 현상과 문제점 이해</a:t>
              </a: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개선방안 모색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경제생활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그룹 15"/>
          <p:cNvGrpSpPr/>
          <p:nvPr/>
        </p:nvGrpSpPr>
        <p:grpSpPr>
          <a:xfrm>
            <a:off x="0" y="5757840"/>
            <a:ext cx="7572240" cy="898560"/>
            <a:chOff x="0" y="5757840"/>
            <a:chExt cx="7572240" cy="898560"/>
          </a:xfrm>
        </p:grpSpPr>
        <p:pic>
          <p:nvPicPr>
            <p:cNvPr id="600" name="Picture 4" descr="C:\DOCUME~1\USER\LOCALS~1\Temp\UNI000006c8818c.gif"/>
            <p:cNvPicPr/>
            <p:nvPr/>
          </p:nvPicPr>
          <p:blipFill>
            <a:blip r:embed="rId1"/>
            <a:stretch/>
          </p:blipFill>
          <p:spPr>
            <a:xfrm>
              <a:off x="0" y="5757840"/>
              <a:ext cx="1000080" cy="8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Rectangle 4"/>
            <p:cNvSpPr/>
            <p:nvPr/>
          </p:nvSpPr>
          <p:spPr>
            <a:xfrm>
              <a:off x="857160" y="6084720"/>
              <a:ext cx="67150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다음 주 강의주제</a:t>
              </a:r>
              <a:r>
                <a:rPr b="0" lang="en-US" sz="23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: </a:t>
              </a:r>
              <a:r>
                <a:rPr b="1" lang="ko-KR" sz="23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노년기의 건강과 케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02" name="그룹 13"/>
          <p:cNvGrpSpPr/>
          <p:nvPr/>
        </p:nvGrpSpPr>
        <p:grpSpPr>
          <a:xfrm>
            <a:off x="285840" y="63360"/>
            <a:ext cx="8715240" cy="5722920"/>
            <a:chOff x="285840" y="63360"/>
            <a:chExt cx="8715240" cy="5722920"/>
          </a:xfrm>
        </p:grpSpPr>
        <p:sp>
          <p:nvSpPr>
            <p:cNvPr id="603" name="AutoShape 2"/>
            <p:cNvSpPr/>
            <p:nvPr/>
          </p:nvSpPr>
          <p:spPr>
            <a:xfrm>
              <a:off x="285840" y="2500200"/>
              <a:ext cx="8715240" cy="3286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4" name="AutoShape 2"/>
            <p:cNvSpPr/>
            <p:nvPr/>
          </p:nvSpPr>
          <p:spPr>
            <a:xfrm>
              <a:off x="285840" y="348840"/>
              <a:ext cx="8715240" cy="1714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5" name="그룹 10"/>
            <p:cNvGrpSpPr/>
            <p:nvPr/>
          </p:nvGrpSpPr>
          <p:grpSpPr>
            <a:xfrm>
              <a:off x="357120" y="63360"/>
              <a:ext cx="8643960" cy="1995840"/>
              <a:chOff x="357120" y="63360"/>
              <a:chExt cx="8643960" cy="1995840"/>
            </a:xfrm>
          </p:grpSpPr>
          <p:sp>
            <p:nvSpPr>
              <p:cNvPr id="606" name="AutoShape 4"/>
              <p:cNvSpPr/>
              <p:nvPr/>
            </p:nvSpPr>
            <p:spPr>
              <a:xfrm>
                <a:off x="357120" y="63360"/>
                <a:ext cx="395928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퇴직제도의 문제점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7" name="Text Box 6"/>
              <p:cNvSpPr/>
              <p:nvPr/>
            </p:nvSpPr>
            <p:spPr>
              <a:xfrm>
                <a:off x="357120" y="563400"/>
                <a:ext cx="8643960" cy="149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연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6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 초반 사회적 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동력 부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성 저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비용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이후 소득보장에 대한 고려 없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생활 애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금재정 부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별적 정년연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 노동권과 생존권 위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등정년 기준 모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후 재고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취업 장치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08" name="그룹 10"/>
            <p:cNvGrpSpPr/>
            <p:nvPr/>
          </p:nvGrpSpPr>
          <p:grpSpPr>
            <a:xfrm>
              <a:off x="357120" y="2143080"/>
              <a:ext cx="8643960" cy="3570480"/>
              <a:chOff x="357120" y="2143080"/>
              <a:chExt cx="8643960" cy="3570480"/>
            </a:xfrm>
          </p:grpSpPr>
          <p:sp>
            <p:nvSpPr>
              <p:cNvPr id="609" name="Text Box 6"/>
              <p:cNvSpPr/>
              <p:nvPr/>
            </p:nvSpPr>
            <p:spPr>
              <a:xfrm>
                <a:off x="357120" y="2714400"/>
                <a:ext cx="8643960" cy="29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년연령 연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령자고용촉진법에 의해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 이상으로 상향 조정되었으나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장기적으로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로 상향 또는 정년제 폐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직종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직급 및 성별 차등제도 개선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타당한 기준 마련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임금구조 개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부분 정년제 도입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임금피크제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년연장형 임금피크제 지원금제도 강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퇴직 후 재고용제도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반일근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격일근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주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 근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-3&amp;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＋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제도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재고용지원금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령자 평생직업능력 개발 촉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준비교육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한국전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중앙공무원교육원 등에서 퇴직 전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년 장단기교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기타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자 가족공동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퇴직자 가족생활 적응지원 프로그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0" name="AutoShape 4"/>
              <p:cNvSpPr/>
              <p:nvPr/>
            </p:nvSpPr>
            <p:spPr>
              <a:xfrm>
                <a:off x="357120" y="2143080"/>
                <a:ext cx="3959280" cy="466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퇴직제도의 개선방안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그룹 10"/>
          <p:cNvGrpSpPr/>
          <p:nvPr/>
        </p:nvGrpSpPr>
        <p:grpSpPr>
          <a:xfrm>
            <a:off x="0" y="0"/>
            <a:ext cx="9144000" cy="6427440"/>
            <a:chOff x="0" y="0"/>
            <a:chExt cx="9144000" cy="6427440"/>
          </a:xfrm>
        </p:grpSpPr>
        <p:sp>
          <p:nvSpPr>
            <p:cNvPr id="435" name="AutoShape 2"/>
            <p:cNvSpPr/>
            <p:nvPr/>
          </p:nvSpPr>
          <p:spPr>
            <a:xfrm>
              <a:off x="180720" y="1285200"/>
              <a:ext cx="8820360" cy="928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2"/>
            <p:cNvSpPr/>
            <p:nvPr/>
          </p:nvSpPr>
          <p:spPr>
            <a:xfrm>
              <a:off x="180720" y="2999520"/>
              <a:ext cx="8820360" cy="3427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3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99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Rectangle 2"/>
            <p:cNvSpPr/>
            <p:nvPr/>
          </p:nvSpPr>
          <p:spPr>
            <a:xfrm>
              <a:off x="1428480" y="14256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ff"/>
                  </a:solidFill>
                  <a:latin typeface="HY강B"/>
                </a:rPr>
                <a:t>1.</a:t>
              </a:r>
              <a:r>
                <a:rPr b="1" lang="ko-KR" sz="31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100" spc="-1" strike="noStrike">
                  <a:solidFill>
                    <a:srgbClr val="ffffff"/>
                  </a:solidFill>
                  <a:latin typeface="HY강B"/>
                </a:rPr>
                <a:t>노년기의 소득과 지출</a:t>
              </a:r>
              <a:endParaRPr b="0" lang="en-US" sz="3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9" name="그룹 10"/>
            <p:cNvGrpSpPr/>
            <p:nvPr/>
          </p:nvGrpSpPr>
          <p:grpSpPr>
            <a:xfrm>
              <a:off x="142560" y="856800"/>
              <a:ext cx="8715600" cy="1269360"/>
              <a:chOff x="142560" y="856800"/>
              <a:chExt cx="8715600" cy="1269360"/>
            </a:xfrm>
          </p:grpSpPr>
          <p:sp>
            <p:nvSpPr>
              <p:cNvPr id="440" name="AutoShape 29"/>
              <p:cNvSpPr/>
              <p:nvPr/>
            </p:nvSpPr>
            <p:spPr>
              <a:xfrm>
                <a:off x="142560" y="85680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년기 안정적 소득 확보의 중요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1" name="Text Box 25"/>
              <p:cNvSpPr/>
              <p:nvPr/>
            </p:nvSpPr>
            <p:spPr>
              <a:xfrm>
                <a:off x="213840" y="1356480"/>
                <a:ext cx="8644320" cy="76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퇴직으로 인한 근로소득의 급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의 노후소득 준비 미흡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득보장제도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성숙으로 경제적 어려움 증가→ 생계와 노후생활 적응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2" name="Text Box 25"/>
            <p:cNvSpPr/>
            <p:nvPr/>
          </p:nvSpPr>
          <p:spPr>
            <a:xfrm>
              <a:off x="285480" y="3029040"/>
              <a:ext cx="8643960" cy="33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동능력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비와 저축패턴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특성에 따라 경제사정 다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활주기에 따른 소득과 지출 변화 추이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소득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: 4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후반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-5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초반에 최고 수준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노년기에는 건강문제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재취업 기회 제한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으로 소득 감소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지출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: 55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세 이후에도 자녀결혼 등으로 인한 가계지출은 이전과 유사하거나 오히려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증가하며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65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세 이후에는 의료비 증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고용노동부 조사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: 4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에 임금소득 최고 수준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5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부터 감소 시작하여 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6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이후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에는 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2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임금소득 수준으로 회귀하는 경향 보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년기에는 소득 격감하나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본생계비 지출 유지 및 의료비 증가로 인해 적자 가계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이나 사회에 대한 경제적 의존 가능성 높아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-1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3" name="AutoShape 7"/>
            <p:cNvSpPr/>
            <p:nvPr/>
          </p:nvSpPr>
          <p:spPr>
            <a:xfrm>
              <a:off x="214200" y="2428920"/>
              <a:ext cx="400032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년기 경제생활 변화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13"/>
          <p:cNvGrpSpPr/>
          <p:nvPr/>
        </p:nvGrpSpPr>
        <p:grpSpPr>
          <a:xfrm>
            <a:off x="142920" y="71280"/>
            <a:ext cx="8896320" cy="6429600"/>
            <a:chOff x="142920" y="71280"/>
            <a:chExt cx="8896320" cy="6429600"/>
          </a:xfrm>
        </p:grpSpPr>
        <p:sp>
          <p:nvSpPr>
            <p:cNvPr id="445" name="AutoShape 2"/>
            <p:cNvSpPr/>
            <p:nvPr/>
          </p:nvSpPr>
          <p:spPr>
            <a:xfrm>
              <a:off x="181080" y="3643200"/>
              <a:ext cx="8820000" cy="2857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AutoShape 2"/>
            <p:cNvSpPr/>
            <p:nvPr/>
          </p:nvSpPr>
          <p:spPr>
            <a:xfrm>
              <a:off x="181080" y="1071720"/>
              <a:ext cx="882000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7" name="그룹 10"/>
            <p:cNvGrpSpPr/>
            <p:nvPr/>
          </p:nvGrpSpPr>
          <p:grpSpPr>
            <a:xfrm>
              <a:off x="142920" y="642960"/>
              <a:ext cx="8896320" cy="2549880"/>
              <a:chOff x="142920" y="642960"/>
              <a:chExt cx="8896320" cy="2549880"/>
            </a:xfrm>
          </p:grpSpPr>
          <p:sp>
            <p:nvSpPr>
              <p:cNvPr id="448" name="AutoShape 29"/>
              <p:cNvSpPr/>
              <p:nvPr/>
            </p:nvSpPr>
            <p:spPr>
              <a:xfrm>
                <a:off x="142920" y="64296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노후 소득보장에 대한 태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9" name="Text Box 25"/>
              <p:cNvSpPr/>
              <p:nvPr/>
            </p:nvSpPr>
            <p:spPr>
              <a:xfrm>
                <a:off x="285480" y="1071360"/>
                <a:ext cx="875376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가 노부모 부양 책임을 지는 전통적 의식이 약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의 부양책임 의식은 낮아지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스스로 노후소득보장을 준비해야 한다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식과 가족과 사회가 공동으로 책임져야 한다는 의식이 높아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연금 급여의 본격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경제활동 참여 의식이 강화됨에 따라 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신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와 사회가 노후소득보장의 책임을 져야 한다는 의식은 지속적으로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할 것으로 예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50" name="그룹 10"/>
            <p:cNvGrpSpPr/>
            <p:nvPr/>
          </p:nvGrpSpPr>
          <p:grpSpPr>
            <a:xfrm>
              <a:off x="142920" y="3214800"/>
              <a:ext cx="8786880" cy="3262320"/>
              <a:chOff x="142920" y="3214800"/>
              <a:chExt cx="8786880" cy="3262320"/>
            </a:xfrm>
          </p:grpSpPr>
          <p:sp>
            <p:nvSpPr>
              <p:cNvPr id="451" name="AutoShape 29"/>
              <p:cNvSpPr/>
              <p:nvPr/>
            </p:nvSpPr>
            <p:spPr>
              <a:xfrm>
                <a:off x="142920" y="3214800"/>
                <a:ext cx="8572680" cy="500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노후 소득보장 준비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2" name="Text Box 25"/>
              <p:cNvSpPr/>
              <p:nvPr/>
            </p:nvSpPr>
            <p:spPr>
              <a:xfrm>
                <a:off x="285480" y="3654360"/>
                <a:ext cx="8644320" cy="28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민간금융기관은 노후생활자금을 과다 추정하는 경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연금연구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노부부의 최소생활비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억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,80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 정도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2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후자금 준비를 못하고 있는 경우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5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특히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세 이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스판매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무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저소득층의 노후준비 정도가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후준비 부족의 원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청년기의 사회진출 시기 지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과 주택마련 비용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승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교육비 및 조세 부담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후준비 인식은 증가하나 실제 준비는 부족하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와 사회의 부담 가중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것으로 예측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53" name="AutoShape 7"/>
            <p:cNvSpPr/>
            <p:nvPr/>
          </p:nvSpPr>
          <p:spPr>
            <a:xfrm>
              <a:off x="214200" y="71280"/>
              <a:ext cx="6286680" cy="500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후 경제생활 보장에 대한 태도와 준비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그룹 10"/>
          <p:cNvGrpSpPr/>
          <p:nvPr/>
        </p:nvGrpSpPr>
        <p:grpSpPr>
          <a:xfrm>
            <a:off x="0" y="71280"/>
            <a:ext cx="9109080" cy="6000840"/>
            <a:chOff x="0" y="71280"/>
            <a:chExt cx="9109080" cy="6000840"/>
          </a:xfrm>
        </p:grpSpPr>
        <p:sp>
          <p:nvSpPr>
            <p:cNvPr id="455" name="AutoShape 2"/>
            <p:cNvSpPr/>
            <p:nvPr/>
          </p:nvSpPr>
          <p:spPr>
            <a:xfrm>
              <a:off x="142560" y="4500720"/>
              <a:ext cx="8858160" cy="1571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AutoShape 2"/>
            <p:cNvSpPr/>
            <p:nvPr/>
          </p:nvSpPr>
          <p:spPr>
            <a:xfrm>
              <a:off x="142560" y="1214280"/>
              <a:ext cx="885816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AutoShape 29"/>
            <p:cNvSpPr/>
            <p:nvPr/>
          </p:nvSpPr>
          <p:spPr>
            <a:xfrm>
              <a:off x="142560" y="714240"/>
              <a:ext cx="8572680" cy="48708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af334e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af334e"/>
                  </a:solidFill>
                  <a:latin typeface="HY강B"/>
                </a:rPr>
                <a:t>소득원과 소득액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Text Box 25"/>
            <p:cNvSpPr/>
            <p:nvPr/>
          </p:nvSpPr>
          <p:spPr>
            <a:xfrm>
              <a:off x="179280" y="1214280"/>
              <a:ext cx="8929800" cy="26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소득원의 유형 분류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로사업소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산소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 이전소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 이전소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소득원별 소득비중 변화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이전소득은 감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산소득은 비중 증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-4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반적인 장년기 이후 소득변화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4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이전소득 증가</a:t>
              </a:r>
              <a:r>
                <a:rPr b="0" lang="en-US" sz="14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4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산소득 감소</a:t>
              </a:r>
              <a:r>
                <a:rPr b="0" lang="en-US" sz="14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와 다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소득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 및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 이전소득원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87-95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로소득원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44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산소득원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5%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가구 및 개인소득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 가구소득은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,0269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 개인수입은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,557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-5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,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차가 크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농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육수준 낮은 노인의 소득이 낮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9" name="그룹 10"/>
            <p:cNvGrpSpPr/>
            <p:nvPr/>
          </p:nvGrpSpPr>
          <p:grpSpPr>
            <a:xfrm>
              <a:off x="0" y="4000320"/>
              <a:ext cx="9072720" cy="2036880"/>
              <a:chOff x="0" y="4000320"/>
              <a:chExt cx="9072720" cy="2036880"/>
            </a:xfrm>
          </p:grpSpPr>
          <p:sp>
            <p:nvSpPr>
              <p:cNvPr id="460" name="AutoShape 29"/>
              <p:cNvSpPr/>
              <p:nvPr/>
            </p:nvSpPr>
            <p:spPr>
              <a:xfrm>
                <a:off x="0" y="4000320"/>
                <a:ext cx="8572680" cy="43956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자산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1" name="Text Box 25"/>
              <p:cNvSpPr/>
              <p:nvPr/>
            </p:nvSpPr>
            <p:spPr>
              <a:xfrm>
                <a:off x="214200" y="4571640"/>
                <a:ext cx="885852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7%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는 부동산자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8%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는 금융자산을 소유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총 자산규모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억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1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산의 대부분이 부동산 자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-6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채가 있는 경우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7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채액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,893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으로 순자산액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억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8,623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62" name="AutoShape 7"/>
            <p:cNvSpPr/>
            <p:nvPr/>
          </p:nvSpPr>
          <p:spPr>
            <a:xfrm>
              <a:off x="214200" y="71280"/>
              <a:ext cx="49291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의 소득과 자산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14"/>
          <p:cNvGrpSpPr/>
          <p:nvPr/>
        </p:nvGrpSpPr>
        <p:grpSpPr>
          <a:xfrm>
            <a:off x="142920" y="71280"/>
            <a:ext cx="8858160" cy="6143760"/>
            <a:chOff x="142920" y="71280"/>
            <a:chExt cx="8858160" cy="6143760"/>
          </a:xfrm>
        </p:grpSpPr>
        <p:sp>
          <p:nvSpPr>
            <p:cNvPr id="464" name="AutoShape 2"/>
            <p:cNvSpPr/>
            <p:nvPr/>
          </p:nvSpPr>
          <p:spPr>
            <a:xfrm>
              <a:off x="142920" y="4429080"/>
              <a:ext cx="8858160" cy="1785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5" name="그룹 13"/>
            <p:cNvGrpSpPr/>
            <p:nvPr/>
          </p:nvGrpSpPr>
          <p:grpSpPr>
            <a:xfrm>
              <a:off x="142920" y="785520"/>
              <a:ext cx="8858160" cy="5421600"/>
              <a:chOff x="142920" y="785520"/>
              <a:chExt cx="8858160" cy="5421600"/>
            </a:xfrm>
          </p:grpSpPr>
          <p:sp>
            <p:nvSpPr>
              <p:cNvPr id="466" name="AutoShape 2"/>
              <p:cNvSpPr/>
              <p:nvPr/>
            </p:nvSpPr>
            <p:spPr>
              <a:xfrm>
                <a:off x="142920" y="1213920"/>
                <a:ext cx="8858160" cy="26434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67" name="그룹 12"/>
              <p:cNvGrpSpPr/>
              <p:nvPr/>
            </p:nvGrpSpPr>
            <p:grpSpPr>
              <a:xfrm>
                <a:off x="142920" y="785520"/>
                <a:ext cx="8715600" cy="3085200"/>
                <a:chOff x="142920" y="785520"/>
                <a:chExt cx="8715600" cy="3085200"/>
              </a:xfrm>
            </p:grpSpPr>
            <p:sp>
              <p:nvSpPr>
                <p:cNvPr id="468" name="AutoShape 29"/>
                <p:cNvSpPr/>
                <p:nvPr/>
              </p:nvSpPr>
              <p:spPr>
                <a:xfrm>
                  <a:off x="142920" y="785520"/>
                  <a:ext cx="8573040" cy="42876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노인가구의 생계수단 및 지출</a:t>
                  </a:r>
                  <a:r>
                    <a:rPr b="0" lang="en-US" sz="2400" spc="-1" strike="noStrike">
                      <a:solidFill>
                        <a:srgbClr val="af334e"/>
                      </a:solidFill>
                      <a:latin typeface="HY강B"/>
                    </a:rPr>
                    <a:t>,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생활비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9" name="Text Box 25"/>
                <p:cNvSpPr/>
                <p:nvPr/>
              </p:nvSpPr>
              <p:spPr>
                <a:xfrm>
                  <a:off x="285480" y="1261800"/>
                  <a:ext cx="8573040" cy="260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활비 마련방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본인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·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 수입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70%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와 친척 보조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8%,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부와 사회단체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2%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도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7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남성노인은 본인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 수입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성노인은 자녀보조의 비중이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연령이 낮을수록 본인 수입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높을수록 자녀 등의 보조 비중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가구의 월소비지출액은 월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47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만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5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천원으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전체가구의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67%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수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식료품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거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료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통비 비중이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상대적으로 높음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8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그룹 10"/>
              <p:cNvGrpSpPr/>
              <p:nvPr/>
            </p:nvGrpSpPr>
            <p:grpSpPr>
              <a:xfrm>
                <a:off x="142920" y="3928680"/>
                <a:ext cx="8715600" cy="2278440"/>
                <a:chOff x="142920" y="3928680"/>
                <a:chExt cx="8715600" cy="2278440"/>
              </a:xfrm>
            </p:grpSpPr>
            <p:sp>
              <p:nvSpPr>
                <p:cNvPr id="471" name="AutoShape 29"/>
                <p:cNvSpPr/>
                <p:nvPr/>
              </p:nvSpPr>
              <p:spPr>
                <a:xfrm>
                  <a:off x="142920" y="3928680"/>
                  <a:ext cx="8573040" cy="50004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노인 개인 지출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2" name="Text Box 25"/>
                <p:cNvSpPr/>
                <p:nvPr/>
              </p:nvSpPr>
              <p:spPr>
                <a:xfrm>
                  <a:off x="285480" y="4436640"/>
                  <a:ext cx="8573040" cy="177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보건의료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조사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문화여가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간병수발비 순으로 지출 금액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  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3-9 </a:t>
                  </a:r>
                  <a:r>
                    <a:rPr b="0" lang="ko-KR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보건의료비 지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성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80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 초반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동거가구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ADL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제한 노인이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문화여가비 지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남성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60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 후반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부가구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ADL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제한 없는 노인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3" name="AutoShape 7"/>
            <p:cNvSpPr/>
            <p:nvPr/>
          </p:nvSpPr>
          <p:spPr>
            <a:xfrm>
              <a:off x="214200" y="71280"/>
              <a:ext cx="35719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소비지출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그룹 12"/>
          <p:cNvGrpSpPr/>
          <p:nvPr/>
        </p:nvGrpSpPr>
        <p:grpSpPr>
          <a:xfrm>
            <a:off x="142920" y="71280"/>
            <a:ext cx="9001080" cy="6309000"/>
            <a:chOff x="142920" y="71280"/>
            <a:chExt cx="9001080" cy="6309000"/>
          </a:xfrm>
        </p:grpSpPr>
        <p:sp>
          <p:nvSpPr>
            <p:cNvPr id="475" name="AutoShape 2"/>
            <p:cNvSpPr/>
            <p:nvPr/>
          </p:nvSpPr>
          <p:spPr>
            <a:xfrm>
              <a:off x="142920" y="3571200"/>
              <a:ext cx="8858520" cy="2809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6" name="그룹 9"/>
            <p:cNvGrpSpPr/>
            <p:nvPr/>
          </p:nvGrpSpPr>
          <p:grpSpPr>
            <a:xfrm>
              <a:off x="142920" y="785520"/>
              <a:ext cx="9001080" cy="5300280"/>
              <a:chOff x="142920" y="785520"/>
              <a:chExt cx="9001080" cy="5300280"/>
            </a:xfrm>
          </p:grpSpPr>
          <p:sp>
            <p:nvSpPr>
              <p:cNvPr id="477" name="AutoShape 2"/>
              <p:cNvSpPr/>
              <p:nvPr/>
            </p:nvSpPr>
            <p:spPr>
              <a:xfrm>
                <a:off x="142920" y="1285200"/>
                <a:ext cx="8858520" cy="1713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78" name="그룹 10"/>
              <p:cNvGrpSpPr/>
              <p:nvPr/>
            </p:nvGrpSpPr>
            <p:grpSpPr>
              <a:xfrm>
                <a:off x="142920" y="785520"/>
                <a:ext cx="9001080" cy="2194560"/>
                <a:chOff x="142920" y="785520"/>
                <a:chExt cx="9001080" cy="2194560"/>
              </a:xfrm>
            </p:grpSpPr>
            <p:sp>
              <p:nvSpPr>
                <p:cNvPr id="479" name="AutoShape 29"/>
                <p:cNvSpPr/>
                <p:nvPr/>
              </p:nvSpPr>
              <p:spPr>
                <a:xfrm>
                  <a:off x="142920" y="785520"/>
                  <a:ext cx="857268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경제생활 유형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0" name="Text Box 25"/>
                <p:cNvSpPr/>
                <p:nvPr/>
              </p:nvSpPr>
              <p:spPr>
                <a:xfrm>
                  <a:off x="285480" y="1285560"/>
                  <a:ext cx="8858520" cy="169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생활 유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립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(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존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생활불가형</a:t>
                  </a:r>
                  <a:r>
                    <a:rPr b="0" lang="en-US" sz="15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5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소득원 기준</a:t>
                  </a:r>
                  <a:r>
                    <a:rPr b="0" lang="en-US" sz="15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5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립형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69%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의존형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8%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와 사회의존형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2%</a:t>
                  </a:r>
                  <a:r>
                    <a:rPr b="0" lang="en-US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7 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향후 자립형과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의존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기초연금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민연금 등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은 증가하는 반면 가족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존형 감소 예상되지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양의무 이행 않는 자녀 비율도 증가 예상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1" name="그룹 10"/>
              <p:cNvGrpSpPr/>
              <p:nvPr/>
            </p:nvGrpSpPr>
            <p:grpSpPr>
              <a:xfrm>
                <a:off x="142920" y="3071880"/>
                <a:ext cx="8858520" cy="3013920"/>
                <a:chOff x="142920" y="3071880"/>
                <a:chExt cx="8858520" cy="3013920"/>
              </a:xfrm>
            </p:grpSpPr>
            <p:sp>
              <p:nvSpPr>
                <p:cNvPr id="482" name="AutoShape 29"/>
                <p:cNvSpPr/>
                <p:nvPr/>
              </p:nvSpPr>
              <p:spPr>
                <a:xfrm>
                  <a:off x="142920" y="3071880"/>
                  <a:ext cx="8573040" cy="50004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경제생활 만족도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3" name="Text Box 25"/>
                <p:cNvSpPr/>
                <p:nvPr/>
              </p:nvSpPr>
              <p:spPr>
                <a:xfrm>
                  <a:off x="285480" y="3573000"/>
                  <a:ext cx="8715960" cy="251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601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의 경제생활 수준은 점차 개선될 것으로 예측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spcBef>
                      <a:spcPts val="1199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절대 빈곤계층은 감소보다는 일정 수준 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66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세 이상의 상대빈곤율은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43.4%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OECD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 중 그 비율이 가장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국민기초생활보장 노인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: 2020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년 노인인구의 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5.2%(43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만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9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천여명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으로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,2010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년에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비해 수급인원 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4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만 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7,900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명 증가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10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관적 경제상태 평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만족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37%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불만족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20%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 및 소비생활 만족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만족하는 노인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0-17%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수준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11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4" name="AutoShape 7"/>
            <p:cNvSpPr/>
            <p:nvPr/>
          </p:nvSpPr>
          <p:spPr>
            <a:xfrm>
              <a:off x="214200" y="71280"/>
              <a:ext cx="4714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경제생활 유형과 만족도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그룹 7"/>
          <p:cNvGrpSpPr/>
          <p:nvPr/>
        </p:nvGrpSpPr>
        <p:grpSpPr>
          <a:xfrm>
            <a:off x="0" y="0"/>
            <a:ext cx="9144000" cy="6286680"/>
            <a:chOff x="0" y="0"/>
            <a:chExt cx="9144000" cy="6286680"/>
          </a:xfrm>
        </p:grpSpPr>
        <p:pic>
          <p:nvPicPr>
            <p:cNvPr id="48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Rectangle 2"/>
            <p:cNvSpPr/>
            <p:nvPr/>
          </p:nvSpPr>
          <p:spPr>
            <a:xfrm>
              <a:off x="1143000" y="71280"/>
              <a:ext cx="7786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노년기의 일의 의미와 경제활동 실태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88" name="그룹 30"/>
            <p:cNvGrpSpPr/>
            <p:nvPr/>
          </p:nvGrpSpPr>
          <p:grpSpPr>
            <a:xfrm>
              <a:off x="71280" y="785880"/>
              <a:ext cx="9001440" cy="5500800"/>
              <a:chOff x="71280" y="785880"/>
              <a:chExt cx="9001440" cy="5500800"/>
            </a:xfrm>
          </p:grpSpPr>
          <p:sp>
            <p:nvSpPr>
              <p:cNvPr id="489" name="AutoShape 2"/>
              <p:cNvSpPr/>
              <p:nvPr/>
            </p:nvSpPr>
            <p:spPr>
              <a:xfrm>
                <a:off x="71280" y="1143000"/>
                <a:ext cx="9001440" cy="5143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AutoShape 7"/>
              <p:cNvSpPr/>
              <p:nvPr/>
            </p:nvSpPr>
            <p:spPr>
              <a:xfrm>
                <a:off x="285480" y="785880"/>
                <a:ext cx="350064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일</a:t>
                </a: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(work)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의 개념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1" name="Text Box 25"/>
              <p:cNvSpPr/>
              <p:nvPr/>
            </p:nvSpPr>
            <p:spPr>
              <a:xfrm>
                <a:off x="223560" y="1341360"/>
                <a:ext cx="8849160" cy="48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적이고 육체적인 경제 활동 뿐 아니라 비공식적 도움이나 무급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자원봉사형태로 사회에 기여하는 제반 생산적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광의의 개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생산적 활동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productive activity)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와 동일한 의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협의의 개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육체적인 유급의 산업노동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labor)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으로 국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인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학생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로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인 등을 제외한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5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의 자 중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자와 실업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통계청 기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취업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주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시간 이상의 임금소득자＋주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18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시간 이상 가족종사자＋일시휴직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실업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지난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주간 구직활동을 한 자로 일자리가 주어지면 즉시 취업가능한 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부통계나 노년학계의 관점을 볼 때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ork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‘경제활동에 참여하여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과 사회에 필요한 재화와 서비스를 생산하는 활동’으로 규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적 활동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급의 경제활동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급 봉사활동의 사회기여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그룹 12"/>
          <p:cNvGrpSpPr/>
          <p:nvPr/>
        </p:nvGrpSpPr>
        <p:grpSpPr>
          <a:xfrm>
            <a:off x="142920" y="71280"/>
            <a:ext cx="8858160" cy="6000840"/>
            <a:chOff x="142920" y="71280"/>
            <a:chExt cx="8858160" cy="6000840"/>
          </a:xfrm>
        </p:grpSpPr>
        <p:sp>
          <p:nvSpPr>
            <p:cNvPr id="493" name="AutoShape 2"/>
            <p:cNvSpPr/>
            <p:nvPr/>
          </p:nvSpPr>
          <p:spPr>
            <a:xfrm>
              <a:off x="142920" y="3571920"/>
              <a:ext cx="8858160" cy="2500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4" name="그룹 9"/>
            <p:cNvGrpSpPr/>
            <p:nvPr/>
          </p:nvGrpSpPr>
          <p:grpSpPr>
            <a:xfrm>
              <a:off x="142920" y="785520"/>
              <a:ext cx="8858160" cy="5238000"/>
              <a:chOff x="142920" y="785520"/>
              <a:chExt cx="8858160" cy="5238000"/>
            </a:xfrm>
          </p:grpSpPr>
          <p:sp>
            <p:nvSpPr>
              <p:cNvPr id="495" name="AutoShape 2"/>
              <p:cNvSpPr/>
              <p:nvPr/>
            </p:nvSpPr>
            <p:spPr>
              <a:xfrm>
                <a:off x="142920" y="1285560"/>
                <a:ext cx="8858160" cy="1714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96" name="그룹 10"/>
              <p:cNvGrpSpPr/>
              <p:nvPr/>
            </p:nvGrpSpPr>
            <p:grpSpPr>
              <a:xfrm>
                <a:off x="142920" y="785520"/>
                <a:ext cx="8715600" cy="2228400"/>
                <a:chOff x="142920" y="785520"/>
                <a:chExt cx="8715600" cy="2228400"/>
              </a:xfrm>
            </p:grpSpPr>
            <p:sp>
              <p:nvSpPr>
                <p:cNvPr id="497" name="AutoShape 29"/>
                <p:cNvSpPr/>
                <p:nvPr/>
              </p:nvSpPr>
              <p:spPr>
                <a:xfrm>
                  <a:off x="142920" y="785520"/>
                  <a:ext cx="857304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일의 기능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98" name="Text Box 25"/>
                <p:cNvSpPr/>
                <p:nvPr/>
              </p:nvSpPr>
              <p:spPr>
                <a:xfrm>
                  <a:off x="285480" y="1356840"/>
                  <a:ext cx="8573040" cy="165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계 유지에 필요한 재화나 서비스의 생산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관계망 유지 및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지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역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권력의 획득과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도덕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성원으로서의 도덕적 책임 이행 기회 제공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서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아정체감 및 유용감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존감 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서적 만족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9" name="그룹 10"/>
              <p:cNvGrpSpPr/>
              <p:nvPr/>
            </p:nvGrpSpPr>
            <p:grpSpPr>
              <a:xfrm>
                <a:off x="142920" y="3071520"/>
                <a:ext cx="8858160" cy="2952000"/>
                <a:chOff x="142920" y="3071520"/>
                <a:chExt cx="8858160" cy="2952000"/>
              </a:xfrm>
            </p:grpSpPr>
            <p:sp>
              <p:nvSpPr>
                <p:cNvPr id="500" name="AutoShape 29"/>
                <p:cNvSpPr/>
                <p:nvPr/>
              </p:nvSpPr>
              <p:spPr>
                <a:xfrm>
                  <a:off x="142920" y="3071520"/>
                  <a:ext cx="8572680" cy="50004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일의 효과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01" name="Text Box 25"/>
                <p:cNvSpPr/>
                <p:nvPr/>
              </p:nvSpPr>
              <p:spPr>
                <a:xfrm>
                  <a:off x="285480" y="3642840"/>
                  <a:ext cx="8715600" cy="23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미시적 차원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원 확보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기 유용감과 정체감 부여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관계망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 및 정신건강 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일 또는 여가기회 부여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거시적 차원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에 대한 인식개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생산성 제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보장비용 절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하지만  노년기에는 건강 약화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산지식과 기술의 낙후 등으로 노동시장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에서 탈락하게 되어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상실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지위와 역할상실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관계 축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가와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문화활동 기회 축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삶의 만족도 저하 등의 심리사회적 문제 경험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2" name="AutoShape 7"/>
            <p:cNvSpPr/>
            <p:nvPr/>
          </p:nvSpPr>
          <p:spPr>
            <a:xfrm>
              <a:off x="214200" y="71280"/>
              <a:ext cx="3929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 일의 기능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0:54:10Z</dcterms:modified>
  <cp:revision>300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