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BA88-102E-4FF1-9A0E-CECCACD9A0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BC89-633F-4498-A8CD-56CD7267BF5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C8DB-F5D5-49A1-8B0B-8CC752CCB48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5292-E9ED-4CD3-B8A4-EA596E14B23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37E8-6169-4D13-BCF2-D79D6BA4712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27FE7-9F0E-4120-8B4F-1D0E5162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96F2E-AE3E-4EC1-8594-8DA096DF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469F9-EEA0-45A5-9CA1-A87DF251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1EC6E-50F0-4DDB-985B-AFDE73D3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02F17-E459-45D7-B556-FDD87A1B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7B3CA-2969-4751-A8F9-92273B7E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31C6E-BDD7-41F9-AA33-8F7691B4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AE5EF-D889-4DCD-A9C5-C38B1781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08897-E45F-41C5-BAAF-19626E7A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4007E-5741-427E-80B3-EF3A83DF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48DB5-BE67-4E3A-AC56-6E1EE11E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ED794-E3EC-4F12-BCC4-3A494ABF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3EF88A-8EA3-4257-AE09-6BAC5F85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6723BA-3896-465E-8D76-93DD379F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EC9C81-D2FC-4455-A8FF-DBBB4128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0990CC-71B3-4F7E-8EDB-C565B832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0D692-B670-446A-ACFE-D03D196F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162AEF-5D12-4CF3-BDCD-D69FA8EE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2B35A-211C-4EA0-9C9D-1F00FBE8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FFA86C-2B90-4F81-B478-336C0291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1FFBE-AF5F-4258-8C76-E778ED24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0CD51A-2675-4D57-A6D6-C5C49D11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E44F30-05D1-4A74-8867-0CE60A2E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0E9EC6-3497-4A1E-AC08-75AE2202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97A8-9445-40B0-AE5B-80725D0C599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D81E-D300-466E-9549-F814E33C30D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D0E5-F0C1-4BCC-BC1E-D3680B1AF6D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8BAD-697B-4124-8C0E-593FF282A47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7ACE-D026-493B-93E7-00FB5BBC7B2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F165-F523-49FC-BB67-E13BB039E23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3909-F1C6-460D-9A7D-7AFC3335FAA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A28F-3C94-48DC-939B-76B5C827894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FFE4-383A-4847-8E2B-3D72D8D33F1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97D7-2B36-429A-8435-B212CA9C8EB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0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250920" y="71280"/>
            <a:ext cx="8643960" cy="6286680"/>
            <a:chOff x="2509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2509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3222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3222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3222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3222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3222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3222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250920" y="71280"/>
            <a:ext cx="8748720" cy="6286680"/>
            <a:chOff x="2509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2509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2509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3222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2509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3222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2509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하게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 또는 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 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여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 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의 사회 기능과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클라이언트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기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클라이언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30280" y="42480"/>
                <a:ext cx="6499440" cy="902160"/>
                <a:chOff x="1430280" y="42480"/>
                <a:chExt cx="649944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30280" y="42480"/>
                  <a:ext cx="649944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케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 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사례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36360" y="0"/>
            <a:ext cx="9144000" cy="6429240"/>
            <a:chOff x="3636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3636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320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214920" y="1849320"/>
              <a:ext cx="8606160" cy="4579920"/>
              <a:chOff x="21492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21492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286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미충족과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42948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176760" y="928440"/>
              <a:ext cx="8643960" cy="714240"/>
              <a:chOff x="17676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17676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248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179280" y="142920"/>
            <a:ext cx="8715600" cy="6357960"/>
            <a:chOff x="179280" y="142920"/>
            <a:chExt cx="8715600" cy="6357960"/>
          </a:xfrm>
        </p:grpSpPr>
        <p:sp>
          <p:nvSpPr>
            <p:cNvPr id="602" name="AutoShape 2"/>
            <p:cNvSpPr/>
            <p:nvPr/>
          </p:nvSpPr>
          <p:spPr>
            <a:xfrm>
              <a:off x="179280" y="500040"/>
              <a:ext cx="871560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250560" y="142920"/>
              <a:ext cx="8501400" cy="3530880"/>
              <a:chOff x="250560" y="142920"/>
              <a:chExt cx="850140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25056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250560" y="642960"/>
                <a:ext cx="850140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179280" y="414360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250560" y="3786120"/>
              <a:ext cx="8287200" cy="2627280"/>
              <a:chOff x="250560" y="3786120"/>
              <a:chExt cx="8287200" cy="262728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250560" y="3786120"/>
                <a:ext cx="468036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321840" y="4357800"/>
                <a:ext cx="821592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250920" y="71280"/>
            <a:ext cx="8643960" cy="6286680"/>
            <a:chOff x="2509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2509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3222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4651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3222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3222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4651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 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3222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179280" y="142920"/>
            <a:ext cx="8715600" cy="6000480"/>
            <a:chOff x="179280" y="142920"/>
            <a:chExt cx="8715600" cy="6000480"/>
          </a:xfrm>
        </p:grpSpPr>
        <p:sp>
          <p:nvSpPr>
            <p:cNvPr id="619" name="AutoShape 2"/>
            <p:cNvSpPr/>
            <p:nvPr/>
          </p:nvSpPr>
          <p:spPr>
            <a:xfrm>
              <a:off x="179280" y="428400"/>
              <a:ext cx="871560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250560" y="142920"/>
              <a:ext cx="8501400" cy="2593440"/>
              <a:chOff x="250560" y="142920"/>
              <a:chExt cx="850140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25056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250560" y="642960"/>
                <a:ext cx="850140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250560" y="2746440"/>
              <a:ext cx="850140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접근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250560" y="4797720"/>
              <a:ext cx="850140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카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의 비대면 상담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으로 인한 제한이 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2:02:16Z</dcterms:modified>
  <cp:revision>33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