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DB2E2-F9CC-4DAE-B0EE-BA7BFAEE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46CEC-96DC-4745-BF4B-F9CE67C1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52377-F4FF-4FE1-9418-4B49556D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04212-8CC0-4DA1-8CE9-86DD6A7B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E4DB4-D441-4894-B469-5A39883C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2A8E8-58DD-4946-9C86-C00BFA3B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811E1-272F-4F8D-9804-6474DD31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B8627-60DE-488D-B092-2D01E4F7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0CCA2-B0A4-4126-AFD7-C63AFA2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64B94-907D-449E-9FFE-967C79F6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A6470-189C-4D2E-ADAE-80D7BBFD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786E2-1AB6-49D0-9DAE-2AD108C8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CD9FF-34A5-462C-A8BF-6E632134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ACDCC-57C7-49A8-BB8C-072C04DE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F07DD-BB93-4C19-AD57-2A3A54F5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290B7-821F-4C89-BBE0-BE62DC6E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85391-35F7-4ECF-BFDA-528D4EC1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FA738-4060-41BE-B6AE-DA4A6C98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2D9E1-CE90-4214-9D9C-651C4371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89AC1-1ED7-4815-ADAC-AAC5EF43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2DEFC-2FBF-426C-8AE2-A0E538F2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88F5B-D0F4-4FDA-BE62-14F5C215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1E4DD-9E57-40DB-A0C9-1CEE7C88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16D0B-9029-4DDB-BDC9-180B84F4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F338-A9C0-4F66-B41D-1E24BC1422C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9B92-600F-40C5-9C68-8DBE11C0992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D6AA-4EAD-42BD-932C-52C44307E44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AA38-72EA-48E4-81E5-A2C500DEF02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A430-09C4-46AD-B0F0-141D6DCD907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DCCD-76E2-46C0-BCFA-6ACAD063CB9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49D2-B649-4079-B2FD-C8E72F9A7B1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4EDD-0928-4A13-BFE1-AB7BBC3932D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Picture 2" descr="C:\DOCUME~1\USER\LOCALS~1\Temp\UNI00000c2870a4.gif"/>
          <p:cNvPicPr/>
          <p:nvPr/>
        </p:nvPicPr>
        <p:blipFill>
          <a:blip r:embed="rId2"/>
          <a:stretch/>
        </p:blipFill>
        <p:spPr>
          <a:xfrm>
            <a:off x="755640" y="1628640"/>
            <a:ext cx="78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24" name="직사각형 37" descr=""/>
          <p:cNvPicPr/>
          <p:nvPr/>
        </p:nvPicPr>
        <p:blipFill>
          <a:blip r:embed="rId2"/>
          <a:stretch/>
        </p:blipFill>
        <p:spPr>
          <a:xfrm>
            <a:off x="212760" y="1731960"/>
            <a:ext cx="87296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821800" cy="5776200"/>
            <a:chOff x="214200" y="357120"/>
            <a:chExt cx="8821800" cy="577620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882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</a:t>
              </a:r>
              <a:r>
                <a:rPr b="1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활주기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족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친척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자살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독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별과 애도 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87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r>
                  <a:rPr b="1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2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0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22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2448000" y="571680"/>
            <a:ext cx="424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4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5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고서 양식은 별도 사전 공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40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1:11Z</dcterms:modified>
  <cp:revision>18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